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ECA1-C34C-4D16-A5F7-8DAE0780B99C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C18-3CBF-4CD1-A869-83DA961C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971-75E3-4173-B83B-0D83A5E6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C67-C3C6-429D-AD75-6B026B59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C0E-F83D-49E5-81CF-88B7E91B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7B3E-7537-4A8E-8574-BAF55AA8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6A37-5084-4030-B4AE-55F7694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6F0-FDD4-4CE0-BBD2-062C9553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B680-41B2-4E36-B026-EFC71A7A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257-8773-4C90-95DF-0D38E630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47EE-6A3B-4AEB-81BB-20C406EA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B5DA-44AF-47C7-8862-990E3DE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857-A46C-4D25-84B8-4062A0F0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A0E-62F4-4B70-84E7-7F8EE3BD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E7B9-228A-46CC-9D5D-619B3C24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7208-550F-4ECC-8BB2-7A1ADA7E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EA8-C33F-49D9-9158-97CACFB8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CD28-8A3C-44F2-95B6-4F06B7371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9DD-BF38-41C6-AD9F-87761ABB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A60D-1D6B-462D-B547-53881D74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286-B292-4053-833F-588FE9FB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4E9-64CC-473C-AB62-ACE9E0A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7FAD-9C20-4682-B36E-D3B0EA51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F4F5-2799-4ED3-BCD2-849CF6E9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345-665A-48C7-A4CC-166E79E7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2566-D843-49A5-BC4E-9D58C8D91E2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1FB7-27B2-4973-B1F8-28FCAB0565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mailto:schwarzjv@seznam.cz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2003-04/5.prednaska/indpravidla2_0.doc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– 23.2.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6/2007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udenti denního stu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23.2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2.3. cvič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6.3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23.3. cvič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6.4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3.4. cvičení - individuálně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27.4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4.5. cvič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8.5. závěrečná hodina, te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00000" y="1447920"/>
            <a:ext cx="8244000" cy="26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udenti kombinovaného stud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9.3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30.3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20.4. e-learning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1.5. přednáš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8.5. závěrečná hodina, te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povinné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 nepovinný úko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(informace o získaných bodech zasílejte na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schwarzjv@seznam.cz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do předmětu uveďte „puzzle“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lovina studentů s nižším počtem bodů – doplňkový úko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7-02-26T05:38:59Z</dcterms:modified>
  <cp:revision>106</cp:revision>
  <dc:subject/>
  <dc:title>Selekční jazyky</dc:title>
</cp:coreProperties>
</file>