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188-E092-4E81-9BEA-0DAB37A1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039-33D0-4E9D-9809-C254DDAB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F82-1BA2-4994-B713-68055CCF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4F2-61B0-4BD5-A343-A8E47A8F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C0E5-1145-4A1E-94A6-35F57A15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C6F4-73C7-438E-89C7-97BBD17C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D737-72B8-4D9A-A553-A6442AD9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B47A-693B-426F-A173-EC6AE0F2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A15-7204-470D-9C0A-DCA1D109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36FB-BB61-4AE4-BBC8-161838F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880C-2EE5-409B-8B5A-3D5C623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32E-41B8-4FD4-9C93-578325AE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AB8C-D674-4205-A288-70CC14B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0075-2AD3-46E9-8543-4D7D7B8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E61E-43B4-45B6-AFDB-D8356E45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D51-D7AC-46E4-9175-6AE137D9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F298-EF48-4AE3-978D-8811AF7D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685-881A-49AA-9159-41B0877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AAA-8B29-4BD6-A922-1321B631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A80-5388-4A54-9C3D-CB2D0B1B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BF1-DF2C-4C30-8F06-8299A9E5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480-BA1F-462D-8BCC-C2902515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FD5-D1EA-421C-A34F-BC91A29B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0EB-D82B-4D1E-9661-C224016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62E7-0368-447D-8FF4-5B557FAEF9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644-8525-4A91-A89F-F0F5945EB4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18.4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ECF-30A4-4825-9DB6-51A875E093C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72B-FFE3-4643-9941-F499347FCDF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86A-0B11-4B37-87B8-7C0F79BD983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9F2-E0D9-4733-AC9D-BC3E7854531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74F-8923-4001-B908-80EF5C37C9E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E54-2DB0-466C-A5A4-57D072C0F0E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20F-A623-435E-9846-BBC5F7D710E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EE6-9745-401B-820A-E7A34C29F86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C04-8283-4823-AB75-0E2C50758D8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01A-E744-4373-A1BF-1E45A27C2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779-A685-4528-97E4-89827E2C31D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834-7291-4A01-A798-2FAFE796F9B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5EC-E70D-4B95-9EB6-106C38B660C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C7D-537C-4B05-A0A4-3B9C78A5F7A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D5D-13AB-4DEF-8763-E0C77735051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733-C788-4FDE-AF53-1BFA2FB683B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2FD-D8DA-4B8D-B53D-56C442F9E9E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F8A-B7B7-43E6-9ABC-7411B59281F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32D-89DC-43F2-BF94-9A10F4455D8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471-74D3-4682-9D0D-A8410437D8A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754-44E7-4A07-8099-774BF98AB8CA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B04-06A8-4F68-A5C8-EE4D11EAD27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4FB-BF5A-4497-9500-A0B141688C3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7C2-8080-42AB-8B8E-9ADE0BF76626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649-F4C7-4344-9381-CABBECA8BEED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507-3377-4FA2-AEB8-26941D3DE18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1F8-FFAE-44BC-91A3-5BFF8E0D678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4B0-10E7-4D39-A573-C3C76413C24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73C-FA48-4116-91CD-DAAE9241F6B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9C8-AD78-4433-BB1E-B57078B7809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4-17T21:02:02Z</dcterms:modified>
  <cp:revision>223</cp:revision>
  <dc:subject/>
  <dc:title>Selekční jazyky</dc:title>
</cp:coreProperties>
</file>