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B4A-44DB-4645-96E6-425012DA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EDA-C2F8-408F-BCFB-62231D87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63B-984B-445C-BD37-BBC68D45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62B-1BB5-4CFD-B111-3DE876C7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5F0E-A75C-4BB1-AE00-5549F087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3FC4-6969-4001-B40B-744BA4D7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7909-DDD7-452B-A1B3-B9FA2981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C005-F31E-4D5C-B30E-1FD3A8C9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D652-1044-441B-B70E-E5DB08C8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A9BB-19C5-4B45-94E6-27AF957C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5996-96EB-4CE3-BCE3-21E43CF2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030-AEC6-4B67-9C55-7247CD6F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4519-B296-4C54-93A0-CECD5C35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C4E6-3F30-4600-8045-16D0D2AB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26F2-97A2-42BA-BC10-9097C87B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18D4-108C-4AEC-A26D-995FFCE1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53F2-2C5D-45F8-AE3A-EB52B9A4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E08-E379-4BFB-9038-EB1F3FF9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590-0ABF-4AA0-B8F6-2AFDF4D4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B40-3D25-4F7F-B5C3-009F98A9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EB7-F48E-44CF-9AC7-F1CC053F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D81-6515-4D93-BCC5-34C68D47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431-7068-4292-B8F2-BFBC38A5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F06-D14E-4D77-B04F-8060A276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EAA8-935F-4811-9861-CF401695AE1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C991-FF4E-423D-BD24-5EC9DD58B27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library.dialog.com/bluesheets/html/bl0391.html#BI" TargetMode="External"/><Relationship Id="rId4" Type="http://schemas.openxmlformats.org/officeDocument/2006/relationships/hyperlink" Target="http://library.dialog.com/bluesheets/html/bl0391.html#BI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library.dialog.com/bluesheets/html/bl0002.html#BI" TargetMode="External"/><Relationship Id="rId7" Type="http://schemas.openxmlformats.org/officeDocument/2006/relationships/hyperlink" Target="http://www.eric.ed.gov/" TargetMode="External"/><Relationship Id="rId8" Type="http://schemas.openxmlformats.org/officeDocument/2006/relationships/hyperlink" Target="http://library.dialog.com/bluesheets/html/bl0439.html#BI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hyperlink" Target="http://www.obchodnirejstrik.cz/" TargetMode="External"/><Relationship Id="rId7" Type="http://schemas.openxmlformats.org/officeDocument/2006/relationships/hyperlink" Target="http://www.metacrawler.com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006.html" TargetMode="External"/><Relationship Id="rId3" Type="http://schemas.openxmlformats.org/officeDocument/2006/relationships/hyperlink" Target="http://xxx.lanl.gov/" TargetMode="External"/><Relationship Id="rId4" Type="http://schemas.openxmlformats.org/officeDocument/2006/relationships/hyperlink" Target="http://xxx.lanl.gov/" TargetMode="External"/><Relationship Id="rId5" Type="http://schemas.openxmlformats.org/officeDocument/2006/relationships/hyperlink" Target="http://xxx.lanl.gov/" TargetMode="External"/><Relationship Id="rId6" Type="http://schemas.openxmlformats.org/officeDocument/2006/relationships/hyperlink" Target="http://www.ulrichsweb.com/ulrichsweb/" TargetMode="External"/><Relationship Id="rId7" Type="http://schemas.openxmlformats.org/officeDocument/2006/relationships/hyperlink" Target="http://www.wipo.int/classifications/fulltext/new_ipc/index.htm" TargetMode="External"/><Relationship Id="rId8" Type="http://schemas.openxmlformats.org/officeDocument/2006/relationships/hyperlink" Target="http://patents1.ic.gc.ca/intro-e.html" TargetMode="External"/><Relationship Id="rId9" Type="http://schemas.openxmlformats.org/officeDocument/2006/relationships/hyperlink" Target="http://patents1.ic.gc.ca/intro-e.html" TargetMode="External"/><Relationship Id="rId10" Type="http://schemas.openxmlformats.org/officeDocument/2006/relationships/hyperlink" Target="http://patents1.ic.gc.ca/intro-e.html" TargetMode="External"/><Relationship Id="rId11" Type="http://schemas.openxmlformats.org/officeDocument/2006/relationships/hyperlink" Target="http://darwin.inf.fu-berlin.de/work/DissSearch" TargetMode="External"/><Relationship Id="rId12" Type="http://schemas.openxmlformats.org/officeDocument/2006/relationships/hyperlink" Target="http://darwin.inf.fu-berlin.de/work/DissSearch" TargetMode="External"/><Relationship Id="rId13" Type="http://schemas.openxmlformats.org/officeDocument/2006/relationships/hyperlink" Target="http://darwin.inf.fu-berlin.de/work/DissSearch" TargetMode="External"/><Relationship Id="rId14" Type="http://schemas.openxmlformats.org/officeDocument/2006/relationships/hyperlink" Target="http://darwin.inf.fu-berlin.de/work/DissSearch" TargetMode="External"/><Relationship Id="rId15" Type="http://schemas.openxmlformats.org/officeDocument/2006/relationships/hyperlink" Target="http://wwwlib.umi.com/dissertations/search" TargetMode="External"/><Relationship Id="rId16" Type="http://schemas.openxmlformats.org/officeDocument/2006/relationships/hyperlink" Target="http://wwwlib.umi.com/dissertations/search" TargetMode="External"/><Relationship Id="rId17" Type="http://schemas.openxmlformats.org/officeDocument/2006/relationships/hyperlink" Target="http://wwwlib.umi.com/dissertations/search" TargetMode="External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4 – 18.4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CB4-FB49-49D7-8433-0B9088486ED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EFB-986D-4A1C-86D8-F63FFD26EBFA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C56-CCAE-4C31-AA65-A79E82367C6A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36C-E34D-4CA3-9B83-03D2E9E766DF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224-E3B5-4978-8E80-91BF782D8D7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CA3-2B43-4FE7-B61B-6B7A43B127E9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 a harmonizace SJ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informačních zdrojů v elektronické podob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sekundární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přejímaných bbg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mysl a 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měna inform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spora práce, času a lidských zdroj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nadnění věcného přístupu k dokumentům a informací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CBB-4094-4DA0-A2C6-C04E33D1AC2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orové zaměření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ruktura řízeného slovník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L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postkoordinace/preko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9B6-171E-4341-8CCC-DCC1E611049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andardizace S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lexi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řevzetí tezauru nebo jeho čás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MDT-výběr znak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definice vztahů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morf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ravidla pro tvorbu hesel LCS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yntax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4BE-DDF9-4825-8662-25DBBD7F642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edpoklady 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2 úko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esej – 18. červ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test – 16. květ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dy (puzzle) – 15. květ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eznam čísel získaných puzzle zaslat na schwarzjv@seznam.cz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F1E-B5F7-4EAF-A6ED-4DA5ADF2B0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andardizace formá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apř. UNIMARC/Autor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ěcné aut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stitu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FLA Classification and Indexing 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merican Society of Index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CA7-1EB7-4524-AEF4-09750FB129FE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pojitelnost SJ a potažmo 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y harmoniz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abilit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tibil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g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upné sbližování dvou nebo více systém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kord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tvoření převodníku mezi dvěma nebo více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lexikální jednotk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pojmu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9FC-3DC9-4323-8020-EC092F44038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– mapování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stejný typ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koordinovaný SJ 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ost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ekoordinovaný SJ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re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ednosměrný nebo obousměrný přev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o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opojovací SJ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ou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56A-5FDF-4DCC-8A1C-E58FA1B180F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- mapování SJ</a:t>
            </a:r>
            <a:br>
              <a:rPr sz="4400"/>
            </a:b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Příkla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LJ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LCSH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Konspekt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MD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Projekt ELV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Eurovoc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Pol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pojm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UMLS Metathesaur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AE3-5B14-46C9-8365-427DDCAEBFDB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zinárodní harmonizace a integ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armonizace řízených slovníků a 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ícejazyčné teza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SN ISO 5964 (ČSN 01 017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grovoc (12), Eurovoc (18 ofic.), Me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 vícejazyčné tezau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zykové verze předmětových hes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C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540-1288-4C49-8CFD-E53E6F5B010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ingvistické problémy (překlad/převo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ruktu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kompati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% kompatibilita (+nedeskriptory a poznámk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y tezauru pro lokální potřeb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správy a údrž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ložitější proces aktual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mplementace tezauru do AI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W pro správu tezaur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42F-A9FB-4D19-8393-B107DBDBB17E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us jazy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ejný sta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minantní jazyk/sekundární jazy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prostředkující jazy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85E-DA76-46FE-9329-0A3ED91074B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klad/převod tezau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chozí jazyk – jazyk, ze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azyk překladu – jazyk, do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terlingvistické a intralingvistické probl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íklad (PSH, řada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rávo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329-1C52-4B80-804E-D8DF7EF6F400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ekvivalence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ásteč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rmín/více termín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58B-52B2-4250-8E7B-99B89CB5E16C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physic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Physi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477-C0B0-4123-B40E-5C9F64B3157C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J: me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Gede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6DC-57D5-4D06-A286-35BD374FC4F9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Wissenschaf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sc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82B-A38A-420C-8B42-5C1A9BEE896E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fu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2895120" y="19051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arbura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ombusti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9EA-9C3E-498C-BB8D-40BD653F3440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digital divi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J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igitální propas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9A3-F471-4651-B062-402D8B925D89}" type="slidenum">
              <a:t>34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D2F-09A6-413A-8682-C8A3D1E436D0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5F4-445C-413F-83F9-27E12D17C8F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913-E83A-49C7-917A-2598AEA1C3BD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8B4-BAC3-478A-B772-9FA126676D84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JIB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Obchodní rejstří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vs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D5C-2351-4B7D-87BE-E4DDFF7854DD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TIS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e-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rin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zinárodní patentové třídění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; db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Canadian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 Patent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Databas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Digitale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Dissertationen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 der FU Berlin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ProQues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 Digital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7"/>
              </a:rPr>
              <a:t>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AC44-6FE2-4159-95EF-CEABA47FE5E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8-04-17T21:02:02Z</dcterms:modified>
  <cp:revision>223</cp:revision>
  <dc:subject/>
  <dc:title>Selekční jazyky</dc:title>
</cp:coreProperties>
</file>