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BC6-E94B-48BD-AA7A-CADC212E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9F5-4791-4F22-BEC5-060EAA87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50A-7197-4AC0-8640-F70B8929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CC72-4BB7-4B63-9326-5C2A8F30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CC0B-5E96-4F49-91BC-21A13748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73E5-3238-4B7F-B287-98095182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7A61-9ADD-45AC-B432-4C1742E8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B8E7-68DB-469B-9412-5F8DC280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B471-CE9D-476E-A016-B6D49891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ECBB-5844-41DE-9389-E8C2B697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6982-30E9-4C99-A690-2994BCDA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493-E037-485C-BC4B-12A4150E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B5DA-1D9D-42B8-831C-3480465E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23DF-1FA6-420E-AF05-654CB658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21A8-01EF-4283-947B-ED0C4476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EDC6-6DC9-4362-A342-477CAFA9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BF36-ABB2-4E5B-ADC7-D6F9E879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B0C-1792-4FFD-BBB3-C504CAAE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6C0-8C49-474E-AC7D-360D5E0D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C91D-C0CD-496D-A079-2668B64D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56FE-8CA1-4A35-9A2F-3E211BEF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272-859B-4576-9F6A-74B45593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E4F-B791-4538-AE34-4EABC217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C545-874A-4BD4-91A5-F29E430D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C743-76EA-47B9-B6F1-CE1CDB5F3B4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42D9-39DD-4E0F-B099-21F26C0D573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f.stk.cz/cgi-bin/dflex/CZE/STK/FIND2" TargetMode="External"/><Relationship Id="rId3" Type="http://schemas.openxmlformats.org/officeDocument/2006/relationships/hyperlink" Target="http://www.obchodnirejstrik.cz/" TargetMode="External"/><Relationship Id="rId4" Type="http://schemas.openxmlformats.org/officeDocument/2006/relationships/hyperlink" Target="http://df.stk.cz/cgi-bin/dflex/CZE/STK/BROWSE" TargetMode="External"/><Relationship Id="rId5" Type="http://schemas.openxmlformats.org/officeDocument/2006/relationships/hyperlink" Target="http://www.psp.cz/cgi-bin/win/sqw/ev/evquery.sqw" TargetMode="External"/><Relationship Id="rId6" Type="http://schemas.openxmlformats.org/officeDocument/2006/relationships/hyperlink" Target="http://aip.nkp.cz/mdt/" TargetMode="External"/><Relationship Id="rId7" Type="http://schemas.openxmlformats.org/officeDocument/2006/relationships/hyperlink" Target="http://www.czso.cz/csu/edicniplan.nsf/p/0216-03" TargetMode="External"/><Relationship Id="rId8" Type="http://schemas.openxmlformats.org/officeDocument/2006/relationships/hyperlink" Target="http://www.census.gov/epcd/www/naics.html" TargetMode="External"/><Relationship Id="rId9" Type="http://schemas.openxmlformats.org/officeDocument/2006/relationships/hyperlink" Target="http://www.medigrid.cz/mleko/index.do;jsessionid=DC5FA8A54556DD11EC4E5551471CBFCE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391.html#BI" TargetMode="External"/><Relationship Id="rId3" Type="http://schemas.openxmlformats.org/officeDocument/2006/relationships/hyperlink" Target="http://library.dialog.com/bluesheets/html/bl0391.html#BI" TargetMode="External"/><Relationship Id="rId4" Type="http://schemas.openxmlformats.org/officeDocument/2006/relationships/hyperlink" Target="http://library.dialog.com/bluesheets/html/bl0391.html#BI" TargetMode="External"/><Relationship Id="rId5" Type="http://schemas.openxmlformats.org/officeDocument/2006/relationships/hyperlink" Target="http://www4.infotrieve.com/newmedline/adv_search.asp" TargetMode="External"/><Relationship Id="rId6" Type="http://schemas.openxmlformats.org/officeDocument/2006/relationships/hyperlink" Target="http://library.dialog.com/bluesheets/html/bl0002.html#BI" TargetMode="External"/><Relationship Id="rId7" Type="http://schemas.openxmlformats.org/officeDocument/2006/relationships/hyperlink" Target="http://www.eric.ed.gov/" TargetMode="External"/><Relationship Id="rId8" Type="http://schemas.openxmlformats.org/officeDocument/2006/relationships/hyperlink" Target="http://library.dialog.com/bluesheets/html/bl0439.html#BI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rtalstm.cz/" TargetMode="External"/><Relationship Id="rId3" Type="http://schemas.openxmlformats.org/officeDocument/2006/relationships/hyperlink" Target="http://www.jib.cz/" TargetMode="External"/><Relationship Id="rId4" Type="http://schemas.openxmlformats.org/officeDocument/2006/relationships/hyperlink" Target="http://www.scirus.com/" TargetMode="External"/><Relationship Id="rId5" Type="http://schemas.openxmlformats.org/officeDocument/2006/relationships/hyperlink" Target="http://www.metacrawler.com/" TargetMode="External"/><Relationship Id="rId6" Type="http://schemas.openxmlformats.org/officeDocument/2006/relationships/hyperlink" Target="http://www.obchodnirejstrik.cz/" TargetMode="External"/><Relationship Id="rId7" Type="http://schemas.openxmlformats.org/officeDocument/2006/relationships/hyperlink" Target="http://www.metacrawler.com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006.html" TargetMode="External"/><Relationship Id="rId3" Type="http://schemas.openxmlformats.org/officeDocument/2006/relationships/hyperlink" Target="http://xxx.lanl.gov/" TargetMode="External"/><Relationship Id="rId4" Type="http://schemas.openxmlformats.org/officeDocument/2006/relationships/hyperlink" Target="http://xxx.lanl.gov/" TargetMode="External"/><Relationship Id="rId5" Type="http://schemas.openxmlformats.org/officeDocument/2006/relationships/hyperlink" Target="http://xxx.lanl.gov/" TargetMode="External"/><Relationship Id="rId6" Type="http://schemas.openxmlformats.org/officeDocument/2006/relationships/hyperlink" Target="http://www.ulrichsweb.com/ulrichsweb/" TargetMode="External"/><Relationship Id="rId7" Type="http://schemas.openxmlformats.org/officeDocument/2006/relationships/hyperlink" Target="http://www.wipo.int/classifications/fulltext/new_ipc/index.htm" TargetMode="External"/><Relationship Id="rId8" Type="http://schemas.openxmlformats.org/officeDocument/2006/relationships/hyperlink" Target="http://patents1.ic.gc.ca/intro-e.html" TargetMode="External"/><Relationship Id="rId9" Type="http://schemas.openxmlformats.org/officeDocument/2006/relationships/hyperlink" Target="http://patents1.ic.gc.ca/intro-e.html" TargetMode="External"/><Relationship Id="rId10" Type="http://schemas.openxmlformats.org/officeDocument/2006/relationships/hyperlink" Target="http://patents1.ic.gc.ca/intro-e.html" TargetMode="External"/><Relationship Id="rId11" Type="http://schemas.openxmlformats.org/officeDocument/2006/relationships/hyperlink" Target="http://darwin.inf.fu-berlin.de/work/DissSearch" TargetMode="External"/><Relationship Id="rId12" Type="http://schemas.openxmlformats.org/officeDocument/2006/relationships/hyperlink" Target="http://darwin.inf.fu-berlin.de/work/DissSearch" TargetMode="External"/><Relationship Id="rId13" Type="http://schemas.openxmlformats.org/officeDocument/2006/relationships/hyperlink" Target="http://darwin.inf.fu-berlin.de/work/DissSearch" TargetMode="External"/><Relationship Id="rId14" Type="http://schemas.openxmlformats.org/officeDocument/2006/relationships/hyperlink" Target="http://darwin.inf.fu-berlin.de/work/DissSearch" TargetMode="External"/><Relationship Id="rId15" Type="http://schemas.openxmlformats.org/officeDocument/2006/relationships/hyperlink" Target="http://wwwlib.umi.com/dissertations/search" TargetMode="External"/><Relationship Id="rId16" Type="http://schemas.openxmlformats.org/officeDocument/2006/relationships/hyperlink" Target="http://wwwlib.umi.com/dissertations/search" TargetMode="External"/><Relationship Id="rId17" Type="http://schemas.openxmlformats.org/officeDocument/2006/relationships/hyperlink" Target="http://wwwlib.umi.com/dissertations/search" TargetMode="External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4 – 18.4.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sah datové základny informační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al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řed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implementace inf. technologi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žádn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dekvát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konní pracovníc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ert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22A-A815-47C8-9AE8-0FE707A60FD9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skytované služb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rientované na dokumenty vs na inform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otazy na formální vs věcné charakteristiky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soce odborný uživatel (expe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dborný uživatel (profesioná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odborný uživatel (lai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21C4-7D03-47B3-A40F-A8F235392ECF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poklady úspěšného věcného vyhledávání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obsahem informačního zdr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C867-D267-41DF-9659-24BD26DD702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ý postup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á formulace dotazu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v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„nástřel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vhodné rešeršní strate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rostoucí per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oseká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neúspěšném vyhledávání přeformulování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užití SOD konkrétních dokumentů pro úpravu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2B4-5A33-46BB-A7BB-C67563F78B9D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rostoucí perly 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vod? AND česk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česk? and kriz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(česk? OR čech?) AND („krizový management“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 OR flood? OR 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  <a:ea typeface="Arial"/>
              </a:rPr>
              <a:t>627.51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</a:rPr>
              <a:t>+627.53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AND (česk? OR čech? OR morav? OR czech? OR tschech?) AND ((kriz? AND (řízen? OR managem? OR situac?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999-4EA6-4F0A-AB54-19287B43A53B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osekávání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jader? OR atom?) AND (elektrár? OR zařízen?) AND ?bezpečn? AND franc? AND (1986 OR 1987 OR 1988 OR 1989) AND (výzkum? OR techni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6 OR 1987 OR 1988 OR 1989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? OR 200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422B-AFD2-4159-AD6F-0B2E43E9D3FD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 a harmonizace SJ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informačních zdrojů v elektronické podob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sekundárních dokument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přejímaných bbg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zvoj digitálních knihoven a online služeb ve vícejazyčném prostřed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mysl a 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měna inform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spora práce, času a lidských zdroj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usnadnění věcného přístupu k dokumentům a informací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0596-7711-4613-98E5-55899EFA3733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orové zaměření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ruktura řízeného slovník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L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postkoordinace/preko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F52-0EEC-49B8-B5AC-8BD97D8EDCD6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andardizace S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lexi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řevzetí tezauru nebo jeho čás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0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MDT-výběr znak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definice vztahů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morf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ravidla pro tvorbu hesel LCS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yntax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indexační pravidla nebo standardizace metod obsahové analýz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ISO 5963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A89-E9EC-4A1C-B4E0-010E267C7297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ředpoklady klasifik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2 úkol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esej – 18. červ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test – 16. květ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dy (puzzle) – 15. květ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eznam čísel získaných puzzle zaslat na schwarzjv@seznam.cz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3D53-CE3D-4C0A-A2E0-A0FE6A38D2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andardizace formá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apř. UNIMARC/Autor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ěcné autor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stitu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FLA Classification and Indexing S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merican Society of Index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2D1-9E53-4347-982C-1D768B546D9A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pojitelnost SJ a potažmo 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y harmoniz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mpabilit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ímého propojení (výstupy jednoho systému lze použít přímo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tibil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evoditelnosti (výstupy jednoho systému lze po zpracování použít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g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upné sbližování dvou nebo více systém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kord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tvoření převodníku mezi dvěma nebo více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lexikální jednotk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pojmu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7E35-7A8F-46F2-9DF0-2747129D4DD7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– mapování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stejný typ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koordinovaný SJ 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ost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ekoordinovaný SJ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re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ednosměrný nebo obousměrný přev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dno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opojovací SJ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ou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63C-22E2-400E-9562-916DD57C4800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- mapování SJ</a:t>
            </a:r>
            <a:br>
              <a:rPr sz="4400"/>
            </a:b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Příklad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LJ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LCSH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Konspekt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MD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Projekt ELV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Eurovoc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Pol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pojmu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UMLS Metathesauru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055-4068-4F7F-87B3-58E43BD4E62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zinárodní harmonizace a integr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armonizace řízených slovníků a 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opojování informačních systémů (např. paralelní vyhledáván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žnost indexace a vyhledávání v jazyce, který je zpracovateli/uživateli nejbližš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or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ícejazyčné teza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SN ISO 5964 (ČSN 01 017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grovoc (12), Eurovoc (18 ofic.), Me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 vícejazyčné tezau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zykové verze předmětových hes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C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DC9B-B635-4FD9-A870-ADC6AEEAD472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ingvistické problémy (překlad/převo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ruktu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kompati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% kompatibilita (+nedeskriptory a poznámk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ravy tezauru pro lokální potřeb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správy a údržb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ložitější proces aktual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mplementace tezauru do AIK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W pro správu tezaur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302A-C5E9-47EB-A3FE-25D1E8C5101A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us jazy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ejný stat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aždý deskriptor v jednom jazyce má ekvivalenty v jiných jazycíc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minantní jazyk/sekundární jazy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inantní jazyk – hlavní jazyk, ve kterém jsou vyjádřeny všechny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kundární jazyk – vedlejší jazyk, mohou chybět některé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prostředkující jazy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azyk používaný používaný pro indexaci a vyhledávání a pro výměnu dat (mapování, paralelní vyhledávání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2778-D605-4E88-BA20-2BEAEDDAF190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7391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klad/převod tezau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chozí jazyk – jazyk, ze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azyk překladu – jazyk, do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pětná vazba – změna LJ výchozího jazyka na základě problémů v jazyce překlad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terlingvistické a intralingvistické probl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řekladu/převodu nutno zohlednit nejen samotný výraz, ale i jeho zařazení do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80160" indent="-1828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říklad (PSH, řada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právo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áv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 veřejn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átní občanství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bezdomovectví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ublic 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tionalit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homelessness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-&gt;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stateless perso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6400800"/>
            <a:ext cx="1447920" cy="0"/>
          </a:xfrm>
          <a:prstGeom prst="line">
            <a:avLst/>
          </a:prstGeom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2EF8-353D-4BB6-9FA7-4F039A82C619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ekvivalence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ásteč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rmín/více termín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389-2219-48D1-A5B9-EC0D5EA2CC8A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physic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Physi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8839080" cy="15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fyzik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8346-74A2-424C-9038-A5D93D93C0DE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J: men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Gedec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jídelní líste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>
            <a:off x="0" y="160020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209-C773-4F22-9A22-16D5F7AF453F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Wissenschaf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sc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věd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0" y="1752480"/>
            <a:ext cx="9144000" cy="1105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6A4-6FAF-448C-9747-6345F1EFF411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fu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2895120" y="190512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arbura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ombusti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6248520" y="19051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?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pal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top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2"/>
          <a:stretch/>
        </p:blipFill>
        <p:spPr>
          <a:xfrm>
            <a:off x="0" y="1828800"/>
            <a:ext cx="9144000" cy="115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CFD-440F-41F6-AD2B-96F80CF9115A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digital divi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3400" y="1828800"/>
            <a:ext cx="4495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J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igitální propas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51A8-90CF-40C7-A91A-21C8C1487743}" type="slidenum">
              <a:t>34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ý postup při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alýza požadavk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entifikace informačních zdroj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novení rešeršní strategie a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ulace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pracování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yhodnocení/interpretace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20B1-C385-43E3-978D-E15E7F4409EF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ruhy vyhledávání podle typu hledané inform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ntifikační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známe některé údaje o hledaném dokumentu nebo polož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bchodní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(neznáme požadovaný dokument, hledáme určité tém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yhledávací výrazy: věcné údaje - klíčová slova z názvu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edmětová hesla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, deskriptory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tezauru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 z textu dokumentu (redukovaného nebo plného), klasifikac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MDT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OKEČ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NAICS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)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é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chceme zjistit konkrétní informac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údaje podle obsahu a struktury zdroj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Medigri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849B-5F93-425B-8CA7-9D627EB7003A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čel a zaměření informačního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formační okru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ěda, technika, výzkum, standard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eřejná (státní) správa, samospráva, legisl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formační zdroje v oblasti kultury, umění, zába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smédia, zpravodajství, informace „všedního dne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chivní informační fond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ždý z uvedených okruhů má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nároky na rozsah i hloubku věcného zprac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možnosti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D5D-D602-4938-B9BA-7D8277274DAA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velmi schematické rozděl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chemi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Beilstein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Reaction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lékařství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dlin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technika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INSPE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lečenské a humanitní vědy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ERI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AH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A94-62F5-4FAA-AEDD-9D0C3C07F1F5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ibliografická (dokumentografická) databáze/katalo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droj typu adresář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azdr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tabázová centra (funkce CrossSearch, CrossFile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katalogu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metavyhledávačů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JIB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iru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vrchový“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lubok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eep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resp. „neviditeln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inivisibl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Obchodní rejstří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vs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E3FD-E240-44A0-A536-160DEDA051ED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dokumentů/informací v informačním zdroji (záznamy n. plné text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zkumné zprávy, technické zprá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NTIS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e-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rint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 archiv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ferenční materiály (preprinty aj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asopis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lrich‘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lán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at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zinárodní patentové třídění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; db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Canadian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 Patent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Databas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Japan Patent Offi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r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International Classification for Standard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ademické práce (dizertace, habili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Digitale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Dissertationen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 der FU Berlin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ProQuest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6"/>
              </a:rPr>
              <a:t> Digital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7"/>
              </a:rPr>
              <a:t>Disserta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n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F09D-33EC-4EBB-A63C-AFB44E06AC52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8-04-17T21:02:02Z</dcterms:modified>
  <cp:revision>223</cp:revision>
  <dc:subject/>
  <dc:title>Selekční jazyky</dc:title>
</cp:coreProperties>
</file>