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C77A2-376E-4A4A-9187-B2F3D10B2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2AA3C-4704-4A1D-87DE-421F44578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FB83E-FC1E-47D0-9370-48FE832E2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8B3A-C1FA-4773-BE01-5985057A4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04B4F-E63B-482E-BC39-59C80CF43B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F2897-DF04-4E61-BDC8-8EFC1BB10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601CA-D9AD-4DA8-9A0B-717BD21E0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B3272-6C1D-4FFE-8CFB-F83037EB6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C13C7-E06A-4906-A748-19C6FFE0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F84F-27FB-4967-A10D-E3FA3E94D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A0CBE-D621-45E2-BD56-0B66BF2DB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F42-BA65-476D-A1A2-90C992C8A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EF674-1EFF-47EB-859D-97DE0976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FE78D-7BBB-4464-924B-C48836E02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6807C-3A0F-4500-968E-46351E040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EF3A6-3C76-46F7-B2B7-E91BA2FE4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4B08C-DD31-4549-BEAD-FD6F2C66E3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E2C3-B326-4EE2-8213-44D136AED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B249-EC8B-4FF8-B000-E59D969CF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1082-9D54-4BB0-BC4E-63E05EAC7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E5C4-791A-4AE2-9526-037F6F07A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09FA5-CD26-47F3-8BAD-AE1569628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3519-ED45-4D97-A06B-BDD94B90F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1688-9FBD-425C-95A8-DB3AE4EAD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5E05F-FDB7-4935-9E30-CDC8EFC222EB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F8956-6DCA-404C-9412-1216118477FC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4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4.jpeg"/><Relationship Id="rId8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5.jpeg"/><Relationship Id="rId9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6.jpeg"/><Relationship Id="rId13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df.stk.cz/cgi-bin/dflex/CZE/STK/FIND2" TargetMode="External"/><Relationship Id="rId3" Type="http://schemas.openxmlformats.org/officeDocument/2006/relationships/hyperlink" Target="http://www.obchodnirejstrik.cz/" TargetMode="External"/><Relationship Id="rId4" Type="http://schemas.openxmlformats.org/officeDocument/2006/relationships/hyperlink" Target="http://df.stk.cz/cgi-bin/dflex/CZE/STK/BROWSE" TargetMode="External"/><Relationship Id="rId5" Type="http://schemas.openxmlformats.org/officeDocument/2006/relationships/hyperlink" Target="http://www.psp.cz/cgi-bin/win/sqw/ev/evquery.sqw" TargetMode="External"/><Relationship Id="rId6" Type="http://schemas.openxmlformats.org/officeDocument/2006/relationships/hyperlink" Target="http://aip.nkp.cz/mdt/" TargetMode="External"/><Relationship Id="rId7" Type="http://schemas.openxmlformats.org/officeDocument/2006/relationships/hyperlink" Target="http://www.czso.cz/csu/edicniplan.nsf/p/0216-03" TargetMode="External"/><Relationship Id="rId8" Type="http://schemas.openxmlformats.org/officeDocument/2006/relationships/hyperlink" Target="http://www.census.gov/epcd/www/naics.html" TargetMode="External"/><Relationship Id="rId9" Type="http://schemas.openxmlformats.org/officeDocument/2006/relationships/hyperlink" Target="http://www.medigrid.cz/mleko/index.do;jsessionid=DC5FA8A54556DD11EC4E5551471CBFCE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391.html#BI" TargetMode="External"/><Relationship Id="rId3" Type="http://schemas.openxmlformats.org/officeDocument/2006/relationships/hyperlink" Target="http://library.dialog.com/bluesheets/html/bl0391.html#BI" TargetMode="External"/><Relationship Id="rId4" Type="http://schemas.openxmlformats.org/officeDocument/2006/relationships/hyperlink" Target="http://library.dialog.com/bluesheets/html/bl0391.html#BI" TargetMode="External"/><Relationship Id="rId5" Type="http://schemas.openxmlformats.org/officeDocument/2006/relationships/hyperlink" Target="http://www4.infotrieve.com/newmedline/adv_search.asp" TargetMode="External"/><Relationship Id="rId6" Type="http://schemas.openxmlformats.org/officeDocument/2006/relationships/hyperlink" Target="http://library.dialog.com/bluesheets/html/bl0002.html#BI" TargetMode="External"/><Relationship Id="rId7" Type="http://schemas.openxmlformats.org/officeDocument/2006/relationships/hyperlink" Target="http://www.eric.ed.gov/" TargetMode="External"/><Relationship Id="rId8" Type="http://schemas.openxmlformats.org/officeDocument/2006/relationships/hyperlink" Target="http://library.dialog.com/bluesheets/html/bl0439.html#BI" TargetMode="External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portalstm.cz/" TargetMode="External"/><Relationship Id="rId3" Type="http://schemas.openxmlformats.org/officeDocument/2006/relationships/hyperlink" Target="http://www.jib.cz/" TargetMode="External"/><Relationship Id="rId4" Type="http://schemas.openxmlformats.org/officeDocument/2006/relationships/hyperlink" Target="http://www.scirus.com/" TargetMode="External"/><Relationship Id="rId5" Type="http://schemas.openxmlformats.org/officeDocument/2006/relationships/hyperlink" Target="http://www.metacrawler.com/" TargetMode="External"/><Relationship Id="rId6" Type="http://schemas.openxmlformats.org/officeDocument/2006/relationships/hyperlink" Target="http://www.obchodnirejstrik.cz/" TargetMode="External"/><Relationship Id="rId7" Type="http://schemas.openxmlformats.org/officeDocument/2006/relationships/hyperlink" Target="http://www.metacrawler.com/" TargetMode="External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library.dialog.com/bluesheets/html/bl0006.html" TargetMode="External"/><Relationship Id="rId3" Type="http://schemas.openxmlformats.org/officeDocument/2006/relationships/hyperlink" Target="http://xxx.lanl.gov/" TargetMode="External"/><Relationship Id="rId4" Type="http://schemas.openxmlformats.org/officeDocument/2006/relationships/hyperlink" Target="http://xxx.lanl.gov/" TargetMode="External"/><Relationship Id="rId5" Type="http://schemas.openxmlformats.org/officeDocument/2006/relationships/hyperlink" Target="http://xxx.lanl.gov/" TargetMode="External"/><Relationship Id="rId6" Type="http://schemas.openxmlformats.org/officeDocument/2006/relationships/hyperlink" Target="http://www.ulrichsweb.com/ulrichsweb/" TargetMode="External"/><Relationship Id="rId7" Type="http://schemas.openxmlformats.org/officeDocument/2006/relationships/hyperlink" Target="http://www.wipo.int/classifications/fulltext/new_ipc/index.htm" TargetMode="External"/><Relationship Id="rId8" Type="http://schemas.openxmlformats.org/officeDocument/2006/relationships/hyperlink" Target="http://patents1.ic.gc.ca/intro-e.html" TargetMode="External"/><Relationship Id="rId9" Type="http://schemas.openxmlformats.org/officeDocument/2006/relationships/hyperlink" Target="http://patents1.ic.gc.ca/intro-e.html" TargetMode="External"/><Relationship Id="rId10" Type="http://schemas.openxmlformats.org/officeDocument/2006/relationships/hyperlink" Target="http://patents1.ic.gc.ca/intro-e.html" TargetMode="External"/><Relationship Id="rId11" Type="http://schemas.openxmlformats.org/officeDocument/2006/relationships/hyperlink" Target="http://darwin.inf.fu-berlin.de/work/DissSearch" TargetMode="External"/><Relationship Id="rId12" Type="http://schemas.openxmlformats.org/officeDocument/2006/relationships/hyperlink" Target="http://darwin.inf.fu-berlin.de/work/DissSearch" TargetMode="External"/><Relationship Id="rId13" Type="http://schemas.openxmlformats.org/officeDocument/2006/relationships/hyperlink" Target="http://darwin.inf.fu-berlin.de/work/DissSearch" TargetMode="External"/><Relationship Id="rId14" Type="http://schemas.openxmlformats.org/officeDocument/2006/relationships/hyperlink" Target="http://darwin.inf.fu-berlin.de/work/DissSearch" TargetMode="External"/><Relationship Id="rId15" Type="http://schemas.openxmlformats.org/officeDocument/2006/relationships/hyperlink" Target="http://wwwlib.umi.com/dissertations/search" TargetMode="External"/><Relationship Id="rId16" Type="http://schemas.openxmlformats.org/officeDocument/2006/relationships/hyperlink" Target="http://wwwlib.umi.com/dissertations/search" TargetMode="External"/><Relationship Id="rId17" Type="http://schemas.openxmlformats.org/officeDocument/2006/relationships/hyperlink" Target="http://wwwlib.umi.com/dissertations/search" TargetMode="External"/><Relationship Id="rId1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4 – 18.4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761760" y="1904760"/>
            <a:ext cx="784836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rozsah datové základny informační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al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řed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implementace inf. technologi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žádn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dekvát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kročil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konní pracovníci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valifikova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xpert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07157-3451-4FE5-8FC2-57E7797C9DE1}" type="slidenum">
              <a:t>10</a:t>
            </a:fld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skytované služb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rientované na dokumenty vs na inform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otazy na formální vs věcné charakteristiky dokument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uživate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soce odborný uživatel (exper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dborný uživatel (profesionál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odborný uživatel (laik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EF75-823D-4CF6-AAE6-2B4E0F1FF929}" type="slidenum">
              <a:t>11</a:t>
            </a:fld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zhledem k variabilitě informačních zdrojů i různých selekčních jazyků neexistuje pro věcné vyhledávání jednotný postup nebo pravidla – úspěšnost věcného vyhledávání je často spojena se znalostí konkrétních nástrojů a obor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edpoklady úspěšného věcného vyhledávání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obsahem informačního zdroj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e strukturou a rozsahem řízených slovníků, vč. kvality a rozsahu věcného popisu a pravidel postkoordinace a prekoord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eznámit se s možnostmi, které pro věcné vyhledávání nabízí daný informační zdroj (konzultace řízeného slovníku, rozšiřování uživatelského dotazu, hledání podobných dokumentů at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83D20-3AEA-4ABE-9CF4-8F2FEBC03418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Základní metod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ecný postup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á formulace dotazu 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v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„nástřel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olba vhodné rešeršní strate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rostoucí perl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rategie osekávání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asifikace dbát na výběr vhodných klasifikačních znaků a dodržovat pravidla jejich kombin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řízeného slovníku zohlednit hierarchii a asociaci, definovat dotaz tak, aby zahrnoval všechny potenciálně použitelné lexikální jednotky řízeného slovník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oužití klíčových slov (název, plný text, freetextové vyhledávání) zahrnout všechna synonyma a vhodně nastavit zkrácení výraz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neúspěšném vyhledávání přeformulování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mbinovat různé selekční jazyky a různé způsoby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užití SOD konkrétních dokumentů pro úpravu dotaz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43AFD-2BE5-4696-97AF-F91148FF9525}" type="slidenum">
              <a:t>13</a:t>
            </a:fld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rostoucí perly 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ovod? AND česk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česk? and kriz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) AND (česk? OR čech?) AND („krizový management“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povodn? OR povode? OR flood? OR 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  <a:ea typeface="Arial"/>
              </a:rPr>
              <a:t>627.51</a:t>
            </a:r>
            <a:r>
              <a:rPr b="0" lang="cs-CZ" sz="2800" spc="-1" strike="noStrike">
                <a:solidFill>
                  <a:srgbClr val="40458c"/>
                </a:solidFill>
                <a:latin typeface="Arial"/>
              </a:rPr>
              <a:t>+627.53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) AND (česk? OR čech? OR morav? OR czech? OR tschech?) AND ((kriz? AND (řízen? OR managem? OR situac?)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06520" indent="-506520"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9DA0-5984-4CE5-84D9-98CD856FE76A}" type="slidenum">
              <a:t>14</a:t>
            </a:fld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rategie osekávání</a:t>
            </a:r>
            <a:br>
              <a:rPr sz="44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příklad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jader? OR atom?) AND (elektrár? OR zařízen?) AND ?bezpečn? AND franc? AND (1986 OR 1987 OR 1988 OR 1989) AND (výzkum? OR techni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6 OR 1987 OR 1988 OR 1989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ader? AND elektrár? AND ?bezpečn? AND franc? AND (198? OR 200?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-522720">
              <a:lnSpc>
                <a:spcPct val="90000"/>
              </a:lnSpc>
              <a:spcBef>
                <a:spcPts val="700"/>
              </a:spcBef>
              <a:buClr>
                <a:srgbClr val="6f89f7"/>
              </a:buClr>
              <a:buSzPct val="11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td...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522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BE88-8726-473B-8CC6-805D1DF0A05D}" type="slidenum">
              <a:t>15</a:t>
            </a:fld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 a harmonizace SJ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aktor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informačních zdrojů v elektronické podobě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sekundárních dokument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stoucí počet přejímaných bbg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rozvoj digitálních knihoven a online služeb ve vícejazyčném prostřed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mysl a 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měna informac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spora práce, času a lidských zdroj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usnadnění věcného přístupu k dokumentům a informacím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C2897-7C1F-42AF-A972-DE1B60F1327C}" type="slidenum">
              <a:t>17</a:t>
            </a:fld>
          </a:p>
        </p:txBody>
      </p:sp>
    </p:spTree>
  </p:cSld>
  <p:transition>
    <p:zoom dir="ou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orové zaměření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ruktura řízeného slovník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L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íra postkoordinace/preko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ícejazyčno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1B80F-B2CB-42D0-B1EE-349EB34E8825}" type="slidenum">
              <a:t>18</a:t>
            </a:fld>
          </a:p>
        </p:txBody>
      </p:sp>
    </p:spTree>
  </p:cSld>
  <p:transition>
    <p:zoom dir="ou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tandardizace S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lexik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řevzetí tezauru nebo jeho části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0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MDT-výběr znaků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definice vztahů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morf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pravidla pro tvorbu hesel LCSH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010193; ČSN 01 0172; zrušená 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01 0188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(tvorba PH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 úrovni syntax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př. indexační pravidla nebo standardizace metod obsahové analýz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ČSN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ISO 5963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4764-9BF6-4341-838A-B9B63E098C0A}" type="slidenum">
              <a:t>19</a:t>
            </a:fld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esej – 18. červ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test – 16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body (puzzle) – 15. května 2008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eznam čísel získaných puzzle zaslat na schwarzjv@seznam.cz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DBD-0922-468B-B114-89ECFB4B02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Standardizace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metody a prostředk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tandardizace formá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např. UNIMARC/Autor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ěcné autori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instituc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SO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FLA Classification and Indexing Section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merican Society of Indexer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8528-F549-4609-98B3-8D0E0EF2AFE2}" type="slidenum">
              <a:t>20</a:t>
            </a:fld>
          </a:p>
        </p:txBody>
      </p:sp>
    </p:spTree>
  </p:cSld>
  <p:transition>
    <p:zoom dir="ou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pojitelnost SJ a potažmo 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y harmoniz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mpabilita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ímého propojení (výstupy jednoho systému lze použít přímo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tibil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žnost převoditelnosti (výstupy jednoho systému lze po zpracování použít jako vstupy jiného systému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verg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upné sbližování dvou nebo více systémů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onkorda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tvoření převodníku mezi dvěma nebo více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lexikální jednotky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 úrovni pojmu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1ED3-13DD-4866-B5AB-C60A95742182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– mapování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stejný typ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stkoordinovaný SJ 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ost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ekoordinovaný SJ</a:t>
            </a:r>
            <a:r>
              <a:rPr b="0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prekoordinovaný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Jednosměrný nebo obousměrný přev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edno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opojovací SJ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 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PropSJ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obousměrný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2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2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1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3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SJ3 </a:t>
            </a:r>
            <a:r>
              <a:rPr b="0" lang="cs-CZ" sz="16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 SJ1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FF3-FFFA-4631-A07E-837F1B6920FB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armonizace - mapování SJ</a:t>
            </a:r>
            <a:br>
              <a:rPr sz="4400"/>
            </a:br>
            <a:r>
              <a:rPr b="1" lang="en-US" sz="2400" spc="-1" strike="noStrike">
                <a:solidFill>
                  <a:srgbClr val="660066"/>
                </a:solidFill>
                <a:latin typeface="Tahoma"/>
              </a:rPr>
              <a:t>Příklady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85440" y="1752120"/>
            <a:ext cx="380988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LJ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LCSH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Konspekt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MD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   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DDC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Projekt ELVI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Eurovoc </a:t>
            </a:r>
            <a:r>
              <a:rPr b="1" lang="cs-CZ" sz="2000" spc="-1" strike="noStrike">
                <a:solidFill>
                  <a:srgbClr val="40458c"/>
                </a:solidFill>
                <a:latin typeface="Wingdings"/>
                <a:ea typeface="Wingdings"/>
              </a:rPr>
              <a:t>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 Poli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40458c"/>
                </a:solidFill>
                <a:latin typeface="Tahoma"/>
              </a:rPr>
              <a:t>Na úrovni pojmu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UMLS Metathesauru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8002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25D27-597F-46A0-8C9E-5A1CD3CB9B0C}" type="slidenum">
              <a:t>23</a:t>
            </a:fld>
          </a:p>
        </p:txBody>
      </p:sp>
    </p:spTree>
  </p:cSld>
  <p:transition>
    <p:zoom dir="out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92504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zinárodní harmonizace a integr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armonizace řízených slovníků a 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opojování informačních systémů (např. paralelní vyhledávání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ožnost indexace a vyhledávání v jazyce, který je zpracovateli/uživateli nejbližš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orm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ícejazyčné teza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SN ISO 5964 (ČSN 01 0172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grovoc (12), Eurovoc (18 ofic.), Me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 vícejazyčné tezaury: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jazykové verze předmětových hes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-1987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LCS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94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C5F69-9981-4686-8676-6567D44B05CF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ingvistické problémy (překlad/převo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terminolog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truktur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kompatibilit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100% kompatibilita (+nedeskriptory a poznámk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úpravy tezauru pro lokální potřeb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roblémy správy a údržb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ložitější proces aktual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mplementace tezauru do AIKS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W pro správu tezaur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1E179-C4EB-4B76-84D6-D1CF6A44A8DC}" type="slidenum">
              <a:t>26</a:t>
            </a:fld>
          </a:p>
        </p:txBody>
      </p:sp>
    </p:spTree>
  </p:cSld>
  <p:transition>
    <p:zoom dir="ou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838080" y="16761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tatus jazy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tejný stat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aždý deskriptor v jednom jazyce má ekvivalenty v jiných jazycíc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Dominantní jazyk/sekundární jazy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minantní jazyk – hlavní jazyk, ve kterém jsou vyjádřeny všechny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kundární jazyk – vedlejší jazyk, mohou chybět některé deskripto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Zprostředkující jazy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azyk používaný používaný pro indexaci a vyhledávání a pro výměnu dat (mapování, paralelní vyhledávání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7087-D679-47B0-B196-F51E0968D16A}" type="slidenum">
              <a:t>27</a:t>
            </a:fld>
          </a:p>
        </p:txBody>
      </p:sp>
    </p:spTree>
  </p:cSld>
  <p:transition>
    <p:zoom dir="ou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218960" y="1904760"/>
            <a:ext cx="739116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klad/převod tezaur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chozí jazyk – jazyk, ze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jazyk překladu – jazyk, do kterého se překládá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zpětná vazba – změna LJ výchozího jazyka na základě problémů v jazyce překlad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interlingvistické a intralingvistické probl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14400" indent="-1828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i překladu/převodu nutno zohlednit nejen samotný výraz, ale i jeho zařazení do struktur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280160" indent="-1828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říklad (PSH, řada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právo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: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274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rávo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mezinárodní právo veřejné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státní občanství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bezdomovectví 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110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8120" y="5029200"/>
            <a:ext cx="5181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public international law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ationality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     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  <a:ea typeface="Times New Roman"/>
              </a:rPr>
              <a:t>homelessness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-&gt; 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          stateless persons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638680" y="6400800"/>
            <a:ext cx="1447920" cy="0"/>
          </a:xfrm>
          <a:prstGeom prst="line">
            <a:avLst/>
          </a:prstGeom>
          <a:ln w="2232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21DE-6223-4473-B940-C27999EA2E7E}" type="slidenum">
              <a:t>28</a:t>
            </a:fld>
          </a:p>
        </p:txBody>
      </p:sp>
    </p:spTree>
  </p:cSld>
  <p:transition>
    <p:zoom dir="ou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ícejazyčné tezaury</a:t>
            </a:r>
            <a:br>
              <a:rPr sz="4400"/>
            </a:b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Vybrané jazykové problémy</a:t>
            </a:r>
            <a:endParaRPr b="0" lang="en-US" sz="2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peň ekvivalence výraz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úpl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ástečná 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rmín/více termín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eekvival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4C91-DA1E-45BB-A2D0-1A251549CEA8}" type="slidenum">
              <a:t>29</a:t>
            </a:fld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physic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Physi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3"/>
          <a:stretch/>
        </p:blipFill>
        <p:spPr>
          <a:xfrm>
            <a:off x="0" y="1447920"/>
            <a:ext cx="8839080" cy="158580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fyzik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98FF-E5E5-44CB-B7D5-6477C3046486}" type="slidenum">
              <a:t>30</a:t>
            </a:fld>
          </a:p>
        </p:txBody>
      </p:sp>
    </p:spTree>
  </p:cSld>
  <p:transition>
    <p:zoom dir="ou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28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J: men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Gedeck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78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jídelní lístek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7"/>
          <a:stretch/>
        </p:blipFill>
        <p:spPr>
          <a:xfrm>
            <a:off x="0" y="1600200"/>
            <a:ext cx="9144000" cy="1224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967A8-479C-456F-B80E-B5224AE1C011}" type="slidenum">
              <a:t>31</a:t>
            </a:fld>
          </a:p>
        </p:txBody>
      </p:sp>
    </p:spTree>
  </p:cSld>
  <p:transition>
    <p:zoom dir="ou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200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NJ: Wissenschaf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581280" y="1905120"/>
            <a:ext cx="236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J: scien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1905120"/>
            <a:ext cx="23619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věda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8"/>
          <a:stretch/>
        </p:blipFill>
        <p:spPr>
          <a:xfrm>
            <a:off x="0" y="1752480"/>
            <a:ext cx="9144000" cy="11052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E88B-49DD-481A-A57F-642D26069AC6}" type="slidenum">
              <a:t>32</a:t>
            </a:fld>
          </a:p>
        </p:txBody>
      </p:sp>
    </p:spTree>
  </p:cSld>
  <p:transition>
    <p:zoom dir="ou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560" y="1905120"/>
            <a:ext cx="2819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fuels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2895120" y="1905120"/>
            <a:ext cx="3048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??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arbura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FJ: combustibl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88" name=""/>
          <p:cNvSpPr/>
          <p:nvPr/>
        </p:nvSpPr>
        <p:spPr>
          <a:xfrm>
            <a:off x="6248520" y="1905120"/>
            <a:ext cx="2666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??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pal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13071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ČJ: topivo</a:t>
            </a:r>
            <a:endParaRPr b="0" lang="en-US" sz="28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89" name="" descr=""/>
          <p:cNvPicPr/>
          <p:nvPr/>
        </p:nvPicPr>
        <p:blipFill>
          <a:blip r:embed="rId12"/>
          <a:stretch/>
        </p:blipFill>
        <p:spPr>
          <a:xfrm>
            <a:off x="0" y="1828800"/>
            <a:ext cx="9144000" cy="11523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3F65F-EE92-4D83-A3C2-C710439B1132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J: digital divid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343400" y="1828800"/>
            <a:ext cx="44956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ČJ: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[</a:t>
            </a: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igitální propast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]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0" y="1905120"/>
            <a:ext cx="9144000" cy="10969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CA623-3CC4-4244-B4C6-7C6A9429CCC3}" type="slidenum">
              <a:t>34</a:t>
            </a:fld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ecný postup při vyhledávání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analýza požadavku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identifikace informačních zdrojů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tanovení rešeršní strategie a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formulace dotaz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zpracování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vyhodnocení/interpretace výsledků vyhledávání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FB02-16EE-47CA-A25C-5DC3E2D5BDDE}" type="slidenum">
              <a:t>4</a:t>
            </a:fld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2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7631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520" y="1447560"/>
            <a:ext cx="861048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ruhy vyhledávání podle typu hledané informace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dentifikační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známe některé údaje o hledaném dokumentu nebo polož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formální údaje - osobní jméno, název, nakladatel, rok, místo vydání, název časopisu, ISBN, ISSN, datum (konání konference, vydání, narození aj.) 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říklad: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bchodní rejstří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(neznáme požadovaný dokument, hledáme určité téma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vyhledávací výrazy: věcné údaje - klíčová slova z názvu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ředmětová hesla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, deskriptory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tezauru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klíčová slova z textu dokumentu (redukovaného nebo plného), klasifikac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MDT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OKEČ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NAICS</a:t>
            </a:r>
            <a:r>
              <a:rPr b="1" lang="cs-CZ" sz="2000" spc="-1" strike="noStrike">
                <a:solidFill>
                  <a:srgbClr val="40458c"/>
                </a:solidFill>
                <a:latin typeface="Tahoma"/>
              </a:rPr>
              <a:t>) apod.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é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chceme zjistit konkrétní informaci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yhledávací výrazy: údaje podle obsahu a struktury zdroj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Medigrid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444EB-017D-4A1A-B606-E60BE00BBB03}" type="slidenum">
              <a:t>5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účel a zaměření informačního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formační okruh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ěda, technika, výzkum, standardizac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veřejná (státní) správa, samospráva, legislati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konomická oblast (obchodní, firemní, bankovní informační zdroje), podnikové informační systé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informační zdroje v oblasti kultury, umění, zába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asmédia, zpravodajství, informace „všedního dne“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rchivní informační fond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každý z uvedených okruhů má: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nároky na rozsah i hloubku věcného zpraco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-21924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jiné možnosti věcného vyhledáv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97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BEF-BF59-4568-AFD2-27B339C47BFC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3808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obor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(velmi schematické rozdělení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propracovaným systémem řízených slovníků, klasifikací, číselníků a možnostmi multikriteriálního, fazetového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chemie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Beilstein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Reaction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lékařství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dlin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technika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INSPE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bory s jednoduchým systémem věcného zpracování a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568160" indent="-223920">
              <a:lnSpc>
                <a:spcPct val="90000"/>
              </a:lnSpc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polečenské a humanitní vědy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ERIC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AH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98065-6D36-435C-9137-DABE9AAAE199}" type="slidenum">
              <a:t>7</a:t>
            </a:fld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zdroj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bibliografická (dokumentografická) databáze/katalog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lnotextov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faktografická databáz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droj typu adresář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metazdroj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tabázová centra (funkce CrossSearch, CrossFile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katalogu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STM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tály typu metavyhledávačů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JIB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Scirus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terne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vrchový“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08440" indent="-2214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„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hlubok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deep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, resp. „neviditelný“ (</a:t>
            </a:r>
            <a:r>
              <a:rPr b="0" i="1" lang="cs-CZ" sz="2000" spc="-1" strike="noStrike">
                <a:solidFill>
                  <a:srgbClr val="40458c"/>
                </a:solidFill>
                <a:latin typeface="Tahoma"/>
              </a:rPr>
              <a:t>inivisible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 web 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Obchodní rejstřík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 vs 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tacrawler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C0FB-E083-4AFC-A5E4-64C9CE5F7775}" type="slidenum">
              <a:t>8</a:t>
            </a:fld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Obecné aspekty věcného vyhledávání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761760" y="1371600"/>
            <a:ext cx="784836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yp dokumentů/informací v informačním zdroji (záznamy n. plné texty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zkumné zprávy, technické zprá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2"/>
              </a:rPr>
              <a:t>NTIS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e-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4"/>
              </a:rPr>
              <a:t>Prin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5"/>
              </a:rPr>
              <a:t> archiv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konferenční materiály (preprinty aj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asopis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Ulrich‘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lánk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atent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7"/>
              </a:rPr>
              <a:t>Mezinárodní patentové třídění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; db: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8"/>
              </a:rPr>
              <a:t>Canadia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9"/>
              </a:rPr>
              <a:t> Patent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0"/>
              </a:rPr>
              <a:t>Database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Japan Patent Office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orm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00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40458c"/>
                </a:solidFill>
                <a:latin typeface="Tahoma"/>
              </a:rPr>
              <a:t>International Classification for Standards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akademické práce (dizertace, habilitac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19920" indent="-21708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1"/>
              </a:rPr>
              <a:t>Digitale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2"/>
              </a:rPr>
              <a:t>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3"/>
              </a:rPr>
              <a:t>Dissertationen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4"/>
              </a:rPr>
              <a:t> der FU Berlin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,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5"/>
              </a:rPr>
              <a:t>ProQuest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6"/>
              </a:rPr>
              <a:t> Digital </a:t>
            </a:r>
            <a:r>
              <a:rPr b="0" lang="cs-CZ" sz="1800" spc="-1" strike="noStrike" u="sng">
                <a:solidFill>
                  <a:srgbClr val="6f89f7"/>
                </a:solidFill>
                <a:uFillTx/>
                <a:latin typeface="Tahoma"/>
                <a:hlinkClick r:id="rId17"/>
              </a:rPr>
              <a:t>Dissertations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monografi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056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AA12-6F0B-4E4F-9D37-7F8424FE0EAB}" type="slidenum">
              <a:t>9</a:t>
            </a:fld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4-17T21:02:02Z</dcterms:modified>
  <cp:revision>223</cp:revision>
  <dc:subject/>
  <dc:title>Selekční jazyky</dc:title>
</cp:coreProperties>
</file>