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010-FFFD-4D17-B0E0-CE627024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AFC-DE03-403B-B68C-2E8F3CE5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74A-026F-4CEA-9B9B-AEF9EBA2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456-6B14-495C-B5CF-73286F66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8194-6E23-4A50-9080-EE337C70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22E7-BA6F-4FB2-857F-77AA504A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679B-5CB8-4330-B18D-CF2CC763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EA0E-36B8-4F3E-BD91-6C60A0C7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1B8C-ABB3-41E0-902A-BBF2298D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AFE2-B445-4370-8E5A-A1E8D4B1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D77C-EEFC-40F0-82E3-078C2C80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E21-0B59-4FF0-A345-9E6ABB25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80B2-A8C9-4702-AAD9-7BDF141D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4557-833B-472B-9658-25E86A25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F798-7FD9-4DC0-BB43-E5B8BC9D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C728-FD82-4538-A67A-8B425C85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62E9-443F-4F4F-B936-F449137E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02C-5D5A-4908-8AA3-97696877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84CB-3B46-450B-8F83-D87EBCD7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473-CE09-45F0-BD5A-2F2BE096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A09-96DF-4FBC-8D88-99B31DE4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ED7-870C-4476-B9BD-B0AF0B4B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CA0-5180-4AD7-9324-06188AD8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7A8-444E-4D4D-9141-265592E1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8921-C0BA-4F86-96D0-4564A45BC81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235D-9AC9-46E9-8B2E-BB476ECED94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karos.cz/node/3986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ikaros.cz/node/3986" TargetMode="External"/><Relationship Id="rId9" Type="http://schemas.openxmlformats.org/officeDocument/2006/relationships/slide" Target="slide12.xml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b.cas.cz/www/cz/frame_knihovna.HTML" TargetMode="External"/><Relationship Id="rId3" Type="http://schemas.openxmlformats.org/officeDocument/2006/relationships/hyperlink" Target="http://www4.infotrieve.com/newmedline/search.asp" TargetMode="External"/><Relationship Id="rId4" Type="http://schemas.openxmlformats.org/officeDocument/2006/relationships/hyperlink" Target="http://www.google.com/" TargetMode="External"/><Relationship Id="rId5" Type="http://schemas.openxmlformats.org/officeDocument/2006/relationships/hyperlink" Target="http://www.scirus.com/" TargetMode="External"/><Relationship Id="rId6" Type="http://schemas.openxmlformats.org/officeDocument/2006/relationships/hyperlink" Target="http://www.lib.cas.cz/www/cz/frame_knihovna.HTML" TargetMode="External"/><Relationship Id="rId7" Type="http://schemas.openxmlformats.org/officeDocument/2006/relationships/hyperlink" Target="http://www4.infotrieve.com/newmedline/adv_search.asp" TargetMode="External"/><Relationship Id="rId8" Type="http://schemas.openxmlformats.org/officeDocument/2006/relationships/hyperlink" Target="http://www.google.cz/advanced_search?hl=cs" TargetMode="External"/><Relationship Id="rId9" Type="http://schemas.openxmlformats.org/officeDocument/2006/relationships/hyperlink" Target="http://www.scirus.com/srsapp/advanced/index.jsp" TargetMode="External"/><Relationship Id="rId10" Type="http://schemas.openxmlformats.org/officeDocument/2006/relationships/hyperlink" Target="http://www.lib.cas.cz/www/cz/frame_knihovna.HTML" TargetMode="External"/><Relationship Id="rId11" Type="http://schemas.openxmlformats.org/officeDocument/2006/relationships/hyperlink" Target="http://www4.infotrieve.com/newmedline/search.asp" TargetMode="External"/><Relationship Id="rId12" Type="http://schemas.openxmlformats.org/officeDocument/2006/relationships/hyperlink" Target="http://www.psp.cz/rapid/aRL/main.php?language=czech&amp;ictx=par" TargetMode="External"/><Relationship Id="rId13" Type="http://schemas.openxmlformats.org/officeDocument/2006/relationships/hyperlink" Target="http://df.stk.cz/cgi-bin/dflex/CZE/STK/FIND2" TargetMode="External"/><Relationship Id="rId14" Type="http://schemas.openxmlformats.org/officeDocument/2006/relationships/hyperlink" Target="http://www.ff.cuni.cz/tinweb/tw" TargetMode="External"/><Relationship Id="rId15" Type="http://schemas.openxmlformats.org/officeDocument/2006/relationships/hyperlink" Target="http://tinweb.upm.cz/" TargetMode="External"/><Relationship Id="rId16" Type="http://schemas.openxmlformats.org/officeDocument/2006/relationships/hyperlink" Target="http://www.psp.cz/eknih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86&amp;do=1992" TargetMode="External"/><Relationship Id="rId4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jyxo.cz/" TargetMode="External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ev/evquery.sqw?snt=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library.dialog.com/bluesheets/html/bl0391.html#BI" TargetMode="External"/><Relationship Id="rId4" Type="http://schemas.openxmlformats.org/officeDocument/2006/relationships/hyperlink" Target="http://library.dialog.com/bluesheets/html/bl0391.html#BI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library.dialog.com/bluesheets/html/bl0002.html#BI" TargetMode="External"/><Relationship Id="rId7" Type="http://schemas.openxmlformats.org/officeDocument/2006/relationships/hyperlink" Target="http://www.eric.ed.gov/" TargetMode="External"/><Relationship Id="rId8" Type="http://schemas.openxmlformats.org/officeDocument/2006/relationships/hyperlink" Target="http://library.dialog.com/bluesheets/html/bl0439.html#BI" TargetMode="External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hyperlink" Target="http://www.obchodnirejstrik.cz/" TargetMode="External"/><Relationship Id="rId7" Type="http://schemas.openxmlformats.org/officeDocument/2006/relationships/hyperlink" Target="http://www.metacrawler.com/" TargetMode="External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006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2 (kombinovaní) – 11.5.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6/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Kvalita vs konzistence index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ztah kvality a konzistence není bezprostřed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nzistentní indexace neznamená kvalitní indexac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valitní indexace zahrnuje i konzistentní indexac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nzistence indexace zlepšuje efektivitu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 hlediska správy databáze je konzistence kvalito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F9D-3A86-494F-998B-340D3A5116C3}" type="slidenum">
              <a:t>10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aktory ovlivňující indexac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á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j.: zkušenost a znalost SJ, znalost oboru, porozumění textu, systematické myšlení, racionální čt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ubj.: soustř., pečlivost, nálada, únava, motiv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ta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okument/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or, struktura, délka, styl, žánr, pomocný aparát,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acovní podmín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ac. doba, produktivita práce, prac. prostředí, technické prostřed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509-20C7-4DDB-99DC-041B5E13FE3F}" type="slidenum">
              <a:t>11</a:t>
            </a:fld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ontrola a hodnocení index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procesu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rovnání s obsahem databáz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automatické procedury: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TODESCHINI, C., FARRELL, M.P. An expert system for quality control in bibliographic databases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Journal of the American Society for Information Science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, 1989, roč. 40, č. 1, s. 1-11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uperviz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rávnost a úplnost obsahové analýz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ěcná i formální správnost přiřazených pořádacích znak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indexační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 chyb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indexační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 experim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i vyhledává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levance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lnost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recall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a přesnost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precision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4DA-4E30-4E40-AC5E-9D8D251F406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evance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ost (recall) 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očet vyhledaných relevantních dokumentů / počet všech relevantní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snost (precision) 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očet vyhledaných relevantních dokumentů / počet všech vyhledaný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měr mezi úplností a přesnost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6f89f7"/>
                </a:solidFill>
                <a:uFillTx/>
                <a:latin typeface="Wingdings 3"/>
                <a:ea typeface="Wingdings 3"/>
                <a:hlinkClick r:id="rId4" action="ppaction://hlinksldjump"/>
              </a:rPr>
              <a:t>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97E-DDEE-400C-8FB6-EE7DA937D38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ční chyb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: kontrola indexace UK-ETF 1998-9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iz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padová stud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jčastější typy chy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pominutí hledisek (18,6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esprávné stanovení významu nebo rozsahu deskriptoru (12,3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hybějící jednotlivé deskriptory (11,5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y chyb podle ovlivnění úplnost a přesnost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omplexní chyby snižující úplnost (23,4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ílčí chyby snižující úplnost (22,1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ílčí chyby snižující úplnost i přesnost (14,9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526-88C1-4017-9B72-54E6165DBB9A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ční chyby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ypy chyb podle fáz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obsahová analýza (18,1%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droj chyb: indexá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identifikace pojmů (42,3%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droj chyb: indexační pravidla, indexá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jčastěji: opominutí hledis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výběr deskriptorů z tezauru (20,8%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droj chyb: indexátor, indexační pravidla,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6f89f7"/>
                </a:solidFill>
                <a:uFillTx/>
                <a:latin typeface="Wingdings 3"/>
                <a:ea typeface="Wingdings 3"/>
                <a:hlinkClick r:id="rId2" action="ppaction://hlinksldjump"/>
              </a:rPr>
              <a:t>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B3B-FABF-413D-A10C-12411B31B6D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ční experimen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rovnávání různých typů selekčních jazyk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dexace vzorku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ovnání formou rešeršních dot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onzistence indexátor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imentální přístu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va nebo více indexátor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orek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dex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terpretace výsledk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případová studi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f89f7"/>
                </a:solidFill>
                <a:uFillTx/>
                <a:latin typeface="Wingdings 3"/>
                <a:ea typeface="Wingdings 3"/>
                <a:hlinkClick r:id="rId9" action="ppaction://hlinksldjump"/>
              </a:rPr>
              <a:t>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B46-B3A9-4F49-85F4-73CBE45693D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yužití hodnocení index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á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pětná vazb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odnocení prá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a lexika n.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a poznámek o rozsah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ormul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okume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index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A37-8782-43D7-9324-C1762905A57D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dle způsobu vyhledávání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reetextov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, jednoduch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é, podrobn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ení dostupný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Medli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samostatně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P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ST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při vyhledávání: 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FF U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UP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plně integrovaný do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PS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é (fulltextové)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vertovaný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kvenční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94C-46B7-4140-BE1D-E0A3C7A28F5A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gr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ěcné vyhledávání – řízený slovník vs plný te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ecné aspekty věcnéh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andardizace a harmonizace S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ícejazyčné S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C9F-63C5-41E8-9350-75F57A9E009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9A6-D4E3-4400-8857-28D2A858492B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C97-3F23-4733-AAE5-1B763B21C10F}" type="slidenum">
              <a:t>21</a:t>
            </a:fld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ov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ání latentní sémantik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4EA-53E4-4369-842A-0244AD5DDDCA}" type="slidenum">
              <a:t>22</a:t>
            </a:fld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rivátor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B09-A1CE-4F2B-BA1C-9A851E0916E1}" type="slidenum">
              <a:t>23</a:t>
            </a:fld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501-2E57-4E3C-A945-E5CC0C045519}" type="slidenum">
              <a:t>24</a:t>
            </a:fld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i v ŘS problémy s vyjádřením pojmů (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F2B-61EA-42AA-BDC5-24F35389E9C2}" type="slidenum">
              <a:t>25</a:t>
            </a:fld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711-010B-4D80-8A32-7605D8545FD0}" type="slidenum">
              <a:t>26</a:t>
            </a:fld>
          </a:p>
        </p:txBody>
      </p:sp>
    </p:spTree>
  </p:cSld>
  <p:transition>
    <p:zoom dir="ou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C67-11BC-4499-8230-DB42E0BA3049}" type="slidenum">
              <a:t>27</a:t>
            </a:fld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2C99-19A4-48DF-8CF1-88932068C5E7}" type="slidenum">
              <a:t>28</a:t>
            </a:fld>
          </a:p>
        </p:txBody>
      </p:sp>
    </p:spTree>
  </p:cSld>
  <p:transition>
    <p:zoom dir="ou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AEE-3A95-4F75-B893-4321F2FE81F0}" type="slidenum">
              <a:t>29</a:t>
            </a:fld>
          </a:p>
        </p:txBody>
      </p:sp>
    </p:spTree>
  </p:cSld>
  <p:transition>
    <p:zoom dir="ou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D96-E463-463E-B170-D65EA02ECA8F}" type="slidenum">
              <a:t>30</a:t>
            </a:fld>
          </a:p>
        </p:txBody>
      </p:sp>
    </p:spTree>
  </p:cSld>
  <p:transition>
    <p:zoom dir="ou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0ED-BEE1-4D8C-8BDE-8D757727F57C}" type="slidenum">
              <a:t>31</a:t>
            </a:fld>
          </a:p>
        </p:txBody>
      </p:sp>
    </p:spTree>
  </p:cSld>
  <p:transition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1EE-26D2-488E-A500-B23660408F6C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B35-5CA1-4775-ABF7-AF14A1CE3F88}" type="slidenum">
              <a:t>34</a:t>
            </a:fld>
          </a:p>
        </p:txBody>
      </p:sp>
    </p:spTree>
  </p:cSld>
  <p:transition>
    <p:zoom dir="ou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58C-31F5-4171-B24A-C28E18369471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439-DE59-4348-BF01-C57C7084AA8A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924D-5DFD-4568-ACCF-AB0BD586337A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JIB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Obchodní rejstří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vs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17D-4AC0-4C64-8096-7983A2814CB3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TIS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e-Print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atentové třídění; db: Canadian Patent Database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igitale Dissertationen der FU Berlin, ProQuest Digital 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D23-238E-4165-B4B3-5A380F970E25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valita index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LAN03, kap. Quality of Index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ní indexace – taková indexace, která zajistí (ne)vyhledání dokumentu v rámci konkrétního informačního systém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de o relativní hodno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čel a zaměření informačního systém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třeby a požadavky uživatel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lze hodnotit kvantitativními metodam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ry ovlivňující kvalitu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299-B2AA-475C-BAFA-7FFC48BE4215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F02-F178-4006-8363-8A582AF70693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E79-DADF-41D7-806C-E11C5F0D81A4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639-0EA8-459F-ADEB-471537C8449C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2C6-A129-4BDF-ABC3-5511C992B352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 a harmonizace SJ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informačních zdrojů v elektronické podob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sekundární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přejímaných bbg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mysl a 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měna inform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spora práce, času a lidských zdroj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nadnění věcného přístupu k dokumentům a informací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663-B29E-4F0E-9CC2-E49535BB5AE2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orové zaměření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ruktura řízeného slovník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L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postkoordinace/preko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7F1-C9EF-4097-9BFD-BEEC260C8416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andardizace S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lexi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řevzetí tezauru nebo jeho čás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MDT-výběr znak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definice vztahů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morf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ravidla pro tvorbu hesel LCS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yntax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4BA-840C-4861-8EDE-0D2A8BC10976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andardizace formá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apř. UNIMARC/Autor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ěcné aut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stitu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FLA Classification and Indexing 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merican Society of Index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4B2-BE16-4F4F-9CCA-9DFC417A3E45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pojitelnost SJ a potažmo 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y harmoniz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abilit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tibil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g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upné sbližování dvou nebo více systém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kord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tvoření převodníku mezi dvěma nebo více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lexikální jednotk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pojmu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658-D66F-48CE-8C55-A44490EA6A9F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onzistence index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LAN03, Consistency of Index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shody dvou nebo více S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y konzist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zi indexátory (interindexer consistenc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36120" indent="-2192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hoda indexace mezi dvěma nebo více indexá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a (intraindexer consistenc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36120" indent="-2192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zistence indexace jednoho indexáto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onzistence z hlediska hloubk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zistence pořádacích znaků vyjadřujících hlavní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zistence pořádacích znaků vyjadřujících vedlejší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ACA-50A1-4F34-9E70-5734FE81C8D8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– mapování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stejný typ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koordinovaný SJ 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ost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ekoordinovaný SJ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re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ednosměrný nebo obousměrný přev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o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opojovací SJ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ou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B0F-3B23-4D61-8285-094CBFEFBCB4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- mapování SJ</a:t>
            </a:r>
            <a:br>
              <a:rPr sz="4400"/>
            </a:b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Příkla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LJ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LCSH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Konspekt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MD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Projekt ELV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Eurovoc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Pol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pojm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UMLS Metathesaur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D370-A15A-4FD3-816C-FC686688877A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zinárodní harmonizace a integ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armonizace řízených slovníků a 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ícejazyčné teza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SN ISO 5964 (ČSN 01 017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grovoc (12), Eurovoc (18 ofic.), Me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 vícejazyčné tezau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zykové verze předmětových hes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C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590-6C29-4DF8-9CAB-17C67D62E1E7}" type="slidenum">
              <a:t>53</a:t>
            </a:fld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ingvistické problémy (překlad/převo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ruktu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kompati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% kompatibilita (+nedeskriptory a poznámk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y tezauru pro lokální potřeb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správy a údrž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ložitější proces aktual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mplementace tezauru do AI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W pro správu tezaur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22F-3B9A-4041-AC4B-1D2F6619688E}" type="slidenum">
              <a:t>54</a:t>
            </a:fld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us jazy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ejný sta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minantní jazyk/sekundární jazy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prostředkující jazy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D875-92AB-4D9C-AA1F-5117E2A0144B}" type="slidenum">
              <a:t>55</a:t>
            </a:fld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klad/převod tezau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chozí jazyk – jazyk, ze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azyk překladu – jazyk, do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terlingvistické a intralingvistické probl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íklad (PSH, řada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rávo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303-EEFD-45BC-AA08-5090CD0D630E}" type="slidenum">
              <a:t>56</a:t>
            </a:fld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ekvivalence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ásteč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rmín/více termín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E90-1797-4F1D-9FB2-3C16A2C04633}" type="slidenum">
              <a:t>57</a:t>
            </a:fld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physic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Physi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33C-6822-4E04-B12D-4C1D699A0B39}" type="slidenum">
              <a:t>58</a:t>
            </a:fld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J: me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Gede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FA3-B434-4422-B1D5-80EC169180C6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Konzistence indexace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ýpočet I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vojice indexátorů 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zv. konzistenční pár 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consistency pair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C = a / 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= počet pořádacích znaků, které shodně zvolili oba indexátoř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= celkový počet přidělených jedinečných pořádacích znak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1F9-099E-4A0D-9483-6E4BC50F1C7D}" type="slidenum">
              <a:t>6</a:t>
            </a:fld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Wissenschaf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sc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8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3BA-D465-489A-9B5B-E46A2470A709}" type="slidenum">
              <a:t>60</a:t>
            </a:fld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fu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95120" y="19051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arbura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ombusti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2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353-540B-4407-AADC-780342EA9583}" type="slidenum">
              <a:t>61</a:t>
            </a:fld>
          </a:p>
        </p:txBody>
      </p:sp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digital divi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J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igitální propas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089-E17B-4E1E-A6FB-54097AF29B38}" type="slidenum">
              <a:t>62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Konzistence indexace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8102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  <a:ea typeface="Arial"/>
              </a:rPr>
              <a:t>námořníc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  <a:ea typeface="Arial"/>
              </a:rPr>
              <a:t>ztroskot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ostro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  <a:ea typeface="Arial"/>
              </a:rPr>
              <a:t>Robinson Cruso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dobrodružné </a:t>
            </a: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</a:rPr>
              <a:t>román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12952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Příklad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1905120"/>
            <a:ext cx="3809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</a:rPr>
              <a:t>troseční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ostrov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dobrodružné </a:t>
            </a: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</a:rPr>
              <a:t>román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</a:rPr>
              <a:t>anglická literatur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</a:rPr>
              <a:t>18. století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4267080"/>
            <a:ext cx="5867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a =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 = 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 = a / b = 2 / 8 = 0,25 = 25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B68F-0504-49F6-A182-94BFA944AAF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Konzistence indexace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ýpočet II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íce než dva indexátoř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C = průměr konzistenčních pár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154-4049-48DF-92A8-A106FDE469D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Konzistence indexace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2210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námořníc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ztroskot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Robinson Cruso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12952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Příklad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1905120"/>
            <a:ext cx="2666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trosečníc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anglická literat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18. stolet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4724280"/>
            <a:ext cx="7696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Tahoma"/>
              </a:rPr>
              <a:t>1,2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 = 2 / 8 = 0,25 = 25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Tahoma"/>
              </a:rPr>
              <a:t>1,3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 = 5 / 7 = 0,71 = 71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Tahoma"/>
              </a:rPr>
              <a:t>2,3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 = 3 / 9 = 0,33 = 33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 = (0,25+0,71+0,33)/3 = 0,43 = 43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91320" y="1981080"/>
            <a:ext cx="2971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 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námořníc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ztroskotán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Robinson Cruso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Páte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anglická literat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132-56C5-43E3-9A1A-19B1081C3156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7-05-15T00:37:30Z</dcterms:modified>
  <cp:revision>122</cp:revision>
  <dc:subject/>
  <dc:title>Selekční jazyky</dc:title>
</cp:coreProperties>
</file>