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4FF-A893-4458-90EC-1A1F6F04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F33-223C-479C-BBC3-33F16280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9E0-497E-4497-B4DA-36785DFF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54D-839C-417E-A0F0-755BA691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5EB8-A9B4-41D5-A9B6-63281396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C840-585D-4358-9513-3FCE17A1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92AA-AF4B-4A3D-873B-8BCFB308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5543-A289-4CA4-86DE-B53AEE34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538F-FC93-45CF-9129-BFC58B2E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0E93-3F8B-42B8-B1DF-BCEBF030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72C8-614E-4961-97B3-F42F521F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1B4-E34C-419F-8A15-3E67AB2D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EFDB-4C77-4E5A-BD38-C4D0039D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641A-8E5A-459A-BA3F-5022B33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1772-CAFF-4E8B-AA32-4773CD47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CD2C-EE56-4407-B8A8-D8B3566D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D87C-3263-4571-AF3A-B86B07E3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612-BE74-4CEC-95C3-601A8E4F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BDC-425B-4E05-8D92-83B5C963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B17-2492-4E60-A058-6578EF3E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EA8-75F5-40E1-8A46-2A827A4E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94A-7E86-485D-AAAA-60928525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55C-56FB-4A33-89C7-727DCCE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58E-C417-40AC-8712-6A1E24E1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4B9B-1F2C-4381-9179-9C376DA35A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B229-5C17-4C84-8D4D-9EF72BF1589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karos.cz/node/3986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ikaros.cz/node/3986" TargetMode="External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b.cas.cz/www/cz/frame_knihovna.HTML" TargetMode="External"/><Relationship Id="rId3" Type="http://schemas.openxmlformats.org/officeDocument/2006/relationships/hyperlink" Target="http://www4.infotrieve.com/newmedline/search.asp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hyperlink" Target="http://www.scirus.com/" TargetMode="External"/><Relationship Id="rId6" Type="http://schemas.openxmlformats.org/officeDocument/2006/relationships/hyperlink" Target="http://www.lib.cas.cz/www/cz/frame_knihovna.HTML" TargetMode="External"/><Relationship Id="rId7" Type="http://schemas.openxmlformats.org/officeDocument/2006/relationships/hyperlink" Target="http://www4.infotrieve.com/newmedline/adv_search.asp" TargetMode="External"/><Relationship Id="rId8" Type="http://schemas.openxmlformats.org/officeDocument/2006/relationships/hyperlink" Target="http://www.google.cz/advanced_search?hl=cs" TargetMode="External"/><Relationship Id="rId9" Type="http://schemas.openxmlformats.org/officeDocument/2006/relationships/hyperlink" Target="http://www.scirus.com/srsapp/advanced/index.jsp" TargetMode="External"/><Relationship Id="rId10" Type="http://schemas.openxmlformats.org/officeDocument/2006/relationships/hyperlink" Target="http://www.lib.cas.cz/www/cz/frame_knihovna.HTML" TargetMode="External"/><Relationship Id="rId11" Type="http://schemas.openxmlformats.org/officeDocument/2006/relationships/hyperlink" Target="http://www4.infotrieve.com/newmedline/search.asp" TargetMode="External"/><Relationship Id="rId12" Type="http://schemas.openxmlformats.org/officeDocument/2006/relationships/hyperlink" Target="http://www.psp.cz/rapid/aRL/main.php?language=czech&amp;ictx=par" TargetMode="External"/><Relationship Id="rId13" Type="http://schemas.openxmlformats.org/officeDocument/2006/relationships/hyperlink" Target="http://df.stk.cz/cgi-bin/dflex/CZE/STK/FIND2" TargetMode="External"/><Relationship Id="rId14" Type="http://schemas.openxmlformats.org/officeDocument/2006/relationships/hyperlink" Target="http://www.ff.cuni.cz/tinweb/tw" TargetMode="External"/><Relationship Id="rId15" Type="http://schemas.openxmlformats.org/officeDocument/2006/relationships/hyperlink" Target="http://tinweb.upm.cz/" TargetMode="External"/><Relationship Id="rId16" Type="http://schemas.openxmlformats.org/officeDocument/2006/relationships/hyperlink" Target="http://www.psp.cz/eknih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ev/evquery.sqw?snt=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2 (kombinovaní) – 11.5.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6/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valita vs konzistence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tah kvality a konzistence není bezprostřed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nzistentní indexace neznamená kvalitní indexac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valitní indexace zahrnuje i konzistentní indexac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nzistence indexace zlepšuje efektivitu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 hlediska správy databáze je konzistence kvalito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478-D484-47C0-AA86-703CB681226B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aktory ovlivňující indexac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á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j.: zkušenost a znalost SJ, znalost oboru, porozumění textu, systematické myšlení, racionální čt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ubj.: soustř., pečlivost, nálada, únava, motiv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ta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okument/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r, struktura, délka, styl, žánr, pomocný aparát,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covní podmín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c. doba, produktivita práce, prac. prostředí, technické prostřed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42D-0D11-4084-908B-BCC6EEAC61C8}" type="slidenum">
              <a:t>11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ontrola a hodnocení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procesu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rovnání s obsahem databáz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automatické procedury: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ODESCHINI, C., FARRELL, M.P. An expert system for quality control in bibliographic databases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Journal of the American Society for Information Science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, 1989, roč. 40, č. 1, s. 1-11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uperviz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rávnost a úplnost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ěcná i formální správnost přiřazených pořádacích znak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indexační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 chyb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indexační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 experim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i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levance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lnost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recall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a přesnost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precision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165-4F9C-4F04-9EB1-258CCF18CC8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evance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(recall) 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čet vyhledaných relevantních dokumentů / počet všech relevant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snost (precision) 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čet vyhledaných relevantních dokumentů / počet všech vyhledaný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měr mezi úplností a přesnos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6f89f7"/>
                </a:solidFill>
                <a:uFillTx/>
                <a:latin typeface="Wingdings 3"/>
                <a:ea typeface="Wingdings 3"/>
                <a:hlinkClick r:id="rId4" action="ppaction://hlinksldjump"/>
              </a:rPr>
              <a:t>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156-2283-4468-A8E0-07ED3EB92F5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ční chyb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: kontrola indexace UK-ETF 1998-9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iz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padová stud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jčastější typy chy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pominutí hledisek (18,6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esprávné stanovení významu nebo rozsahu deskriptoru (12,3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ybějící jednotlivé deskriptory (11,5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y chyb podle ovlivnění úplnost a přesn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mplexní chyby snižující úplnost (23,4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ílčí chyby snižující úplnost (22,1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ílčí chyby snižující úplnost i přesnost (14,9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603-6C8D-4425-8735-ADF04069B960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ční chyby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chyb podle fáz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obsahová analýza (18,1%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droj chyb: indexá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identifikace pojmů (42,3%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droj chyb: indexační pravidla, indexá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jčastěji: opominutí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výběr deskriptorů z tezauru (20,8%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droj chyb: indexátor, indexační pravidla,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 3"/>
                <a:ea typeface="Wingdings 3"/>
                <a:hlinkClick r:id="rId2" action="ppaction://hlinksldjump"/>
              </a:rPr>
              <a:t>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6B1-B278-4E03-882D-B69062B9FDA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ční experimen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rovnávání různých typů selekčních jazyk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dexace vzorku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vnání formou rešeršních dot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onzistence indexátor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imentální příst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va nebo více indexátor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orek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pretace výsledk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případová studi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Wingdings 3"/>
                <a:ea typeface="Wingdings 3"/>
                <a:hlinkClick r:id="rId9" action="ppaction://hlinksldjump"/>
              </a:rPr>
              <a:t>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FCA-8F7E-4C10-985C-67B5455B4A0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yužití hodnocení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á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odnocení prá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a lexika n.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a poznámek o rozsah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ormul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042-DCF4-4461-8E24-4398DA1198B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FF U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BD8-EEDE-4DC4-B79F-11A62BE5013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andardizace a harmonizace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ícejazyčn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AAA-5DE1-4873-B87F-0BB5849C236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23B-147D-444E-8F59-C8F575AC024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CC9-9C50-4B45-A235-003916287656}" type="slidenum">
              <a:t>21</a:t>
            </a:fld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7D1-C7A5-4378-8B8F-70EC84DB8AF6}" type="slidenum">
              <a:t>22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AD3-703F-43EF-9DF2-944FB3C4F916}" type="slidenum">
              <a:t>23</a:t>
            </a:fld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519-35CE-462C-8D02-DC383CB786A8}" type="slidenum">
              <a:t>24</a:t>
            </a:fld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AAE-DAE0-48F4-9307-8632161E844C}" type="slidenum">
              <a:t>25</a:t>
            </a:fld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BEE-5C2B-4207-A747-3BFF4F538055}" type="slidenum">
              <a:t>26</a:t>
            </a:fld>
          </a:p>
        </p:txBody>
      </p:sp>
    </p:spTree>
  </p:cSld>
  <p:transition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5C5-240C-4944-A310-38D420C74AF0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1D1-0DCC-4609-89C0-37BFA96CA159}" type="slidenum">
              <a:t>28</a:t>
            </a:fld>
          </a:p>
        </p:txBody>
      </p:sp>
    </p:spTree>
  </p:cSld>
  <p:transition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1E7-5FD5-4A5B-AD7C-44020B67202C}" type="slidenum">
              <a:t>29</a:t>
            </a:fld>
          </a:p>
        </p:txBody>
      </p:sp>
    </p:spTree>
  </p:cSld>
  <p:transition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D60-83C6-441B-A15B-E107973018F1}" type="slidenum">
              <a:t>30</a:t>
            </a:fld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E6C-80EB-4CB1-97DD-CACB18F054F8}" type="slidenum">
              <a:t>31</a:t>
            </a:fld>
          </a:p>
        </p:txBody>
      </p: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E35-C1C7-45BB-BB38-5198186806F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766-B473-4F4B-9882-7424DB92B8B3}" type="slidenum">
              <a:t>34</a:t>
            </a:fld>
          </a:p>
        </p:txBody>
      </p:sp>
    </p:spTree>
  </p:cSld>
  <p:transition>
    <p:zoom dir="ou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CF6-5F2C-4ED7-A4DD-1E7B2093890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9EC-E063-490B-AEAE-4527564AD0A3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CCC-7D93-480D-B3EF-CA66178BC717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F88-AA1D-459D-849C-C465876764E9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2FC-DBD5-4F62-9B6D-E5CAFA34E57B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valita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LAN03, kap. Quality of Index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ní indexace – taková indexace, která zajistí (ne)vyhledání dokumentu v rámci konkrétního informačního systém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de o relativní hodno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čel a zaměření informačního systém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třeby a požadavky uživatel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lze hodnotit kvantitativními metodam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ry ovlivňující kvalitu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BAA-DAC3-4BE4-AB0A-4C5B2356CAB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154-8B51-4C58-B648-36DC4FBEF07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AB2-2AF3-4636-A681-3D98DB4C3EB2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378-2D2C-43AB-B102-05F92C23E177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D2E-BEE1-4D1B-A814-8DA06A2459F5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024-A934-406C-A555-130D5678D8FD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73D-D468-4057-94D9-907BFE36D465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5C4-2E22-45FF-A353-F12370F5CF38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990-FF80-40C0-928E-2FDE12B90958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E82-3AC9-4904-879B-D4E2E7F79B2E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onzistence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N03, Consistency of Index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shody dvou nebo více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konzist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 indexátory (interindexer consistenc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hoda indexace mezi dvěma nebo více indexá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a (intraindexer consistenc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zistence indexace jednoho indexáto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onzistence z hlediska hloubk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zistence pořádacích znaků vyjadřujících hlavní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zistence pořádacích znaků vyjadřujících vedlejší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2F2-11BD-438D-A13F-6780F7CA094C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638-042E-4025-A65E-4FD2C197CE24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BC3-5951-4409-B4EB-EA5B948E2F7E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8EB-1625-4011-9ED0-F8E0D35F74F5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030-D4F9-47C7-9035-0ED5E610C088}" type="slidenum">
              <a:t>54</a:t>
            </a:fld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247-6238-4ABB-8895-9DF2F50E6B96}" type="slidenum">
              <a:t>55</a:t>
            </a:fld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82B-15F9-4273-8051-5E4CE1B41FB4}" type="slidenum">
              <a:t>56</a:t>
            </a:fld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6D9-C71A-47E9-BD4D-B23EBB355299}" type="slidenum">
              <a:t>57</a:t>
            </a:fld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B86-C85A-43E9-A00E-3BA08E3A5C15}" type="slidenum">
              <a:t>58</a:t>
            </a:fld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3B2-6CC3-446A-90E2-C6EE0E221E6C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ýpočet I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vojice indexátorů 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zv. konzistenční pár 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consistency pair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C = a /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= počet pořádacích znaků, které shodně zvolili oba indexátoř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= celkový počet přidělených jedinečných pořádacích znak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4B0-1BC1-4062-AADA-C7D08E84B4BD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0DA-F7A8-4DAC-9E4A-167AD8238F9F}" type="slidenum">
              <a:t>60</a:t>
            </a:fld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F40-32BC-4536-840D-C555CC93E605}" type="slidenum">
              <a:t>61</a:t>
            </a:fld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D09-A824-42AA-8B86-AEB0A5D82F9C}" type="slidenum">
              <a:t>62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810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  <a:ea typeface="Arial"/>
              </a:rPr>
              <a:t>námořn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  <a:ea typeface="Arial"/>
              </a:rPr>
              <a:t>ztroskot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  <a:ea typeface="Arial"/>
              </a:rPr>
              <a:t>Robinson Cruso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1905120"/>
            <a:ext cx="3809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</a:rPr>
              <a:t>troseční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</a:rPr>
              <a:t>anglická literatur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</a:rPr>
              <a:t>18. století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426708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 =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 = 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 = a / b = 2 / 8 = 0,25 = 25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696-DCC1-4B6B-956D-A3D6F494909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ýpočet II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 než dva indexátoř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C = průměr konzistenčních pár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767-9853-405E-B284-089149B0CDC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2210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1905120"/>
            <a:ext cx="2666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trosečníc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18. stolet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47242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Tahoma"/>
              </a:rPr>
              <a:t>1,2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= 2 / 8 = 0,25 = 25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Tahoma"/>
              </a:rPr>
              <a:t>1,3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= 5 / 7 = 0,71 = 71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Tahoma"/>
              </a:rPr>
              <a:t>2,3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= 3 / 9 = 0,33 = 33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 = (0,25+0,71+0,33)/3 = 0,43 = 43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1981080"/>
            <a:ext cx="2971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Páte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6D0-8F01-45AD-AFDF-99CE28994E4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5-15T00:37:30Z</dcterms:modified>
  <cp:revision>122</cp:revision>
  <dc:subject/>
  <dc:title>Selekční jazyky</dc:title>
</cp:coreProperties>
</file>