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819B-2051-4232-8714-D40839AB4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0B57-EF36-4E77-9388-D9F857A09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E433-636F-47DD-85FE-82B1281D9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16ED-698C-4BAB-9455-D15CEC28A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13BE-356B-4E9F-991F-E92C5A9F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7FCC-CC4F-4940-960E-CD4D6D799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CA3E-C195-4DFE-9E3B-2DC064A81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C772-F2BE-4430-A0B6-EE5C45F0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CF40-5CFE-4A59-9F68-D0A7C592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0B17-57A4-4A2F-8AE8-F4BA1E9A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4BD8-5A26-4074-91B8-7C423578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C5F2-1537-419E-B721-E9EE3281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9DB4A-9FE5-4EBE-B1A6-C083A50648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87400"/>
          <a:ext cx="7769520" cy="5083200"/>
        </p:xfrm>
        <a:graphic>
          <a:graphicData uri="http://schemas.openxmlformats.org/drawingml/2006/table">
            <a:tbl>
              <a:tblPr/>
              <a:tblGrid>
                <a:gridCol w="3884760"/>
                <a:gridCol w="38847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gnitivní, poznávací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řeby v dané kategorii produk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vědomí o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nalost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ektivní, emocionální a smyslov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city vyvolané reklam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 reklam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liba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zor na znač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kojenost se značk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nativní, behaviorál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zámě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akovaný 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ajalita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0:50Z</dcterms:created>
  <dc:creator>kozakova</dc:creator>
  <dc:description/>
  <dc:language>en-US</dc:language>
  <cp:lastModifiedBy>kozakova</cp:lastModifiedBy>
  <dcterms:modified xsi:type="dcterms:W3CDTF">2005-12-05T12:11:04Z</dcterms:modified>
  <cp:revision>1</cp:revision>
  <dc:subject/>
  <dc:title>Prezentace aplikace PowerPoint</dc:title>
</cp:coreProperties>
</file>