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70AD-FAFD-4BE0-B43A-80758C4B0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43B6-6889-4FE3-B14B-B7340525C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4952-7F8E-49A9-81A3-C02AE7C84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0F62-F693-4101-A1DF-601570F96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F272-4184-4485-B6A1-852345CBC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271B-8BA0-4BDF-A77D-6F16D9A15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5094-642E-4361-A6CA-06B4C90D2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AC45-5080-49C3-9B01-86884C6BA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C268-ACFD-4977-BC3B-9ACC89D16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7DF4-F798-47C7-AC69-77504A5B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DA22-2459-4745-B92B-8E391291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FD6C-F2A5-4A42-AE72-3CE336EC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9C469-2BEC-4372-9492-A4E4889E28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68320"/>
          <a:ext cx="7769520" cy="5122800"/>
        </p:xfrm>
        <a:graphic>
          <a:graphicData uri="http://schemas.openxmlformats.org/drawingml/2006/table">
            <a:tbl>
              <a:tblPr/>
              <a:tblGrid>
                <a:gridCol w="1295640"/>
                <a:gridCol w="1293840"/>
                <a:gridCol w="1295280"/>
                <a:gridCol w="1295280"/>
                <a:gridCol w="1293840"/>
                <a:gridCol w="1295640"/>
              </a:tblGrid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en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ální zákazní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anční institu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dsta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elé komuni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měst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n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neř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ktivní účastní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 na ak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V, rozhlas, čtenář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2:25Z</dcterms:created>
  <dc:creator>kozakova</dc:creator>
  <dc:description/>
  <dc:language>en-US</dc:language>
  <cp:lastModifiedBy>kozakova</cp:lastModifiedBy>
  <dcterms:modified xsi:type="dcterms:W3CDTF">2005-12-05T12:12:49Z</dcterms:modified>
  <cp:revision>1</cp:revision>
  <dc:subject/>
  <dc:title>Prezentace aplikace PowerPoint</dc:title>
</cp:coreProperties>
</file>