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6847A-91A2-4B77-96A7-81B82EC6B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7D6F2-3263-407F-BD9D-51891CF54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7C9F1-AC91-459D-BA4B-FBB3B276A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B9414-5A66-406E-8432-FFC05948F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73C88-2106-4816-82AD-38AF9C2E9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24071-2BC4-43D7-981B-C66FA384F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7206D-2F5D-4509-9922-5F1A30DDF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EDCA1-46FE-4D61-B2CC-D307CF1AF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2EF12-1543-481D-AF24-3C29A3B81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C9DA5-A6E4-4325-8119-D92C8401E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1FF75-4509-4912-8E5B-D9A8D06F2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E072F-951C-40BB-9B3F-0D1A43155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09429-8EBC-4B25-A249-1EA11F891D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87240" y="887400"/>
          <a:ext cx="7769520" cy="5083200"/>
        </p:xfrm>
        <a:graphic>
          <a:graphicData uri="http://schemas.openxmlformats.org/drawingml/2006/table">
            <a:tbl>
              <a:tblPr/>
              <a:tblGrid>
                <a:gridCol w="3884760"/>
                <a:gridCol w="3884760"/>
              </a:tblGrid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gnitivní, poznávací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třeby v dané kategorii produkt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vědomí o znač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nalost značk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fektivní, emocionální a smyslov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city vyvolané reklamo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stoj k reklamě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bliba značk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stoj ke znač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ázor na značk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pokojenost se značko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9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nativní, behavioráln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ákupní zámě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áku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pakovaný náku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ajalita ke znač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5T12:10:50Z</dcterms:created>
  <dc:creator>kozakova</dc:creator>
  <dc:description/>
  <dc:language>en-US</dc:language>
  <cp:lastModifiedBy>kozakova</cp:lastModifiedBy>
  <dcterms:modified xsi:type="dcterms:W3CDTF">2005-12-05T12:11:04Z</dcterms:modified>
  <cp:revision>1</cp:revision>
  <dc:subject/>
  <dc:title>Prezentace aplikace PowerPoint</dc:title>
</cp:coreProperties>
</file>