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F287-40F0-4B44-9659-3F3C84018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8C5A-608D-4827-B520-37ECB5BE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FECE-98D4-47C8-90F8-9C90DBA20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DCE4-8C52-4FFA-9532-975FD7D31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B9BA-B3F3-40CC-ADD5-35DC858C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C0DA-DD27-45F0-965A-4F584B9C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0EC2-0CD2-47D5-9E28-95ACED84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5272-7096-4C8A-A2AE-DEE03C77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E680-88BC-49E3-AB7A-CC750517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D408-E165-43CE-B84F-C4D2A0E6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2CA5-41B7-4F5B-9D8F-74550E4A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EB60-D0B6-4D75-B494-DAB75E65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B18E-480E-4C71-9DAD-803D9B382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. Poziční mapa hotelových služ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14600"/>
            <a:ext cx="60199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2670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581280"/>
            <a:ext cx="1295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971800"/>
            <a:ext cx="12952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320" y="3614760"/>
            <a:ext cx="20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roveň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2280" y="24717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9280" y="47577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6840" y="54435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54100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0720" y="57484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 kvalita hotelov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7670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zion Sla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1575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Ber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47176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Intercontin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07:55Z</dcterms:created>
  <dc:creator>simona</dc:creator>
  <dc:description/>
  <dc:language>en-US</dc:language>
  <cp:lastModifiedBy>simona</cp:lastModifiedBy>
  <dcterms:modified xsi:type="dcterms:W3CDTF">2005-11-28T13:08:10Z</dcterms:modified>
  <cp:revision>1</cp:revision>
  <dc:subject/>
  <dc:title>Př. Poziční mapa hotelových služeb</dc:title>
</cp:coreProperties>
</file>