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7D5C-789A-44E6-A44D-C20500FE2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3C5A-D455-4840-802D-BF6689A83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A68D-E1E0-4DAE-A51E-52216CADF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90FC-9030-44E8-BF4D-425814ED3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5E5F-2E00-4D47-98A3-3A69405FB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37B7-8A8D-4262-A02F-127C7D78D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D260-6998-435D-AB6D-C51E7EEA5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CAFB-8A38-4DE9-85B7-2293DC1BA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0ABE-6383-42A4-8481-594F685FF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5B07-A9F7-4B8F-AE75-55F3FFFE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D41A-ACB9-46BE-BCC5-ACCC48AF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DE5A-4D08-4D33-8C6F-A87BF7D1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0CC71-578E-406E-B50E-84A18BA6C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. Poziční mapa hotelových služ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2514600"/>
            <a:ext cx="601992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267080"/>
            <a:ext cx="13716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3581280"/>
            <a:ext cx="12952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2971800"/>
            <a:ext cx="129528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6320" y="3614760"/>
            <a:ext cx="201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úroveň c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2280" y="247176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9280" y="47577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66840" y="54435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18480" y="5410080"/>
            <a:ext cx="16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80720" y="574848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 kvalita hotelových služ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3767040"/>
            <a:ext cx="24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zion Sla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315756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Berá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2471760"/>
            <a:ext cx="33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Intercontin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3:07:55Z</dcterms:created>
  <dc:creator>simona</dc:creator>
  <dc:description/>
  <dc:language>en-US</dc:language>
  <cp:lastModifiedBy>simona</cp:lastModifiedBy>
  <dcterms:modified xsi:type="dcterms:W3CDTF">2005-11-28T13:08:10Z</dcterms:modified>
  <cp:revision>1</cp:revision>
  <dc:subject/>
  <dc:title>Př. Poziční mapa hotelových služeb</dc:title>
</cp:coreProperties>
</file>