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CF70A-7732-4D1E-BA34-BAB9A7FAC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84D5F-46AD-461E-BB1F-03ECC529B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088E9-0F49-436E-9E3B-0104BF1F7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02001-77B0-4152-9017-7A8A96469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2C7BE-0170-4637-B005-83076996A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05414-8DD8-4E60-8C2E-1CEBF5B47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E7BCD-81F8-4BCB-BE23-3735D5029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B7B7B-1B76-4651-BD19-0B6F40524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C6FE3-C078-4124-AB52-DA3FC8B3E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C8C22-8DC9-4B85-9EB9-584BEBD67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2EA53-40BB-4D93-B13B-C98C39927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BC04A-7188-45CC-862B-27703DA05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DEFAD-89E9-4B9B-82A9-EA1A8420C3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334120" y="2590920"/>
            <a:ext cx="0" cy="297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895480" y="4114800"/>
            <a:ext cx="4953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3200400"/>
            <a:ext cx="1752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empo růstu trh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09680" y="6248520"/>
            <a:ext cx="886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lativní podíl organizace na trhu potře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38080" y="2860560"/>
            <a:ext cx="128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ysok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45370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ízk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66880" y="2514600"/>
            <a:ext cx="243864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věz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írně pozitivní nebo negativní tok peněz. Rostoucí zis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486400" y="2438280"/>
            <a:ext cx="327672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tazníky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blémové dě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ýrazně negativní tok peněz. Nízký zis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66880" y="4191120"/>
            <a:ext cx="236232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Dojné) kráv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ýrazně pozitivní tok peněz. Nejvyšší zis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6400" y="4191120"/>
            <a:ext cx="335268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írně pozitivní nebo negativní tok peněz.Nejnižší zis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195640" y="5756400"/>
            <a:ext cx="106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ysok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53080" y="57564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ízk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41760" y="5519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057040" y="5791320"/>
            <a:ext cx="6248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952880" y="590076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1828800" y="2438280"/>
            <a:ext cx="0" cy="320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838160" y="3767040"/>
            <a:ext cx="86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 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8T12:56:43Z</dcterms:created>
  <dc:creator>simona</dc:creator>
  <dc:description/>
  <dc:language>en-US</dc:language>
  <cp:lastModifiedBy>simona</cp:lastModifiedBy>
  <dcterms:modified xsi:type="dcterms:W3CDTF">2005-11-28T12:57:08Z</dcterms:modified>
  <cp:revision>1</cp:revision>
  <dc:subject/>
  <dc:title>.</dc:title>
</cp:coreProperties>
</file>