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40D-7CF6-48B0-9807-7C03B11D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C4B-5A5C-4DF2-AC50-5BEA633C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4F8-47C8-4D72-9916-67B73885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7CB-F431-487D-903D-391900A6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BCF0-AACD-4C83-9037-E6E85C3F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CC79-E439-44E6-90A7-4B030A47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974B-9D7E-40CA-9AE7-C09783EE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0A9B-D08E-40B9-8ED8-410E06E8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A24F-F832-4533-9A92-D7F13C9A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F526-B52E-43E2-A7FA-515DE05A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1BBB-ABE7-43FF-A24E-F3617229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465-9CF0-4B35-AB8D-62A0E75B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8245-CEA0-4F84-99C7-BFC2511E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B40F-4899-48B7-8E9F-72BE9AA0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C9F5-3AF6-42C4-9576-F0B35A66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F2D9-7B6A-4CE6-971A-230BF566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14CA-353F-41C2-BB36-C997187B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D2D-309D-4A96-AB3C-FEB3ABBB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0A7-E118-4844-9C6D-69F3D80D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31F-A92C-4BF4-ADD3-C55FFD14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A1A-6BFC-4C57-BAE7-043F2DF2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CB7-7776-452F-9AF1-5D867602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89E-FE25-4BA5-964E-3F1EB784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B22-11EA-4C91-8892-3802F1F6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8E6F-BC69-4E18-8F5A-EACA09D446D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F155-5567-4CA5-8BDE-4DA27E37274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lsi.research.telcordia.com/lsi-bin/lsiQuery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file:///POJIST.doc" TargetMode="External"/><Relationship Id="rId4" Type="http://schemas.openxmlformats.org/officeDocument/2006/relationships/hyperlink" Target="http://full.nkp.cz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text/dotaz2.sqw?search=1&amp;od=2002&amp;do=dnes" TargetMode="Externa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786800" cy="9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oučasné trendy v selekčních jazycích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0458c"/>
                </a:solidFill>
                <a:latin typeface="Tahoma"/>
              </a:rPr>
              <a:t>Přednáška č. 2 (16.3.2007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jaro 2006/200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 - příkl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7 AND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5 AND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AND CASLIN/0 AND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7 OR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5 OR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OR CASLIN/0 OR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A6E-9FDE-4690-8BAB-728D130600C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ometrické rozšíř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kument jako bod v prosto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čet rozměrů prostoru = počet klíčových slov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ážení výrazů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668-F156-4461-8DDF-22E958C2652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ometrické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Baeza-Yates, Ribeiro-Neto. Modern information retrieval, s. 39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43F-F251-4EF8-813D-99FF7EC471B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rovnání booleovského modelu a jeho rozšíření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Rauch. Metody zpracování informací II. Ukládání a vyhledávání, s. 5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04920" y="2652840"/>
            <a:ext cx="88390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87B-7C0F-4FED-9F73-46CF5797EA2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okument i dotaz se chápou jako vektory v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n-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měrném prostor (n je počet jedinečných výrazů ve všech dokumentec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ky vektoru: směr, orientace, velik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ložky vektorů jsou určovány výrazy a jejich vaha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í vektorového počtu se měří stupeň podobnosti mezi dotazem a dokumen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sinová míra, Diceova míra podobnosti 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427-2395-4645-BC84-402D615A5D4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0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24480" cy="42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BBA-D37B-4A8D-A926-60BF9D77817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hledává i částečně relevantní 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azení dokumentů podle relevance (stupně podobnost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ikace dotazu na základě vyhledaných relevantních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954-2BC2-47D0-9231-FE2A18B0104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ní jasná interpretace vah výrazů v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orce pro měření podobnosti nejsou teoreticky zdůvodněn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eficient podobnosti nemá jasný význ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lze užít logické operátory (AND, OR, NO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6E9-7048-42C5-A1E3-B346C123722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ování latentní sémanti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charakteris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atisticko-matematické metod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lký objem databáz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ákladem matice dokument-výraz (klíčové slovo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singulární dekompozice matice (redukce původní matice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matice pojem-pseudodokument (odhalení vztahu mezi souvisejícími výrazy a zjištění podobných dokument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relativně nová metoda (1988), účinnost se testu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jmové vyhledávání (vyhledají se i dokument obsahující výrazy, která nebyly zadány do dotazu, ale přitom jsou sémanticky blízké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řazení dle relev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toda nezávislá na jazy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ýpočetní náro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řík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57F-6D98-4CEF-8CAD-EB664E84275F}" type="slidenum">
              <a:t>18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nešní 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ely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AB3-BDC9-407E-92BB-1B25A66C4076}" type="slidenum">
              <a:t>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ý 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ektorov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dexování latentní sémantiky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tent semantic indexing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iteratu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Rauch, J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Metody zpracování informací II. Ukládání a vyhledávání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VŠE, 199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Pokorný, J., Snášel. V., Húsek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Dokumentografické informační systémy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Karolinum,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AEZA-YATES, R., RIBEIRO-NETO, B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odern information retriev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New York : Addison-Wesley, 1999.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E16-24C2-4A4B-893A-5CD4F03347B2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etické základy (booleovská logika/algebra): 50. léta 20. stole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ogické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ND, OR, NOT, X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AND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NOT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X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šiřování (zkracování) výr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katalog*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le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*komunistický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vnitřní rozšíření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filo?of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íření o více znaků (*), jeden znak (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ta, odstavec, určitý počet slov (zaleží/nezáleží na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F09-2175-4371-B22F-43D15AFFBE5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asná formaliz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dnoduch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ychl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ující 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úplnost,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užití klíčových slo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ncipiální možnosti logických spoj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strost“ – relevantní n. nerelevantní (nikoliv částečně relevantní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perátor ACCRUE – systém TOPIC (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 + 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aplikace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riment STAIRS (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ávní texty, 40 000 dokument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1 požadavků, požadovaná úplnost: 75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sažená úplnost: 20% (přesnost 80%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8E7-2260-4D7B-A46B-24C7A22A4D4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ážení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tazu (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í pomocí fuzzy logiky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"/>
                <a:ea typeface="Wingdings"/>
                <a:hlinkClick r:id="rId4" action="ppaction://hlinksldjump"/>
              </a:rPr>
              <a:t>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i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ace principu vágnosti (schopnost přirozeného jazyka funkčně používa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ágní pojm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EC2-6F41-45E8-9632-8449ED2D414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logi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á logika: 0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1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(nepravd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av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fuzzy logika: pravdivost dána množinou hodnot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ntervalu &lt;0,1&gt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peň příslušnosti prvku do množ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0A5-AE25-4C64-A078-2E707B4D59B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množ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5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1444680"/>
            <a:ext cx="6934320" cy="50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967-512F-488F-97CB-FA5EE3BB3EC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vky fuzzy množiny jsou výrazy použité pr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příslušnosti se určuje jako váha výrazu v dokumen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ůzné modely pro výpočet podobnosti dokumentu a dotaz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C7F-2E4E-42DB-B7C2-AD9F4EAC1A7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3-20T06:58:04Z</dcterms:modified>
  <cp:revision>338</cp:revision>
  <dc:subject/>
  <dc:title>Selekční jazyky</dc:title>
</cp:coreProperties>
</file>