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E3A-BAB9-434B-82F4-A629BFCC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307-1D48-415A-91E5-38AD9866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0F2-7566-4C99-85D5-85865525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785-255E-4425-8321-0311EBE2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C5E5-698B-4635-AC12-BC2F7370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88CD-8DD3-4177-A7EC-022CB7AB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00BF-3FF3-4C48-BDF7-36C601CA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7E8B-057F-4B02-8F46-0E2DB95F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27F8-E000-4606-9536-AAFA169F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7D62-D753-4495-A12F-16001E1A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0695-6873-44FD-9D26-80EFA3F5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5B0-9F08-4EEE-B925-08BA887B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FF26-B44D-431B-B042-B884EE72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814C-F5C8-48FA-8A16-647C6CD5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9778-35BA-4116-BD1A-BC85AB00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2D7D-F512-4CCF-A6FF-72A02F45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A273-2C6D-450E-BE63-E8A5F8A9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97B-A104-422A-8CF8-90E13663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C1E-07CB-4A28-92AE-B3A2CF0C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C86-3063-4D7E-B23C-CC37B246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B16-2DA9-4665-A0E7-18143A32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BB2-AF55-48E6-A7BD-B4CA2E24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DEF-82B3-4C0C-8823-06F31AD9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A10-C510-46B6-B409-71970439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4068-7E27-4675-8AE9-B703B2BEF8B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E86F-D1EF-43C1-BE3F-C54B769AF07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lsi.research.telcordia.com/lsi-bin/lsiQuery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POJIST.doc" TargetMode="External"/><Relationship Id="rId4" Type="http://schemas.openxmlformats.org/officeDocument/2006/relationships/hyperlink" Target="http://full.nkp.cz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sqw/text/dotaz2.sqw?search=1&amp;od=2002&amp;do=dnes" TargetMode="Externa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844640"/>
            <a:ext cx="77868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oučasné trendy v selekčních jazycích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200400"/>
            <a:ext cx="67816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40458c"/>
                </a:solidFill>
                <a:latin typeface="Tahoma"/>
              </a:rPr>
              <a:t>Přednáška č. 2 (16.3.2007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jaro 2006/200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 - příkl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7 AND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5 AND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AND CASLIN/0 AND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7 OR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5 OR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OR CASLIN/0 OR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2E59-5210-4047-9377-241110E59E4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ometrické rozšíře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kument jako bod v prosto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čet rozměrů prostoru = počet klíčových slov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ážení výrazů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F036-717B-415A-86A4-ABF77AE7862C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ometrické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Baeza-Yates, Ribeiro-Neto. Modern information retrieval, s. 39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62940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0A7C-26E1-42BD-ADFB-5F1D008BF1E0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rovnání booleovského modelu a jeho rozšíření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Rauch. Metody zpracování informací II. Ukládání a vyhledávání, s. 5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04920" y="2652840"/>
            <a:ext cx="883908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C140-F1B8-4F45-9B90-16C7337E762A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dokument i dotaz se chápou jako vektory v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n-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měrném prostor (n je počet jedinečných výrazů ve všech dokumentech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ložky vektoru: směr, orientace, velik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ložky vektorů jsou určovány výrazy a jejich vaha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mocí vektorového počtu se měří stupeň podobnosti mezi dotazem a dokumen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sinová míra, Diceova míra podobnosti 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3B8-0958-460D-836E-2894EF78DF0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0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324480" cy="42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281-6A23-4980-BC0C-E8F2213CA1AA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yhledává i částečně relevantní dokume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azení dokumentů podle relevance (stupně podobnost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difikace dotazu na základě vyhledaných relevantních dokument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622-FF14-4DE4-A887-CECC8A9974F3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ní jasná interpretace vah výrazů v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zorce pro měření podobnosti nejsou teoreticky zdůvodněné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eficient podobnosti nemá jasný význa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lze užít logické operátory (AND, OR, NO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6C6-D096-4BAF-A97A-20F10F94EA6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ování latentní sémantik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lavní charakteristi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atisticko-matematické metod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elký objem databáz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ákladem matice dokument-výraz (klíčové slovo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singulární dekompozice matice (redukce původní matice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matice pojem-pseudodokument (odhalení vztahu mezi souvisejícími výrazy a zjištění podobných dokument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relativně nová metoda (1988), účinnost se testuj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jmové vyhledávání (vyhledají se i dokument obsahující výrazy, která nebyly zadány do dotazu, ale přitom jsou sémanticky blízké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řazení dle relev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toda nezávislá na jazy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ýpočetní náro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příkl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1F45-A734-41FC-9BF9-DCCBFCF8CA04}" type="slidenum">
              <a:t>18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nešní té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ely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D89-D60E-49EB-A368-FC8E6769D86B}" type="slidenum">
              <a:t>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del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ý 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ektorov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dexování latentní sémantiky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latent semantic indexing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iteratu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Rauch, J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Metody zpracování informací II. Ukládání a vyhledávání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VŠE, 199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Pokorný, J., Snášel. V., Húsek, D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Dokumentografické informační systémy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Karolinum, 1998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BAEZA-YATES, R., RIBEIRO-NETO, B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odern information retrieval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 New York : Addison-Wesley, 1999.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74E-BD0A-4B9E-A517-1E60F1017E22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oretické základy (booleovská logika/algebra): 50. léta 20. stolet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ogické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ND, OR, NOT, X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AND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NOT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X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šiřování (zkracování) výr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a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katalog*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le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*komunistický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vnitřní rozšíření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filo?ofi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íření o více znaků (*), jeden znak (?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ěta, odstavec, určitý počet slov (zaleží/nezáleží na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13A-A3C0-47A1-B408-9BA0409ACD86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asná formaliz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dnoduch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ychlost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mitující 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úplnost,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užití klíčových slov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incipiální možnosti logických spoj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strost“ – relevantní n. nerelevantní (nikoliv částečně relevantní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perátor ACCRUE – systém TOPIC (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</a:t>
            </a: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 + 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 aplikace</a:t>
            </a: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periment STAIRS (198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ávní texty, 40 000 dokument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51 požadavků, požadovaná úplnost: 75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sažená úplnost: 20% (přesnost 80%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01C1-DF76-47E7-A3CE-5A5BD86C60F7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ážení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tazu (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í pomocí fuzzy logiky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Wingdings"/>
                <a:ea typeface="Wingdings"/>
                <a:hlinkClick r:id="rId4" action="ppaction://hlinksldjump"/>
              </a:rPr>
              <a:t>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ali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ace principu vágnosti (schopnost přirozeného jazyka funkčně používa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ágní pojm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2E9-1EA7-46B6-8439-85BC7876E7FB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logik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á logika: 0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1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(nepravd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avd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fuzzy logika: pravdivost dána množinou hodnot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 intervalu &lt;0,1&gt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upeň příslušnosti prvku do množin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6AEE-7A91-44E9-A92B-75506FC646A1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množin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5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1444680"/>
            <a:ext cx="6934320" cy="50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085-D015-4A7A-8572-FC1BFAD2B2B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vky fuzzy množiny jsou výrazy použité pr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příslušnosti se určuje jako váha výrazu v dokument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ůzné modely pro výpočet podobnosti dokumentu a dotaz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F97-8280-497B-B760-FEBD4DB83742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7-03-20T06:58:04Z</dcterms:modified>
  <cp:revision>338</cp:revision>
  <dc:subject/>
  <dc:title>Selekční jazyky</dc:title>
</cp:coreProperties>
</file>