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EECA-BA3C-4694-B9D4-784999BA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54A-0016-4E65-BC7C-17756D17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501-1C09-4BC6-8135-AC19448C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871-1113-42D4-AF6D-DA2A2819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3E4A-13D7-4962-9239-A6B928FC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C94C-8830-4E4F-8F11-685C3489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4A0F-938D-466C-87B5-89D1840D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0E28-0C84-43F7-A72B-5036B176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8471-E673-44DB-A56F-D04D36C1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6539-856A-46F3-8A37-09B1DFA7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B42F-0949-40CD-A437-241F8C86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56D-13A5-4F5A-94DE-4742943E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74D8-55F4-4161-8DDE-64DEC743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90A8-6BB5-4523-B7F1-66775161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D698-F5AC-408E-95A0-A56DB9FD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4C93-BFFF-4728-81DA-DA7D8A15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54F0-378D-483C-8028-16A81948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F13-98F5-4B8B-A035-0FD8D8A3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939-4A76-40AC-ADE5-934C51FF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E77-0ED2-4140-BD70-4EF8C7CC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6BFE-853D-4D4E-8560-247C007B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9BDD-D5EC-44BB-8841-8EEC8570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5C4-99A0-49E4-B8C8-4EC0A9D8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77A-063C-4E69-BB70-28DCED18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0454-F828-4E09-AC94-A0758F89D2A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E8A9-1CF4-4803-83DE-D8BA6623805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lsi.research.telcordia.com/lsi-bin/lsiQuery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POJIST.doc" TargetMode="External"/><Relationship Id="rId4" Type="http://schemas.openxmlformats.org/officeDocument/2006/relationships/hyperlink" Target="http://full.nkp.cz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sqw/text/dotaz2.sqw?search=1&amp;od=2002&amp;do=dnes" TargetMode="Externa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844640"/>
            <a:ext cx="77868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oučasné trendy v selekčních jazycích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200400"/>
            <a:ext cx="678168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40458c"/>
                </a:solidFill>
                <a:latin typeface="Tahoma"/>
              </a:rPr>
              <a:t>Přednáška č. 2 (16.3.2007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jaro 2006/200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vyhledávání - příkl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1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AND CASLIN/0,7 AND sdílení/0,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2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AND CASLIN/0,5 AND sdílení/0,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3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8 AND CASLIN/0 AND sdílení/0,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1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OR CASLIN/0,7 OR sdílení/0,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2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OR CASLIN/0,5 OR sdílení/0,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3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8 OR CASLIN/0 OR sdílení/0,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F0E8-2390-4EF3-BFA8-0CC1C23A1B14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 -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ometrické rozšíře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kument jako bod v prosto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čet rozměrů prostoru = počet klíčových slov 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ážení výrazů 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B243-B705-4B7D-9BAA-1590042E34D4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ometrické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Baeza-Yates, Ribeiro-Neto. Modern information retrieval, s. 39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62940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5ED-3998-472C-BF6E-F9FBBD0ED172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rovnání booleovského modelu a jeho rozšíření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Rauch. Metody zpracování informací II. Ukládání a vyhledávání, s. 5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04920" y="2652840"/>
            <a:ext cx="8839080" cy="32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BB2-B593-49D3-825E-5BB421FDC43B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dokument i dotaz se chápou jako vektory v </a:t>
            </a:r>
            <a:r>
              <a:rPr b="0" i="1" lang="cs-CZ" sz="3200" spc="-1" strike="noStrike">
                <a:solidFill>
                  <a:srgbClr val="40458c"/>
                </a:solidFill>
                <a:latin typeface="Tahoma"/>
              </a:rPr>
              <a:t>n-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měrném prostor (n je počet jedinečných výrazů ve všech dokumentech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ložky vektoru: směr, orientace, velik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ložky vektorů jsou určovány výrazy a jejich vaham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omocí vektorového počtu se měří stupeň podobnosti mezi dotazem a dokumen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sinová míra, Diceova míra podobnosti 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DDD-C908-4D83-9DF3-9DB309CC671D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0458c"/>
                </a:solidFill>
                <a:latin typeface="Tahoma"/>
              </a:rPr>
              <a:t>Pokorný, Snášel, Húsek. Dokumentografické informační systémy, s. 90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324480" cy="42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D8A-FFD3-4D44-B629-6073E8613C2A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ýh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yhledává i částečně relevantní dokume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azení dokumentů podle relevance (stupně podobnost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difikace dotazu na základě vyhledaných relevantních dokument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D1A-B190-47FF-A015-7D18737D6686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výh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ní jasná interpretace vah výrazů v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zorce pro měření podobnosti nejsou teoreticky zdůvodněné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oeficient podobnosti nemá jasný význa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lze užít logické operátory (AND, OR, NO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18F-CD7A-4154-94D4-C057A993F68D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ování latentní sémantik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lavní charakteristi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atisticko-matematické metod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elký objem databáz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základem matice dokument-výraz (klíčové slovo) </a:t>
            </a: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singulární dekompozice matice (redukce původní matice) </a:t>
            </a: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matice pojem-pseudodokument (odhalení vztahu mezi souvisejícími výrazy a zjištění podobných dokument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relativně nová metoda (1988), účinnost se testuj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hod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jmové vyhledávání (vyhledají se i dokument obsahující výrazy, která nebyly zadány do dotazu, ale přitom jsou sémanticky blízké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řazení dle relev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toda nezávislá na jazy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výhod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ýpočetní náro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příkl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1699-C529-4578-80A8-C1E0039F0FE8}" type="slidenum">
              <a:t>18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nešní té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dely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19E1-39AC-4AAB-832C-E685FD51EA09}" type="slidenum">
              <a:t>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del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oleovsk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šířený booleovsk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ektorov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dexování latentní sémantiky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latent semantic indexing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iteratu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Rauch, J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Metody zpracování informací II. Ukládání a vyhledávání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Praha : VŠE, 1996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Pokorný, J., Snášel. V., Húsek, D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Dokumentografické informační systémy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Praha : Karolinum, 1998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BAEZA-YATES, R., RIBEIRO-NETO, B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Modern information retrieval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. New York : Addison-Wesley, 1999.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D7C-8BE7-4C6C-BF00-47D79449E212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oretické základy (booleovská logika/algebra): 50. léta 20. stolet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ogické operá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ND, OR, NOT, X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AND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OR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NOT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XOR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šiřování (zkracování) výr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avostranné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katalog*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levostranné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*komunistický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vnitřní rozšíření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filo?ofi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íření o více znaků (*), jeden znak (?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ěta, odstavec, určitý počet slov (zaleží/nezáleží na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7CF6-85B0-40C3-8B8A-FCA241C4E91C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ýho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asná formaliz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dnoduch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ychlost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mitující 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úplnost,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užití klíčových slov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incipiální možnosti logických spoj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strost“ – relevantní n. nerelevantní (nikoliv částečně relevantní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perátor ACCRUE – systém TOPIC (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íklad</a:t>
            </a:r>
            <a:r>
              <a:rPr b="0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 + 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 aplikace</a:t>
            </a:r>
            <a:r>
              <a:rPr b="0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periment STAIRS (198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ávní texty, 40 000 dokument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51 požadavků, požadovaná úplnost: 75%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sažená úplnost: 20% (přesnost 80%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EA37-B908-4DA8-8FE9-BDC732E52DAD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 -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ážení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dotazu (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šíření pomocí fuzzy logiky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Wingdings"/>
                <a:ea typeface="Wingdings"/>
                <a:hlinkClick r:id="rId4" action="ppaction://hlinksldjump"/>
              </a:rPr>
              <a:t>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ali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ace principu vágnosti (schopnost přirozeného jazyka funkčně používa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ágní pojm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BB52-413C-4832-8697-1E8CB9DB3FE7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logik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oleovská logika: 0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1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(nepravd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avd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fuzzy logika: pravdivost dána množinou hodnot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 intervalu &lt;0,1&gt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upeň příslušnosti prvku do množin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41D4-A8D1-4FFD-BD9E-848FC52D5A31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množin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Pokorný, Snášel, Húsek. Dokumentografické informační systémy, s. 95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0880" y="1444680"/>
            <a:ext cx="6934320" cy="50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8FA4-28D1-46F8-BBF8-6C505BE84FBE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vky fuzzy množiny jsou výrazy použité pro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příslušnosti se určuje jako váha výrazu v dokument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ůzné modely pro výpočet podobnosti dokumentu a dotaz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66F2-7788-42F3-A683-9AD41E1E2EBB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7-03-20T06:58:04Z</dcterms:modified>
  <cp:revision>338</cp:revision>
  <dc:subject/>
  <dc:title>Selekční jazyky</dc:title>
</cp:coreProperties>
</file>