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0C0-BDD1-42FD-93F7-8C074F97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4DC-6FB2-40B9-87BF-158C690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523-B48D-407B-A00D-73DF11C1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73E-DBA4-4556-814C-9F004617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215B-E35C-40BE-8887-394C1911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572-60C2-4C10-A94F-27AB2661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AD0-8C1C-47CD-BA68-7BC571E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2737-189F-409C-AAE3-1F98300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B26-0382-4AC2-8CCA-A6F205C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F685-80D6-4540-96F3-4B7ACD4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8AC9-80FA-40D9-8672-1A627B53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A12-99A6-442C-9197-A0DA521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57A1-CBED-4E7B-974D-77439D6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B115-688A-410E-B846-EA3E064A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37CE-E36A-4E89-BE1C-6B29817C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AFD8-773C-41F8-8083-E235462E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51A-189A-4727-8457-289915D2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102-E9F9-4D2F-B6B0-5E21A940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3DB-57E5-436F-8259-84902507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7AB-9DF9-4514-A915-94E7108D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AB0-25F3-4D6D-9700-A2067BF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9B6-AB79-477F-A014-A24A1FEC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B43-99E1-4011-BF1F-BD8A828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745-191C-4B87-A8AD-A990CF5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F98E-09CE-401D-B8F8-0512CCC505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3862-997F-41FC-A0A2-6E0B89177D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POJIST.doc" TargetMode="External"/><Relationship Id="rId4" Type="http://schemas.openxmlformats.org/officeDocument/2006/relationships/hyperlink" Target="http://full.nkp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86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učasné trendy v selekčních jazycí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2 (16.3.200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6/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0D3-741F-4401-ADB9-D01FF84E1FF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0C3-A001-4539-BB96-5275DDE48BB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728-56A0-471C-8CBB-9C1952EFAB0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E48-87FE-4126-9C2B-A8AFEBB65FC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C62-7D73-409F-832A-62377ED60D8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16D-AA51-41F5-9F78-304DAEF166E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D96-AE11-41DB-982F-CB2692EE6D7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A8E-4559-4325-9452-3BE3D983217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5D4-A389-49AE-BEE7-8BE3C9966902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B01-51C1-498E-96C3-1B40277E532E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DA0-B638-402F-8E5A-F72BCE83A78B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940-BC46-4823-A094-E4486794D50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 +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aplikace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C61-1ED0-4788-9A7D-1A63C1AB91C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  <a:hlinkClick r:id="rId4" action="ppaction://hlinksldjump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0C7-BE99-46FA-B35A-05719674C60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1A6-9C6D-4B38-BB32-1696C055FAF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A28-1822-41D8-A71C-1DAA0594086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D0F-C941-4D1F-9F1D-883E7027F27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20T06:58:04Z</dcterms:modified>
  <cp:revision>338</cp:revision>
  <dc:subject/>
  <dc:title>Selekční jazyky</dc:title>
</cp:coreProperties>
</file>