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</p:sldIdLst>
  <p:sldSz cx="9144000" cy="6858000"/>
  <p:notesSz cx="6886575" cy="100187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6886800" cy="1001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dt" idx="7"/>
          </p:nvPr>
        </p:nvSpPr>
        <p:spPr>
          <a:xfrm>
            <a:off x="3885840" y="0"/>
            <a:ext cx="29718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sldImg"/>
          </p:nvPr>
        </p:nvSpPr>
        <p:spPr>
          <a:xfrm>
            <a:off x="939960" y="761760"/>
            <a:ext cx="4978080" cy="3733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ftr" idx="8"/>
          </p:nvPr>
        </p:nvSpPr>
        <p:spPr>
          <a:xfrm>
            <a:off x="-36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6"/>
          <p:cNvSpPr>
            <a:spLocks noGrp="1"/>
          </p:cNvSpPr>
          <p:nvPr>
            <p:ph type="sldNum" idx="9"/>
          </p:nvPr>
        </p:nvSpPr>
        <p:spPr>
          <a:xfrm>
            <a:off x="3885840" y="952488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8DDC4-5D5D-417E-A23A-476AA34BCB26}" type="slidenum">
              <a:rPr b="0" lang="cs-CZ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Habáni – hutterité, toufaři, novokřtěnci, mennonit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939960" y="762120"/>
            <a:ext cx="4978080" cy="373356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914400" y="4724280"/>
            <a:ext cx="5029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Times New Roman"/>
              </a:rPr>
              <a:t>Everest – nepálsky Čomolungma (Čumulangma), nepálsky Sagarmatha, tibetsky Qomolangma feng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7EE18-5809-4002-BBC0-5354274EE2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67357-34B0-4539-BDA2-CF76007AD1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18643-88ED-4431-82DA-1403CC57E4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74DBE-4C23-4A45-99F6-8331025941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192E04-6781-4896-A0F9-5F21EBE82B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613343-4345-4B96-9EE3-9980EA74C7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61E4E7-E201-4528-A907-8647E4E7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B7DD98-078E-4BA4-B6BD-A77FB0E93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F6078F-EEC4-4F6A-97E3-C69877D94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D56676-9233-4282-9666-CF1BEFA285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16E22-5C16-47B4-A308-156808DC5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38A77-6262-43C2-9159-AD55DB415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88287-CF5E-42A0-AEDC-E9E29857B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0F960-453D-4507-BEB4-33DA707B9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CAB861-89CD-4672-8628-184BB72A5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623AB-4E3F-4152-AC1E-DD0FF5CDE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4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03155F-D343-479A-BEB1-851D3EF0CD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3221B-622A-45CB-91C8-15E27DFEA0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22E0A-D5A4-474B-8A04-B84485152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7B76C-C118-4AD5-B9D7-9CD3223B25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82838-D9E7-4098-8491-AFA8E299B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1465-C2A7-4A1F-9861-C3444D26BD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C3AA0-AC0B-4E88-AF9C-1AD556F6C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54517-E0D8-41C8-BC15-E9835FF792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2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3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5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6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7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5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7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8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401557-9203-467A-B4BA-B40A89B4311D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3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4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5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6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7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8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7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58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59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0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1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3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4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F2B51-D4F5-48AC-986E-5E6250C0C253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hyperlink" Target="http://www.loc.gov/catdir/pcc/fictioninfo.html" TargetMode="External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3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hyperlink" Target="file:///indpravidla2_0.doc" TargetMode="External"/><Relationship Id="rId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9144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elekční jazyky (2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1042560" y="3309480"/>
            <a:ext cx="6729480" cy="227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Úvod do problematik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400" spc="-1" strike="noStrike">
                <a:solidFill>
                  <a:srgbClr val="40458c"/>
                </a:solidFill>
                <a:latin typeface="Tahoma"/>
              </a:rPr>
              <a:t>Přednáška č. 1 (komb. studium) – 29.2.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Filozofická fakulta Masarykova Univerzity, Kabinet knihovnictví - Ústav české literatury a knihovnictví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1400" spc="-1" strike="noStrike">
                <a:solidFill>
                  <a:srgbClr val="40458c"/>
                </a:solidFill>
                <a:latin typeface="Tahoma"/>
              </a:rPr>
              <a:t>jarní semestr 2007/2008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Josef Schwar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600" spc="-1" strike="noStrike">
                <a:solidFill>
                  <a:srgbClr val="40458c"/>
                </a:solidFill>
                <a:latin typeface="Tahoma"/>
              </a:rPr>
              <a:t>schwarzjv@seznam.cz</a:t>
            </a:r>
            <a:endParaRPr b="0" lang="en-US" sz="16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Výběr znaků SJ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ce/klasifikace (PSJ/SSJ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edpoklad: znalost konkrétního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úpl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zsah zachycení hlavních a vedlejších 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čet znaků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pecifičnost indexace/klasifik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ýběr nejspecifičtějšího znaku SJ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hle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02880" indent="-18036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apř. předmět/téma, čas, místo, entita, proces/činnost, vztah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ekoordinace/postkoordin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subjektivní aspekt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-2707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ndexační pravidl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27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pecifičnost indexace (příklad)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arlamen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1 složení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       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2 komory parlamentu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jedno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3 dvoukomorový systém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hor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dolní komor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D4 federální sněmovn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838080" y="1523520"/>
            <a:ext cx="7772400" cy="533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důvody indexace 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velká část fondu a výpůjček (veřejné knihovny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část fondu odborných knihoven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možné uživatelské dotazy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beletrizovaný životopis van Gogh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sci-fi odehrávající se na Měsíci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omán situovaný do italského kláštera odehrávající se ve 14. stole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39480" indent="-3394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říklad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Eco: Jméno růž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K, KJM, MZK: italské romány * detektivní romány * historické román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KBBB: </a:t>
            </a: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historie - františkáni - Vilém z Baskervillu (františkáni - Vilém z Baskervillu - František z Assisi – benediktini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KMO: italská tvorba, 14.stol., benediktini, kláštery, detektivky, historické příběhy 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lnSpc>
                <a:spcPct val="8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imes New Roman"/>
              </a:rPr>
              <a:t>MK Tábor: </a:t>
            </a:r>
            <a:r>
              <a:rPr b="0" lang="cs-CZ" sz="1800" spc="-1" strike="noStrike">
                <a:solidFill>
                  <a:srgbClr val="40458c"/>
                </a:solidFill>
                <a:latin typeface="Arial Unicode MS"/>
              </a:rPr>
              <a:t>detektivky - historické romány - středověk - teologie - 14. stol. – Itálie (historické romány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762120" y="1447920"/>
            <a:ext cx="777240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aspekty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edmě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akce, události, témat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sychologický vývoj postav, motiv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ociální vztahy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ámec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doba (minulost, současnost, budoucnost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místo (geografie, sociální prostředí, profese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utorský záměr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mocionální působe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oznán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přístupnost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čt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yzické charakteristiky (velké písmo apod.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-22392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literární forma (žánr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199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LA: </a:t>
            </a:r>
            <a:r>
              <a:rPr b="0" i="1" lang="cs-CZ" sz="2800" spc="-1" strike="noStrike">
                <a:solidFill>
                  <a:srgbClr val="40458c"/>
                </a:solidFill>
                <a:latin typeface="Tahoma"/>
              </a:rPr>
              <a:t>Guidelines on Subject Access to Individual Works of Fiction, Drama, Etc. (1990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 u="sng">
                <a:solidFill>
                  <a:srgbClr val="6f89f7"/>
                </a:solidFill>
                <a:uFillTx/>
                <a:latin typeface="Tahoma"/>
                <a:hlinkClick r:id="rId3"/>
              </a:rPr>
              <a:t>OCLC/LC Fiction Projec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, OCLC, 6 dalších amerických knihoven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od r. 1991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ěcný přístup k dílům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LCSH (rozšíření o 916 nových hesel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14 000 zázna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Britská národní bibliografi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668520" indent="-257040">
              <a:lnSpc>
                <a:spcPct val="9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indexace krásné literatury od r. 1997 dle pravidel AL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ndexace krásné literatury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problém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tížnější indexace než u odborné literatury – problém identifikace základních obsahových charakteristik a pojm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přítomnost pomocného aparátu (obsah, rejstřík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vyšší subjektivit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ízká konzisten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nedostatek specializovaných řízených slovníků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Témat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émantická redukce dokument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odnocení kvality a konzistence indexace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ěcné vyhledává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harmonizace a standardizace S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Časová osnova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838080" y="1447920"/>
            <a:ext cx="83059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40458c"/>
                </a:solidFill>
                <a:latin typeface="Tahoma"/>
              </a:rPr>
              <a:t>studenti denního studia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9.2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Sémantická redukce dokumentů – základní principy, indexace krásné literatury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1.3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Kvalita a konzistence index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1.4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Přirozený jazyk vs řízený slovník z hlediska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.5. přednáš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Základní metody a postupy věcného vyhledá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16.5. závěrečná hodina, 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PŘEDPOKLADY KLASIFIKACE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761760" y="1447920"/>
            <a:ext cx="784836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2 úkoly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esej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test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20 otázek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výběr z variant a) až d)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SzPct val="12926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aktivita na přednáškách a cvičeních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růběžné získávání bodů (puzzle) 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8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nezbytné získat alespoň 1 bod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2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2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22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914400" y="175212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 type="subTitle"/>
          </p:nvPr>
        </p:nvSpPr>
        <p:spPr>
          <a:xfrm>
            <a:off x="990720" y="33094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Sémantická redukce dokument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1312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úč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reprezentace plného textu dokument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možnost vyhledávání podle obsahu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procesy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dexace, klasifikace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abstrahování/referování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SzPct val="11312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nástroje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intelekt/algoritmu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SJ/PJ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660066"/>
                </a:solidFill>
                <a:latin typeface="Tahoma"/>
              </a:rPr>
              <a:t>Obecný proces věcného zprac.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Obsahová analýz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Identifikace pojmů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Výběr znaků SJ a tvorba selekčního obrazu dokumentu (SOD)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ČSN ISO 5963. Dokumentace. Metody analýzy dokumentů, určování jejich obsahu a výběru lexikálních jednotek selekčního jazyka. 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  <a:ea typeface="Times New Roman"/>
              </a:rPr>
              <a:t>Úč. 1.4.1996. 12 s.</a:t>
            </a:r>
            <a:r>
              <a:rPr b="0" lang="cs-CZ" sz="2400" spc="-1" strike="noStrike">
                <a:solidFill>
                  <a:srgbClr val="40458c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499"/>
              </a:spcBef>
              <a:buSzPct val="12926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pravidla (indexační pravidla) 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(</a:t>
            </a:r>
            <a:r>
              <a:rPr b="0" lang="cs-CZ" sz="2000" spc="-1" strike="noStrike" u="sng">
                <a:solidFill>
                  <a:srgbClr val="6f89f7"/>
                </a:solidFill>
                <a:uFillTx/>
                <a:latin typeface="Tahoma"/>
                <a:hlinkClick r:id="rId6"/>
              </a:rPr>
              <a:t>příklad: ČTT/UK-ETF</a:t>
            </a: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Obsahová analýza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838080" y="1599840"/>
            <a:ext cx="7772400" cy="525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SzPct val="1507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400" spc="-1" strike="noStrike">
                <a:solidFill>
                  <a:srgbClr val="40458c"/>
                </a:solidFill>
                <a:latin typeface="Tahoma"/>
              </a:rPr>
              <a:t>content/subject analysis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určení obsahu dokumentu na základě: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l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(orientační, kurzorické/diagonální, selektivní, statarické, racionální čtení – </a:t>
            </a:r>
            <a:r>
              <a:rPr b="0" i="1" lang="cs-CZ" sz="1800" spc="-1" strike="noStrike">
                <a:solidFill>
                  <a:srgbClr val="40458c"/>
                </a:solidFill>
                <a:latin typeface="Tahoma"/>
              </a:rPr>
              <a:t>významy viz TDKIV</a:t>
            </a: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)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redukovaného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34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40458c"/>
                </a:solidFill>
                <a:latin typeface="Tahoma"/>
              </a:rPr>
              <a:t>abstrakt, resumé, výtah, anotace</a:t>
            </a:r>
            <a:endParaRPr b="0" lang="en-US" sz="14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dalších adekvátních částí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lnSpc>
                <a:spcPct val="90000"/>
              </a:lnSpc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název, obsah, rejstřík, úvod, závěr, zvýrazněné části textu apod.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2926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40458c"/>
                </a:solidFill>
                <a:latin typeface="Tahoma"/>
              </a:rPr>
              <a:t>zásadní význam pro kvalitu SOD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orozumění tex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jazykov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3" marL="1600200" indent="-228600">
              <a:lnSpc>
                <a:spcPct val="90000"/>
              </a:lnSpc>
              <a:spcBef>
                <a:spcPts val="451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40458c"/>
                </a:solidFill>
                <a:latin typeface="Tahoma"/>
              </a:rPr>
              <a:t>odborné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40458c"/>
                </a:solidFill>
                <a:latin typeface="Tahoma"/>
              </a:rPr>
              <a:t>pečlivos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Identifikace pojmů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2926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ýchodiska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funkce IS a potřeb uživatele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ýznamu a rozsahu dokumentu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zohlednění všech adekvátních obsahových hledise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tanovení důležitosti pojmů/témat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hlavn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lvl="4" marL="2057400" indent="-228600">
              <a:spcBef>
                <a:spcPts val="451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vedlejší pojmy/témata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SzPct val="12926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vyjádření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líčová slova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přirozený jazyk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25T21:06:36Z</dcterms:created>
  <dc:creator>J.Schwarz</dc:creator>
  <dc:description/>
  <dc:language>en-US</dc:language>
  <cp:lastModifiedBy>Josef Schwarz</cp:lastModifiedBy>
  <dcterms:modified xsi:type="dcterms:W3CDTF">2008-03-01T09:41:24Z</dcterms:modified>
  <cp:revision>114</cp:revision>
  <dc:subject/>
  <dc:title>Selekční jazyky</dc:title>
</cp:coreProperties>
</file>