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39960" y="76176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724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9524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9524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5F5C-8D1E-42E9-AA36-EBA664C97B2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9960" y="762120"/>
            <a:ext cx="4978080" cy="3733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724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abáni – hutterité, toufaři, novokřtěnci, mennon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9960" y="762120"/>
            <a:ext cx="4978080" cy="3733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724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Everest – nepálsky Čomolungma (Čumulangma), nepálsky Sagarmatha, tibetsky Qomolangma fe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B6A9-0EA0-40FE-AC7A-F4CA934B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A7E-0D4C-482E-8BAB-E75B2B10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8556-9B9D-4BDC-ABB4-94C9FDFB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12CD-DCB0-4FD6-A6AB-DACC909C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20E1-9B06-4736-A1DD-4A48AE8F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6D23-D6BE-4631-A147-2DBA3DDD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5422-E15F-4650-B63B-1314588A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9E6D-E851-48FE-8AEE-92F82308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BE22-D9D5-42F5-9F75-520C842D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2B9D-33EA-4FF2-9645-BE38343F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95B9-5C06-4A10-848D-5B22D1F5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BCE-125D-4D1D-AA5A-4D481EA2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7875-7766-4AAB-84EA-21B34A7D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46C9-4441-4C9C-843A-81B39B57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CAA9-FBA9-42A8-A16F-0EC5018F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9A90-6744-4EC3-851F-09B14858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05B0-8E5C-4267-BF80-35991E6E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C9D-F112-45A2-8371-2CAA3C70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4EE-391A-4130-9264-DF18EC49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242B-ABB8-4532-834A-C9F6054B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8425-C6B9-4BA9-8E0A-C83E7798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C03B-B6C7-49F8-AAE0-66EA36F5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6E4-EEDD-4094-B348-E1D2D25A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686-259A-4F12-86AC-2D15A541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7EBA-9907-410E-B2A7-0A08250D090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3429-5A77-4060-969A-8CD52B2AD82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loc.gov/catdir/pcc/fictioninfo.htm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file:///indpravidla2_0.doc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1 (komb. studium) – 29.2.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7/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ýběr znaků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ce/klasifikace (PSJ/SSJ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poklad: znalost konkrétního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ost indexace/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sah zachycení hlavních a vedlejších té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čet znaků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pecifičnost indexace/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běr nejspecifičtějšího znaku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ční hledis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př. předmět/téma, čas, místo, entita, proces/činnost, vzta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ekoordinace/postkoordin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ubjektivní aspek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ční pravidl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pecifičnost indexace (příkl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la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1 složení parla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2 komory parla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3 jednokomorový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3 dvoukomorový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4 horní kom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4 dolní kom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4 federální sněmovn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ůvody indexac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á část fondu a výpůjček (veřejné knihovn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ást fondu odborných knihove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ožné uživatelské dotaz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eletrizovaný životopis van Gogh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ci-fi odehrávající se na Měsíc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mán situovaný do italského kláštera odehrávající se ve 14. stolet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íklad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co: Jméno růž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K, KJM, MZK: italské romány * detektivní romány * historické romány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KBBB: </a:t>
            </a: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historie - františkáni - Vilém z Baskervillu (františkáni - Vilém z Baskervillu - František z Assisi – benediktini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KMO: italská tvorba, 14.stol., benediktini, kláštery, detektivky, historické příběhy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MK Tábor: </a:t>
            </a:r>
            <a:r>
              <a:rPr b="0" lang="cs-CZ" sz="1800" spc="-1" strike="noStrike">
                <a:solidFill>
                  <a:srgbClr val="40458c"/>
                </a:solidFill>
                <a:latin typeface="Arial Unicode MS"/>
              </a:rPr>
              <a:t>detektivky - historické romány - středověk - teologie - 14. stol. – Itálie (historické román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spekt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edmě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kce, události, téma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sychologický vývoj postav, moti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ociální vztah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áme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ba (minulost, současnost, budoucnos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ísto (geografie, sociální prostředí, profes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utorský zámě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mocionální působe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zn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ístup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čti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yzické charakteristiky (velké písmo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iterární forma (žán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LA: 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Guidelines on Subject Access to Individual Works of Fiction, Drama, Etc. (1990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CLC/LC Fiction Pro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C, OCLC, 6 dalších amerických knihov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d r. 199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ěcný přístup k dílům krásné literat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CSH (rozšíření o 916 nových hese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4 000 zázna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Britská národní bibliografi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ace krásné literatury od r. 1997 dle pravidel A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tížnější indexace než u odborné literatury – problém identifikace základních obsahových charakteristik a poj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přítomnost pomocného aparátu (obsah, rejstřík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šší subjektiv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ízká konzist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dostatek specializovaných řízených slovník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ém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émantická redukce dokument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dnocení kvality a konzistence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rmonizace a standardizace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Časová osnova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udenti denního stud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29.2. přednáš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émantická redukce dokumentů – základní principy, indexace krásné literat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21.3. přednáš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11.4. přednáš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irozený jazyk vs řízený slovník z hlediska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2.5. přednáš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Základní metody a postupy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16.5. závěrečná hodina, te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ŘEDPOKLADY KLASIFIK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2 úko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ese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20 otáze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běr z variant a) až 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ktivita na přednáškách a cvičení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ůběžné získávání bodů (puzzle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zbytné získat alespoň 1 bo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émantická redukce dokument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émantická redukce dokument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prezentace plného textu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žnost vyhledávání podle obsah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ces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sahová analýz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dexace, klasifik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bstrahování/refero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ástroj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lekt/algoritm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J/P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Obecný proces věcného zprac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sahová analýz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dentifikace pojm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běr znaků SJ a tvorba selekčního obrazu dokumentu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ČSN ISO 5963. Dokumentace. Metody analýzy dokumentů, určování jejich obsahu a výběru lexikálních jednotek selekčního jazyka. 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Úč. 1.4.1996. 12 s.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avidla (indexační pravidla)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příklad: ČTT/UK-ETF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sahová analýz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</a:rPr>
              <a:t>content/subject analy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určení obsahu dokumentu na základě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(orientační, kurzorické/diagonální, selektivní, statarické, racionální čtení –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významy viz TDKI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eduk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abstrakt, resumé, výtah, anotac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lších adekvátních část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ázev, obsah, rejstřík, úvod, závěr, zvýrazněné části textu apo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zásadní význam pro kvalitu S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ozumění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azykové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odborné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dentifikace pojm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ýchodis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ohlednění funkce IS a potřeb uživate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ohlednění významu a rozsahu dokumen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ohlednění všech adekvátních obsahových hledis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anovení důležitosti pojmů/té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hlavní pojmy/téma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edlejší pojmy/téma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yjádře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líčová slo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řirozený jazy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8-03-01T09:41:24Z</dcterms:modified>
  <cp:revision>114</cp:revision>
  <dc:subject/>
  <dc:title>Selekční jazyky</dc:title>
</cp:coreProperties>
</file>