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4A08D-2FAB-4088-9505-9987B15D7710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1C6D-A370-46F7-A688-3F8696BA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F362-F0FE-4BDB-A2EA-E7D28C977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5BBE-489A-48E6-92E9-32302733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535-C0D2-4672-BFD7-6530254C2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3040-E1BA-4825-91D6-A48C4894D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5944-AABD-4539-BA80-092E5A3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B169C-57F2-41FF-A277-834A1551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37771-0988-4BDF-B2D7-1D7B47D2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5DFB-84D1-4751-BB8A-A3DECAE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4ABF-57E8-4FF6-9140-704D9C0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80C6E-B1A2-4B2E-944E-B1E4E8EF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9304-F843-4F46-9D9E-1EC3B9965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8DF7-64C7-4CF6-BF87-0E5A7621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9086-E925-4026-A362-D99EA5AC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94F4-726B-4030-A5CB-5FAF7C49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2BCD-A692-4B33-9CCB-96C4101E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19A0-BE3E-4C2E-99A6-35389A0C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2167-4D71-479A-BC6D-FCC12C4AE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5E4-BFAA-4C2D-96D1-786B2D1D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989-318D-4D8B-84B3-44A31CF8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BDEF-DF16-4A90-9C28-2C346BBD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250-A344-4E7D-AB41-E1951AC2F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C02-3423-4944-A112-88C5715C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4881-9C53-49C2-A7C4-CF48FEAA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8379E-10D3-49AA-9088-4809D027A08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433A-2FD9-4E3B-B2F9-BA963AC28AD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– 22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denti denního studi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2.2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7.3. cviče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8.3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4.4. cviče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8.4. přednáš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6.5. závěrečná hodina, te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2-26T12:43:29Z</dcterms:modified>
  <cp:revision>111</cp:revision>
  <dc:subject/>
  <dc:title>Selekční jazyky</dc:title>
</cp:coreProperties>
</file>