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77A9-5F68-44BB-86AE-D9C05105854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abáni – hutterité, toufaři, novokřtěnci, menno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verest – nepálsky Čomolungma (Čumulangma), nepálsky Sagarmatha, tibetsky Qomolangma fe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0EC-3075-4A50-9B1F-BC470582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0A3-F230-43DF-AE83-BD1EC48F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DC9-20DE-40E9-B510-67621A83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113-C555-433D-A1FA-7F0B0879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1C4B-6052-4822-B27F-8B180802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9FC5-7BA9-4A86-94FB-52BD0AF0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00CD-F9BC-45C5-AE33-DA07CA93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0B8-B2DE-40BA-B16C-FABA294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0B6A-158B-4175-BD69-8C14C2F3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597A-6050-4D86-BCE3-C79B06DA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23AA-A09B-4AB9-B8D1-B3E6446A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5E3-AC69-4758-AFE1-E6A38012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B11A-08C3-480E-BAE4-1F2347F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865A-1337-4264-B4F2-F47476B1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BD38-35B2-4D6D-B77E-FCAECD56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B1DF-CF7E-4836-AB7A-B2924C2E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B408-A355-4600-A964-E4A3D15C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80E-EB03-4CF6-A1F2-42030FC9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6DC-F823-4075-A1F2-34C4F155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A4F-1E5D-4524-818E-EE266890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832-3AD1-42B4-8AE2-08045D65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FC6-99AB-4A38-9909-1B7FDAF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378-60CC-403E-8389-4193B827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2EE-DBA3-4642-BCD0-914C411B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6B0-3F60-4B5C-B4FD-77C0DA6EFD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D8F3-E3DD-4CD8-B6DA-79E724CD2F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indpravidla2_0.doc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– 22.2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émantická redukce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dnocení kvality a konzistence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onizace a standardizace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Časová osnov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denti denního stu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2.2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émantická redukce dokumentů – základní principy, indexace krásné litera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7.3. cviče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8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 jazyk vs řízený slovník z hlediska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4.4. cviče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8.4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 metody a postupy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6.5. závěrečná hodina,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ese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 otáz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 z variant a) až 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ktivita na přednáškách a cvičení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ůběžné získávání bodů (puzzle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zbytné získat alespoň 1 b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2-26T12:43:29Z</dcterms:modified>
  <cp:revision>111</cp:revision>
  <dc:subject/>
  <dc:title>Selekční jazyky</dc:title>
</cp:coreProperties>
</file>