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2BA-A4C5-4D30-ACB7-60EB46F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22F-CAAB-49AA-9C20-4BBF043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840-66D9-4C48-B1FA-D7184AE8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724-FE85-4BB7-8B6D-6EAEACC7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912-6999-4F96-A418-6D7B7B10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193F-193B-4D60-A9E9-C82D4206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968-CCD2-4485-8A5D-50D85BF2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C45E-A421-46B8-A6C0-0167443B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8581-6E3A-40B7-A358-BE8ECD73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0D6F-DA13-4A44-9468-CFBEA2E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3F7D-5775-41E9-801A-3162D6D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0C8-E496-4FCC-8C16-6D9313CA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97C2-627F-41A7-91CA-14E0D3B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4675-1E2C-40AE-8F19-DCD231C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EB5-B831-4DAB-8131-AA09AB0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B1F6-B849-4446-8916-DBFB49EE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06D4-91EA-40B5-8546-788DC168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992-3FBE-45F7-BB27-CABD72BD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B5A-AC53-42B4-897D-AA6EAFA8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971-3E76-4D08-AF81-19E2B5B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42B-D822-4BB1-B95D-F57653A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A00-86E6-4866-BC54-3EAF7C3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79E-6A0B-4E61-884F-7462742A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831-0961-4682-9C64-E40BEA7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0B8A-2D94-4F97-A627-01D82FD481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9E20-10B9-45BA-AAEB-5AA3C91F35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4.infotrieve.com/newmedline/search.asp" TargetMode="External"/><Relationship Id="rId3" Type="http://schemas.openxmlformats.org/officeDocument/2006/relationships/hyperlink" Target="http://www.google.com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www.google.cz/advanced_search?hl=cs" TargetMode="External"/><Relationship Id="rId7" Type="http://schemas.openxmlformats.org/officeDocument/2006/relationships/hyperlink" Target="http://www.scirus.com/srsapp/advanced/index.jsp" TargetMode="External"/><Relationship Id="rId8" Type="http://schemas.openxmlformats.org/officeDocument/2006/relationships/hyperlink" Target="http://www4.infotrieve.com/newmedline/search.asp" TargetMode="External"/><Relationship Id="rId9" Type="http://schemas.openxmlformats.org/officeDocument/2006/relationships/hyperlink" Target="http://www.psp.cz/rapid/aRL/main.php?language=czech&amp;ictx=par" TargetMode="External"/><Relationship Id="rId10" Type="http://schemas.openxmlformats.org/officeDocument/2006/relationships/hyperlink" Target="http://df.stk.cz/cgi-bin/dflex/CZE/STK/FIND2" TargetMode="External"/><Relationship Id="rId11" Type="http://schemas.openxmlformats.org/officeDocument/2006/relationships/hyperlink" Target="http://tinweb.upm.cz/" TargetMode="External"/><Relationship Id="rId12" Type="http://schemas.openxmlformats.org/officeDocument/2006/relationships/hyperlink" Target="http://www.psp.cz/eknih/" TargetMode="External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86&amp;do=1992" TargetMode="External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jyxo.cz/" TargetMode="External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3 – 11.4.2008 (komb. studium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i v ŘS problémy s vyjádřením pojmů 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745-8899-4C05-AA17-0DE531330695}" type="slidenum">
              <a:t>10</a:t>
            </a:fld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743-F141-4077-B690-F30AA9B74944}" type="slidenum">
              <a:t>11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63D-DC64-4320-898F-58B5BA8B3BEC}" type="slidenum">
              <a:t>12</a:t>
            </a:fld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179-FE07-4719-B2AF-2EFAA8DDF5F6}" type="slidenum">
              <a:t>13</a:t>
            </a:fld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BCE-776F-452D-9C50-D32DA36263E9}" type="slidenum">
              <a:t>14</a:t>
            </a:fld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BBD-D241-4AFE-8DC5-9C6A54576C37}" type="slidenum">
              <a:t>15</a:t>
            </a:fld>
          </a:p>
        </p:txBody>
      </p:sp>
    </p:spTree>
  </p:cSld>
  <p:transition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3FB-EE83-4973-A3A4-7B1491469247}" type="slidenum">
              <a:t>16</a:t>
            </a:fld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4BE-1C2F-4F9B-B69E-202AAC56D04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B0F-BD02-4117-A6C4-63B4A939456D}" type="slidenum">
              <a:t>19</a:t>
            </a:fld>
          </a:p>
        </p:txBody>
      </p:sp>
    </p:spTree>
  </p:cSld>
  <p:transition>
    <p:zoom dir="ou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ěcné vyhledávání – řízený slovník vs plný tex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ecné aspekty věcnéh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C7B-855F-48ED-A958-73C8C006A3E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26C-B053-4810-8C8B-FDEA2179FEC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A17-19BA-4D12-AA3B-532BBDBD06A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153-90EB-4EC4-9C05-ACFA83D171B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Metacrawle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2A4-EF6B-486F-A42A-8FAD6C9CDE0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TIS, e-Print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atentové třídění; db: Canadian Patent Database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Digitale Dissertationen der FU Berlin, ProQuest Digital 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F74-60AA-4C16-A516-5F1D5E80558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AC8-0B95-49FB-B45E-9493A3631A2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2EB-321F-4F1F-A3BE-B7EE59D0FCD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642-1DD1-4B7E-86EF-7DDD2F42BE3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843-63E4-4174-BC33-581424AF0E6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4CD-2D92-4FBD-9DD6-D1120E112F7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2DC-F0D4-4491-8571-9677CD2C5EFF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dle způsobu vyhledávání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reetextov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, jednoduch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é, podrobn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Googl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Sciru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ení dostupný: KNAV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Medli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samostatně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PK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ST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dostupný při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UP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e plně integrovaný do vyhledávání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PSP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é (fulltextové)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vertovaný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kvenční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988-C4EF-4D76-9E0B-D3B40362A80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D5C3-25E2-40DE-8950-B98828CCBF0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1B0-04E1-41F3-9A99-FD9DAF47C718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ov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ání latentní sémantik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DAF-4227-4E38-9EA8-C7EF7DEB6A0C}" type="slidenum">
              <a:t>7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derivátor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2E8-BD81-4C64-8645-6941DA6D4B99}" type="slidenum">
              <a:t>8</a:t>
            </a:fld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F14-84C6-42F0-9A42-7A5EA1710218}" type="slidenum">
              <a:t>9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knihovnik</cp:lastModifiedBy>
  <dcterms:modified xsi:type="dcterms:W3CDTF">2008-04-11T09:10:46Z</dcterms:modified>
  <cp:revision>221</cp:revision>
  <dc:subject/>
  <dc:title>Selekční jazyky</dc:title>
</cp:coreProperties>
</file>