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52B-9D19-442A-BF5B-A14F7BAD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CE0-2845-4385-AF16-084D8F11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1DD-DECC-4A9F-8EA4-09A368AA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63B-1355-4A53-876B-A61E1532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3028-60FB-4C10-953F-F27DDBD9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422F-9EF5-4C99-AFF9-D8CB51B1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769A-4997-4D74-B7A4-BFAA5BC7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3CEC-B114-4CFA-B80D-B2B684AA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3460-5D67-4C55-8FDA-77C2AD86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273F-2B42-48DA-81C7-A1015394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8F68-F412-44BE-A8AC-69C7EDAB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FD5-D022-480B-82CC-79ECB465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7F7C-B06D-4CB1-B5DC-6B60AC7D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7470-21A0-4E68-99CA-9783190C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121-3650-4F46-8FD8-5E79F23B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3F77-A677-4C29-8424-6A1DE5DE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562E-7BDD-4F28-BEB5-ACBB3235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050-27BC-4167-A351-8D2E7640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5D7-BEFC-41A9-B176-F3F6A543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E20-5877-4E61-AA90-97679425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3BB-4666-46DC-BF95-5EDC2BB7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109-89E8-4CE3-B3E9-DCDC4F9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06F-5ADA-4F9E-9E12-B12FFE1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A99-A5C1-4FC9-8764-0EA6093D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E6A-1D1C-4AB6-9EC9-EBEE66B568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65CC-0C9B-4AED-860A-857ED164A3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4.infotrieve.com/newmedline/search.asp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www.google.cz/advanced_search?hl=cs" TargetMode="External"/><Relationship Id="rId7" Type="http://schemas.openxmlformats.org/officeDocument/2006/relationships/hyperlink" Target="http://www.scirus.com/srsapp/advanced/index.jsp" TargetMode="External"/><Relationship Id="rId8" Type="http://schemas.openxmlformats.org/officeDocument/2006/relationships/hyperlink" Target="http://www4.infotrieve.com/newmedline/search.asp" TargetMode="External"/><Relationship Id="rId9" Type="http://schemas.openxmlformats.org/officeDocument/2006/relationships/hyperlink" Target="http://www.psp.cz/rapid/aRL/main.php?language=czech&amp;ictx=par" TargetMode="External"/><Relationship Id="rId10" Type="http://schemas.openxmlformats.org/officeDocument/2006/relationships/hyperlink" Target="http://df.stk.cz/cgi-bin/dflex/CZE/STK/FIND2" TargetMode="External"/><Relationship Id="rId11" Type="http://schemas.openxmlformats.org/officeDocument/2006/relationships/hyperlink" Target="http://tinweb.upm.cz/" TargetMode="External"/><Relationship Id="rId12" Type="http://schemas.openxmlformats.org/officeDocument/2006/relationships/hyperlink" Target="http://www.psp.cz/eknih/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3 – 28.3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6CB-D16F-452D-9A2D-A54131EEFCE7}" type="slidenum">
              <a:t>10</a:t>
            </a:fld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4B5-E84E-41D8-AC3F-83A26ADC2702}" type="slidenum">
              <a:t>11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514-D05C-4468-97D3-722A3EB771B4}" type="slidenum">
              <a:t>12</a:t>
            </a:fld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9C2-B411-42A2-97BD-4C7956659008}" type="slidenum">
              <a:t>13</a:t>
            </a:fld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43D-2BEB-4F09-9333-2F685C63D08C}" type="slidenum">
              <a:t>14</a:t>
            </a:fld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17D-B22D-40FE-94C9-E66588C7C7FE}" type="slidenum">
              <a:t>15</a:t>
            </a:fld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D8A-4C84-420B-B76B-CB3030190ADF}" type="slidenum">
              <a:t>16</a:t>
            </a:fld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6CE-EA2B-4CE8-9DFE-EFB5EE46354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163-789B-4647-AEFA-81C916774A59}" type="slidenum">
              <a:t>19</a:t>
            </a:fld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EDD-DB76-4D7B-86A8-F5D87D464BB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5F6-3155-4320-8FD2-CE604A95691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FF3-10B7-4DCA-BE21-4F515E47595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947-BA89-4D30-9AE5-6E94F228A52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127-80D1-482C-AF1C-0B0F2D0E4B6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TIS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D15-DD9F-4B43-833F-EAC205D963C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ADA-DD1F-47C2-9FB2-F4DB3B42619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B32-39A4-4346-9176-8C6F72E18B1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752-FD26-48B4-8371-41AF48F8768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9E4-DF2C-4597-A4E8-A0B1667EFC7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12A-374B-4D31-811D-50F041B742F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64C-F7AB-4139-AAC0-9B5674CE24BC}" type="slidenum">
              <a:t>30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NAV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NAV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KNAV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D1D-C0DE-4C3C-A159-13447D3A477D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6D9-921A-4FA3-98EB-9531E475963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DEC-0FCD-46F5-9EEE-4A17A4460479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394-003E-46EB-A360-C8386ED4D884}" type="slidenum">
              <a:t>7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0E8-371D-4998-B1AA-E88243A1A148}" type="slidenum">
              <a:t>8</a:t>
            </a:fld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8F7-199D-4A26-BEF6-277799C18BE8}" type="slidenum">
              <a:t>9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3-28T03:53:57Z</dcterms:modified>
  <cp:revision>220</cp:revision>
  <dc:subject/>
  <dc:title>Selekční jazyky</dc:title>
</cp:coreProperties>
</file>