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F74-498D-4491-986E-8FB5D968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F41-58DB-42D4-A8DF-C9B47F71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848-CACD-4138-A55C-2E6C2D78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04B-B297-4F52-B617-8BE76244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9D2A-CE19-4493-A63D-D289B954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085F-E91D-4498-BFBA-25BFC7DC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9BB6-77FE-425A-A39A-60009FDF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8B65-49DC-4031-AFDA-534A7800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A582-04EE-48C0-B29E-4598022B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086B-C6AB-4894-99B3-2BF0FDCF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5296-B321-4E8E-A6B1-E221268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262-D2D2-4A86-A646-6DF0E1DC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DCB5-05AB-4E86-87CD-D78406C0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4A3E-89B7-4766-B3A6-0CE1B450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975B-E5C4-4B87-9097-5C128806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2A9E-65BD-46D5-B5BA-9F626653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15BF-1386-427B-AB2E-ECCF51C8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040-B6C5-4426-9E15-7542C8D6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89A-7FEA-4ECF-9E54-36A12EEF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072-2B5E-449C-879D-EEAE6D76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6CB-335B-4825-8A02-52EB798F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E96-743B-4CA5-A762-58228F9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EA2-137C-4705-86E5-3D1AFA37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5F2-498A-43F9-A0BE-AED6C8B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82C2-AE41-4D0C-A940-E456DC065B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80F6-B11B-4569-B8CE-08E5CF528AB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4.infotrieve.com/newmedline/search.asp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www.google.cz/advanced_search?hl=cs" TargetMode="External"/><Relationship Id="rId7" Type="http://schemas.openxmlformats.org/officeDocument/2006/relationships/hyperlink" Target="http://www.scirus.com/srsapp/advanced/index.jsp" TargetMode="External"/><Relationship Id="rId8" Type="http://schemas.openxmlformats.org/officeDocument/2006/relationships/hyperlink" Target="http://www4.infotrieve.com/newmedline/search.asp" TargetMode="External"/><Relationship Id="rId9" Type="http://schemas.openxmlformats.org/officeDocument/2006/relationships/hyperlink" Target="http://www.psp.cz/rapid/aRL/main.php?language=czech&amp;ictx=par" TargetMode="External"/><Relationship Id="rId10" Type="http://schemas.openxmlformats.org/officeDocument/2006/relationships/hyperlink" Target="http://df.stk.cz/cgi-bin/dflex/CZE/STK/FIND2" TargetMode="External"/><Relationship Id="rId11" Type="http://schemas.openxmlformats.org/officeDocument/2006/relationships/hyperlink" Target="http://tinweb.upm.cz/" TargetMode="External"/><Relationship Id="rId12" Type="http://schemas.openxmlformats.org/officeDocument/2006/relationships/hyperlink" Target="http://www.psp.cz/eknih/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3 – 28.3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703-5BBA-4A8F-9488-6DD3334E6E3A}" type="slidenum">
              <a:t>10</a:t>
            </a:fld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683-B569-4844-8808-8DF813B31162}" type="slidenum">
              <a:t>11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BD7-6D22-4576-9B9D-7776B332451C}" type="slidenum">
              <a:t>12</a:t>
            </a:fld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051-8124-444B-80FD-6209BDA77445}" type="slidenum">
              <a:t>13</a:t>
            </a:fld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052-7482-402C-BFCE-06E2AE25771F}" type="slidenum">
              <a:t>14</a:t>
            </a:fld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E79-D3A7-48D0-83D4-5B658869ED77}" type="slidenum">
              <a:t>15</a:t>
            </a:fld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247-CCD4-4180-8326-687E4789685A}" type="slidenum">
              <a:t>16</a:t>
            </a:fld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975-101F-43E7-9004-1585523BB8C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4E0-0B35-4F18-9997-D5A64802A4FB}" type="slidenum">
              <a:t>19</a:t>
            </a:fld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B10-31AE-4608-B06D-819CA111CDA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520-376E-42E3-BD3B-CA5F4D70683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FDF-753F-423F-BC47-7303F355538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F7E-AE87-41FD-AED2-C5248E36763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09A-3404-42F3-A6B5-18750F90156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TIS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EF7-AE0B-4938-879E-81F3D8D1287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45A-5B64-48D8-B453-3FF73FA9B31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FFF-B0B4-43EA-94F6-80BCE9F3149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BF8-F328-4222-9F33-3927146C3B66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CDA-321A-43A6-BA3B-6121C97461D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084-221B-49B1-A227-794B687F1B4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19E-0233-427A-A3FF-B9BFB11DDC76}" type="slidenum">
              <a:t>30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NAV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NAV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KNAV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8EC-BE62-42F6-8263-F864579B32D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CAA-97F7-46E9-B571-00C6814129F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062-18A2-4E8A-AC57-298414234E5A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809-55EA-491D-8F73-26E7AAD965ED}" type="slidenum">
              <a:t>7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B32-60C4-45A6-BB2A-81B15FA86706}" type="slidenum">
              <a:t>8</a:t>
            </a:fld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F6B-513D-4873-A290-14BDFCE24F68}" type="slidenum">
              <a:t>9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3-28T03:53:57Z</dcterms:modified>
  <cp:revision>220</cp:revision>
  <dc:subject/>
  <dc:title>Selekční jazyky</dc:title>
</cp:coreProperties>
</file>