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A03-864C-448E-ADE8-F4187290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B5E-7D68-4CC3-861E-DC5006B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B1D-9121-48DC-9854-1D047614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140-8D22-4119-82F5-8596ABCF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25AE-8471-4EE6-A6E1-BED8609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7E72-7B08-4AF4-9E44-07429267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25B-CC7C-4BCE-84BF-9766920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895-1E80-4233-8E57-FBEADD9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8D6-13AF-4BE3-9C38-1E4779F6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979A-4087-4E3F-AE85-A2B1722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B277-875E-4247-9FFA-B00B363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7CD-974C-4948-81B5-D2282EC3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7BC0-6AD6-4586-A789-B63E270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2D1-E640-4731-8490-B27C1B62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8E9A-1C07-4627-9AF2-71D32D0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6316-29CD-455F-9973-B1F13B4E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39E-79EB-4020-9DB9-7F8DA578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6EF-A3D9-4D1D-B701-6AC6E983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ED5-582D-4878-982B-1E797D4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696-F6A1-4B5A-AA97-4C3EF529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583-C8D2-4AF4-B2A8-696F806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50A-0C96-42BF-9AD6-8D6EF2E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AA6-A39A-4599-BC97-94F845F7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825-8516-4EAF-B244-9E501FB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F27D-05D9-4517-85E8-6FF796D2706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FF41-CCA7-49D8-9F11-0F4F9B3A194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2.5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40458c"/>
                </a:solidFill>
                <a:latin typeface="Tahoma"/>
              </a:rPr>
              <a:t>Kombinované studiu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6D9-FEF8-47AB-ACA0-467D089DFED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B3E-6B77-40DF-8230-43612805322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4EB-E716-4D50-AA4D-7373FACBE40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0C5-A51E-4E62-8CF9-A4F6369C262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2B2-AED8-41A3-95C1-C3138665591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085-40E3-4ACC-B88D-D18A29A7B3A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5B7-5AB2-4F26-B73E-15672789E00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BF6-7A82-4E85-94E4-80BACA3156D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63D-91A9-4818-AD9A-3CB5BD704E9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BE8-E041-4A06-8EFA-7849A2499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C11-F02E-4296-997B-E54BDA24AE1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196-9423-41A7-A6B5-D4559928A78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EBC-7BE4-4B5D-8308-45EFD388B3B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2D5-1FA3-4C92-B25E-428A5638A45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182-8B3A-4133-9F7F-BCF82CBB1C3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B0B-A7F7-4A2F-A5A7-7A579D5B608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C59-9838-41BA-92CD-C5EBAC4526C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083-2D11-4158-8B12-AA78EAA26C6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E86-4C1F-46D2-A3E2-8A9F2596F73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390-A55C-462A-B1B5-05AB36545AE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4E9-035F-44BA-B665-A96D5764979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EF7-A3A3-434C-840A-12FED85A1E4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41B-AF22-4AA2-A2C5-2034D9FDC1F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490-2A84-4F21-9313-B322DD8ECF8B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863-2FB9-4D7B-B360-BE6AF5765C85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07B-940E-4ED4-9BFE-CF2CC1AC39E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6B3-D34C-4FC5-A39A-81004B7F8CF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5FA-99B6-4C40-8A83-52248FF7862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0CC-C861-4CBC-93D3-1E9321DB75A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A33-BF45-4614-A5C0-B06F59753DA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8-05-02T09:14:51Z</dcterms:modified>
  <cp:revision>224</cp:revision>
  <dc:subject/>
  <dc:title>Selekční jazyky</dc:title>
</cp:coreProperties>
</file>