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D74-8BA0-431B-83F6-E0E559C9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DEB-9D6F-442C-A304-BB63C4A3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1D1-4F11-45BA-9D61-52219453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2FF-1381-4554-9517-747F1643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7531-D4A3-4DC7-BCC0-784BD7BB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0BF9-92D3-418E-A9DE-46A78276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D8A3-F12A-482F-9175-A48B7D94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C56A-B304-4700-933C-C51E4014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4AB2-379B-46C9-AD12-927BDD0C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264B-ACC1-4C55-AD27-34772C6A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164E-5BEB-44B6-A4A0-6FF92F88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ED6-6EFD-4A2C-97E3-67DADCD3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EF06-35FD-4E31-A07D-4272BC5C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B17A-A4CB-4078-90B8-E6BF8ED9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D6AE-E58E-440B-9D88-BE3ABCBF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4EBB-D1C4-49C5-99F3-B2774B6F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7570-9304-40A6-9585-038A161A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CC5-363D-4E56-81B0-68B537C1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142-FC3C-4079-A9C1-CF5D8EB2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241-01C9-4FDC-A32A-94728101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3C7-5BDF-4B64-B022-B1870A04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3AC-65E3-4CB5-8661-27C70507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83F-5A9C-495E-851D-4B47707E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8E6-E758-4EE8-89D1-5628901B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58DA-2E3B-4066-A088-EC5699D9FF2C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DBDA-2292-411E-94F9-462766F96B7D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hyperlink" Target="http://www.metacrawler.com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006.html" TargetMode="External"/><Relationship Id="rId3" Type="http://schemas.openxmlformats.org/officeDocument/2006/relationships/hyperlink" Target="http://xxx.lanl.gov/" TargetMode="External"/><Relationship Id="rId4" Type="http://schemas.openxmlformats.org/officeDocument/2006/relationships/hyperlink" Target="http://xxx.lanl.gov/" TargetMode="External"/><Relationship Id="rId5" Type="http://schemas.openxmlformats.org/officeDocument/2006/relationships/hyperlink" Target="http://xxx.lanl.gov/" TargetMode="External"/><Relationship Id="rId6" Type="http://schemas.openxmlformats.org/officeDocument/2006/relationships/hyperlink" Target="http://www.ulrichsweb.com/ulrichsweb/" TargetMode="External"/><Relationship Id="rId7" Type="http://schemas.openxmlformats.org/officeDocument/2006/relationships/hyperlink" Target="http://www.wipo.int/classifications/fulltext/new_ipc/index.htm" TargetMode="External"/><Relationship Id="rId8" Type="http://schemas.openxmlformats.org/officeDocument/2006/relationships/hyperlink" Target="http://patents1.ic.gc.ca/intro-e.html" TargetMode="External"/><Relationship Id="rId9" Type="http://schemas.openxmlformats.org/officeDocument/2006/relationships/hyperlink" Target="http://patents1.ic.gc.ca/intro-e.html" TargetMode="External"/><Relationship Id="rId10" Type="http://schemas.openxmlformats.org/officeDocument/2006/relationships/hyperlink" Target="http://patents1.ic.gc.ca/intro-e.html" TargetMode="External"/><Relationship Id="rId11" Type="http://schemas.openxmlformats.org/officeDocument/2006/relationships/hyperlink" Target="http://darwin.inf.fu-berlin.de/work/DissSearch" TargetMode="External"/><Relationship Id="rId12" Type="http://schemas.openxmlformats.org/officeDocument/2006/relationships/hyperlink" Target="http://darwin.inf.fu-berlin.de/work/DissSearch" TargetMode="External"/><Relationship Id="rId13" Type="http://schemas.openxmlformats.org/officeDocument/2006/relationships/hyperlink" Target="http://darwin.inf.fu-berlin.de/work/DissSearch" TargetMode="External"/><Relationship Id="rId14" Type="http://schemas.openxmlformats.org/officeDocument/2006/relationships/hyperlink" Target="http://darwin.inf.fu-berlin.de/work/DissSearch" TargetMode="External"/><Relationship Id="rId15" Type="http://schemas.openxmlformats.org/officeDocument/2006/relationships/hyperlink" Target="http://wwwlib.umi.com/dissertations/search" TargetMode="External"/><Relationship Id="rId16" Type="http://schemas.openxmlformats.org/officeDocument/2006/relationships/hyperlink" Target="http://wwwlib.umi.com/dissertations/search" TargetMode="External"/><Relationship Id="rId17" Type="http://schemas.openxmlformats.org/officeDocument/2006/relationships/hyperlink" Target="http://wwwlib.umi.com/dissertations/search" TargetMode="External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4 – 2.5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40458c"/>
                </a:solidFill>
                <a:latin typeface="Tahoma"/>
              </a:rPr>
              <a:t>Kombinované studiu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115-F858-43E0-B4E6-A89DD65EC4AD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17D-9AAF-44DF-B28B-65F0EBB626C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0BB-AE8B-48F2-B7FA-D0DC9F60A2A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B2A-35A8-4AEF-9446-854C0ADBBAE1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D4C-F312-4B27-8364-F9E47B1536F4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E86-FAB8-4C86-9F44-E7ACCF953014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 a harmonizace SJ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informačních zdrojů v elektronické podob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sekundár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přejímaných bbg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mysl a 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měna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spora práce, času a lidských zdroj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nadnění věcného přístupu k dokumentům a informací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C2D-E1C9-4F43-899B-5914C4A50A2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rové zaměření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ruktura řízeného slovník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L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postkoordinace/preko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016-6DBA-4098-8A92-7E5EF3609A3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andardizace S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lexi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řevzetí tezauru nebo jeho čás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MDT-výběr znak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definice vztahů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morf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ravidla pro tvorbu hesel L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yntax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65D-50DA-42AD-860F-670E5EF05C1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2 úko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esej – 18. červ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test – 16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dy (puzzle) – 15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znam čísel získaných puzzle zaslat na schwarzjv@seznam.c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5CE-D770-4F08-B1F5-466E285908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andardizace formá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UNIMARC/Aut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ěcné aut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stitu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FLA Classification and Indexing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merican Society of Index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2C7-90AD-4C0A-BC76-2BDE4417E8A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pojitelnost SJ a potažmo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harmoniz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abili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tibil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g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upné sbližování dvou nebo více systém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kord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tvoření převodníku mezi dvěma nebo více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lexikální jednotk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pojm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4AE-EE36-45DC-A17D-DDF9D54AC2A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– mapování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stejný typ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koordinovaný SJ 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ost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ovaný SJ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re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ednosměrný nebo obousměrný přev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opojovací S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u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986-E29D-4C7F-9785-142C263A35C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- mapování SJ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Příkla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LJ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LCSH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Konspekt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M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ojekt ELV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Eurovoc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Pol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pojm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UMLS Metathesaur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89E-DB65-4FFE-AB9E-10020D56833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národní harmonizace a integ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armonizace řízených slovníků a 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ícejazyčné teza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SN ISO 5964 (ČSN 01 017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grovoc (12), Eurovoc (18 ofic.), Me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 vícejazyčné tezau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ové verze předmětových hes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C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C4F-1CDB-4EF6-96A9-D6261D103208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ingvistické problémy (překlad/převo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ruktu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kompat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% kompatibilita (+nedeskriptory a poznámk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y tezauru pro lokální potře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správy a údrž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žitější proces aktual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mplementace tezauru do AI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W pro správu tezau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998-FCE1-4D87-898E-871FEB8E337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us jazy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ejný st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inantní jazyk/sekundární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prostředkující jazy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0F3-30D3-4A4F-AEC1-B4F7F9E911B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klad/převod tezau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chozí jazyk – jazyk, ze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azyk překladu – jazyk, do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lingvistické a intralingvistické probl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íklad (PSH, řada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rávo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DB1-503A-4F5A-B71B-3C584B9C9A5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ekvivalence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ásteč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ín/více termín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B8F-1015-4845-9E7A-9ABD412C7E6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phys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Physi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91C-39E9-4B12-AACF-E9ACBBCE1C18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J: 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Gede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E70-EAFB-436C-AEF2-21AFB370F006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Wissenscha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724-7CD2-4C3A-923B-1F1D49919C4D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fu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8951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arb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ombust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813-6B4E-4539-AAB5-BC08AB3D2159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digital di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J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igitální propa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86D-582A-40FF-953A-5E706F89A6C4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AB3-E07E-4D3A-A1FA-621B44680047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007-1237-4ED1-AE37-22740FAA71F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E6D-EC3C-444B-8887-B7BBDBE018AB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525-304D-4CAC-94D5-5C24286F7BF3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2D9-920C-40D4-9958-ACF38C0556F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TIS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e-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rin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zinárodní patentové třídění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; db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Canadia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 Patent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Databas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Digitale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Dissertatione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 der FU Berlin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roQues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 Digital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7"/>
              </a:rPr>
              <a:t>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3AB-5AB4-498B-B77E-ADAB217B9D18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knihovnik</cp:lastModifiedBy>
  <dcterms:modified xsi:type="dcterms:W3CDTF">2008-05-02T09:14:51Z</dcterms:modified>
  <cp:revision>224</cp:revision>
  <dc:subject/>
  <dc:title>Selekční jazyky</dc:title>
</cp:coreProperties>
</file>