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B56D-F814-47BC-9846-F558AB44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256-CA1B-4728-A771-94397AD4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118-866A-49F7-B304-0A8E8634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FB43-569C-41ED-93B1-0D497A2D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C0E5-C108-4698-BC0D-79B56DF4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BAD3-9051-47D4-92E8-1CDB5C04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8917-3323-49B7-A8A5-EE61FADF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1D6F-9239-45A8-82DB-E34DFAB5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6C7D-5D11-4157-B059-F9756F94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8641-20BF-4CAD-B015-6BB8E36C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C6E9-9834-4A67-94C9-18F9552D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2A5-38D1-4D4F-A02B-91272358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42B0-8225-4C60-97B4-227A193D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CCC5-F92C-432E-8697-5DDD3606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0091-063D-4749-8020-9E7130E0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1125-497B-43EA-9128-1EEAF349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DAF3-76F4-41B4-B912-746452BB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574-9CF8-48DA-B82A-CDD84E98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367-5D09-464D-B486-530D7A8F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9B0D-4DC7-495F-B89A-ABEE6A6F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65D-BB2C-427A-9CFC-D8E10834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644-A352-4D70-80B0-FED4326F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939-9EEB-4830-8E64-D423D2AA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1FB-2C08-4763-9E0B-E35503B1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4BB2-9527-40A6-8C15-3194C473F7B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541B-2D4A-44C2-885C-87931A7B4B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library.dialog.com/bluesheets/html/bl0391.html#BI" TargetMode="External"/><Relationship Id="rId4" Type="http://schemas.openxmlformats.org/officeDocument/2006/relationships/hyperlink" Target="http://library.dialog.com/bluesheets/html/bl0391.html#BI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library.dialog.com/bluesheets/html/bl0002.html#BI" TargetMode="External"/><Relationship Id="rId7" Type="http://schemas.openxmlformats.org/officeDocument/2006/relationships/hyperlink" Target="http://www.eric.ed.gov/" TargetMode="External"/><Relationship Id="rId8" Type="http://schemas.openxmlformats.org/officeDocument/2006/relationships/hyperlink" Target="http://library.dialog.com/bluesheets/html/bl0439.html#BI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hyperlink" Target="http://www.obchodnirejstrik.cz/" TargetMode="External"/><Relationship Id="rId7" Type="http://schemas.openxmlformats.org/officeDocument/2006/relationships/hyperlink" Target="http://www.metacrawler.com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006.html" TargetMode="External"/><Relationship Id="rId3" Type="http://schemas.openxmlformats.org/officeDocument/2006/relationships/hyperlink" Target="http://xxx.lanl.gov/" TargetMode="External"/><Relationship Id="rId4" Type="http://schemas.openxmlformats.org/officeDocument/2006/relationships/hyperlink" Target="http://xxx.lanl.gov/" TargetMode="External"/><Relationship Id="rId5" Type="http://schemas.openxmlformats.org/officeDocument/2006/relationships/hyperlink" Target="http://xxx.lanl.gov/" TargetMode="External"/><Relationship Id="rId6" Type="http://schemas.openxmlformats.org/officeDocument/2006/relationships/hyperlink" Target="http://www.ulrichsweb.com/ulrichsweb/" TargetMode="External"/><Relationship Id="rId7" Type="http://schemas.openxmlformats.org/officeDocument/2006/relationships/hyperlink" Target="http://www.wipo.int/classifications/fulltext/new_ipc/index.htm" TargetMode="External"/><Relationship Id="rId8" Type="http://schemas.openxmlformats.org/officeDocument/2006/relationships/hyperlink" Target="http://patents1.ic.gc.ca/intro-e.html" TargetMode="External"/><Relationship Id="rId9" Type="http://schemas.openxmlformats.org/officeDocument/2006/relationships/hyperlink" Target="http://patents1.ic.gc.ca/intro-e.html" TargetMode="External"/><Relationship Id="rId10" Type="http://schemas.openxmlformats.org/officeDocument/2006/relationships/hyperlink" Target="http://patents1.ic.gc.ca/intro-e.html" TargetMode="External"/><Relationship Id="rId11" Type="http://schemas.openxmlformats.org/officeDocument/2006/relationships/hyperlink" Target="http://darwin.inf.fu-berlin.de/work/DissSearch" TargetMode="External"/><Relationship Id="rId12" Type="http://schemas.openxmlformats.org/officeDocument/2006/relationships/hyperlink" Target="http://darwin.inf.fu-berlin.de/work/DissSearch" TargetMode="External"/><Relationship Id="rId13" Type="http://schemas.openxmlformats.org/officeDocument/2006/relationships/hyperlink" Target="http://darwin.inf.fu-berlin.de/work/DissSearch" TargetMode="External"/><Relationship Id="rId14" Type="http://schemas.openxmlformats.org/officeDocument/2006/relationships/hyperlink" Target="http://darwin.inf.fu-berlin.de/work/DissSearch" TargetMode="External"/><Relationship Id="rId15" Type="http://schemas.openxmlformats.org/officeDocument/2006/relationships/hyperlink" Target="http://wwwlib.umi.com/dissertations/search" TargetMode="External"/><Relationship Id="rId16" Type="http://schemas.openxmlformats.org/officeDocument/2006/relationships/hyperlink" Target="http://wwwlib.umi.com/dissertations/search" TargetMode="External"/><Relationship Id="rId17" Type="http://schemas.openxmlformats.org/officeDocument/2006/relationships/hyperlink" Target="http://wwwlib.umi.com/dissertations/search" TargetMode="External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4 – 18.4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2F5-A9F4-401C-A70C-4845D9E28ACF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D6A-CE48-4FF1-9D75-6FDFE41FF82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37A-3362-43F8-B85D-353C44EBBEF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D76-13B7-44FF-859F-F1B47795ED65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1C1-22F9-45B6-9903-76D151872A4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CAE-1355-4902-8501-1E210572804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 a harmonizace SJ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informačních zdrojů v elektronické podob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sekundární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přejímaných bbg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mysl a 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měna inform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spora práce, času a lidských zdroj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nadnění věcného přístupu k dokumentům a informací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3482-C68C-4F68-979F-11F860D591F2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orové zaměření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ruktura řízeného slovník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L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postkoordinace/preko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CF1-AA23-4D4F-BF7C-DE60947919D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andardizace S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lexi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řevzetí tezauru nebo jeho čás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MDT-výběr znak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definice vztahů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morf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ravidla pro tvorbu hesel LCS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yntax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0A91-F886-4F77-96D5-78FAF5828EE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edpoklady 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2 úko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esej – 18. červ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test – 16. květ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dy (puzzle) – 15. květ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eznam čísel získaných puzzle zaslat na schwarzjv@seznam.cz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13B-DE4F-4AB3-ABBE-2D66161D2A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andardizace formá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apř. UNIMARC/Autor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ěcné aut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stitu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FLA Classification and Indexing 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merican Society of Index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506-A339-48D7-BCF7-7EF09CC6B225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pojitelnost SJ a potažmo 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y harmoniz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abilit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tibil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g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upné sbližování dvou nebo více systém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kord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tvoření převodníku mezi dvěma nebo více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lexikální jednotk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pojmu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F52-A01E-441C-B3AA-744BCE6F3068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– mapování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stejný typ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koordinovaný SJ 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ost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ekoordinovaný SJ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re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ednosměrný nebo obousměrný přev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o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opojovací SJ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ou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FAF4-B3FA-4FCF-A8D2-71BF14B85021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- mapování SJ</a:t>
            </a:r>
            <a:br>
              <a:rPr sz="4400"/>
            </a:b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Příkla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LJ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LCSH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Konspekt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MD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Projekt ELV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Eurovoc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Pol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pojm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UMLS Metathesaur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1C9-B2B4-4B0F-A34B-7AAB5D2DE796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zinárodní harmonizace a integ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armonizace řízených slovníků a 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ícejazyčné teza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SN ISO 5964 (ČSN 01 017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grovoc (12), Eurovoc (18 ofic.), Me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 vícejazyčné tezau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zykové verze předmětových hes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C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1DC-4AB6-4CEF-B155-A2EEE0FE07D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ingvistické problémy (překlad/převo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ruktu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kompati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% kompatibilita (+nedeskriptory a poznámk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y tezauru pro lokální potřeb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správy a údrž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ložitější proces aktual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mplementace tezauru do AI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W pro správu tezaur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F2E-7D53-46C8-9E6B-BA6E1F21667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us jazy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ejný sta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minantní jazyk/sekundární jazy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prostředkující jazy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9861-6111-4390-B981-28B9F2B75434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klad/převod tezau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chozí jazyk – jazyk, ze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azyk překladu – jazyk, do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terlingvistické a intralingvistické probl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íklad (PSH, řada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rávo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E15-F8DC-4BB7-BD10-2790E887DE81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ekvivalence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ásteč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rmín/více termín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74B-804B-445B-8238-4944E6793E98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physic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Physi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2BA-4381-49A9-8D4C-150222B67913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J: me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Gede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6EE-D09E-438F-89BE-37611ACD8507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Wissenschaf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sc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D3C-B551-43EB-AB46-ABE1D51C80BD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fu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2895120" y="19051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arbura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ombusti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DEBC-08A1-4D35-B094-73881B80901B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digital divi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J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igitální propas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B63F-6686-4015-B6DE-CB8202203B61}" type="slidenum">
              <a:t>34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1AE-9584-4B1F-BFB9-FF504D759024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041-AB0E-4B5B-BCA6-D296B86E8FA7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198-3922-4FEB-8A1E-5105B20296B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F2C-E013-40BC-BEE4-CCCE1721A584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JIB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Obchodní rejstří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vs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431A-DA59-4114-BD0A-BFB50BFE5EA2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TIS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e-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rin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zinárodní patentové třídění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; db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Canadian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 Patent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Databas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Digitale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Dissertationen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 der FU Berlin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ProQues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 Digital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7"/>
              </a:rPr>
              <a:t>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44E-E896-4810-BF2F-D0CC81F66D4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8-04-17T21:02:02Z</dcterms:modified>
  <cp:revision>223</cp:revision>
  <dc:subject/>
  <dc:title>Selekční jazyky</dc:title>
</cp:coreProperties>
</file>