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5A3-ED17-45C4-B2E8-B28A4F42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1AE-88CF-437F-B761-EEDACA68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C85-5E33-4356-A9CC-08A53491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6E1-BAF3-4B5D-A4AC-9330135D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C500-AD7E-46A9-88AA-B5C9B24E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28C1-AE9F-4A77-A440-3C7C58B8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B6A3-3FED-49B6-9FE7-03696B7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9D78-03B0-4497-8B72-5C2DA291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B69-3C0D-4B9A-B1D6-46F8C7F3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92FC-0824-48E8-8F96-75C733BA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CBED-B2F8-4179-9F22-7C64A66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15C-02A6-40D2-A2A2-166060DB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CBA6-D57F-4381-A2ED-0A184B5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F29D-D6E2-48A1-B9B5-84F7D528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DE73-1694-4257-A6E1-840B6C9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1E1F-4A39-45C7-B7EA-9D3C1B50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48F7-A1F8-4997-8DD0-9C40A258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7F0-AB45-4E75-9339-5F37034F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0E8-7518-4C0E-87D5-EF5B3647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F83-8CD8-4E82-B390-E10BE71E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61F-D191-4D96-8A62-15722FC2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047-EFE3-4502-9B02-DC36F2B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091-09B7-44EE-9084-CD97FC1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8BF-7C2A-4FFD-B2F1-64A7010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CBB-9218-4507-9D47-0E836476E8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316F-5284-4FEE-B197-14337ED8861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POJIST.doc" TargetMode="External"/><Relationship Id="rId4" Type="http://schemas.openxmlformats.org/officeDocument/2006/relationships/hyperlink" Target="http://full.nkp.cz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86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učasné trendy v selekčních jazycí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2 (21.3.2008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40458c"/>
                </a:solidFill>
                <a:latin typeface="Tahoma"/>
              </a:rPr>
              <a:t>Komb. studium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7/200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656-EDD9-433E-9D65-443B304BB3A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4F2-C49F-4B80-806E-9262B4AF128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BE0A-F87C-4A05-B341-F5FFEC703A9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434-994F-4BF9-8671-58D85175CAF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611-C854-46EE-A2F4-1462F1CDF1A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B53-448A-4445-B9F1-E4017F5F880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B81-CA5D-4526-95C4-2A2059B5154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E89-118D-42FB-AF32-4DA9DEE8791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E0D-194E-4E9C-95BF-F4C9A22557A3}" type="slidenum">
              <a:t>18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94C-23FF-4629-8CFF-C768F3A25E9F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CA5-01CC-4960-B360-D25B21F79BC7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B87-C4DF-423B-836D-2A1B3F25D82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 +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aplikace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81F2-4BF2-45E8-A6EB-F3B6A062069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  <a:hlinkClick r:id="rId4" action="ppaction://hlinksldjump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BC6-3EEF-4DE4-8075-F2CE578B4C1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843-D8EF-4010-B861-FF7E76D2A9F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074-693A-4319-9353-C0E7F317ED2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8EE-4AF9-4316-99CD-956F75DD221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8-03-21T09:55:06Z</dcterms:modified>
  <cp:revision>340</cp:revision>
  <dc:subject/>
  <dc:title>Selekční jazyky</dc:title>
</cp:coreProperties>
</file>