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0C6-6325-4E92-8690-4E9CC6BB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BCB-7E1A-47BA-BE1A-0B1E002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21D-D4DF-422E-9276-27A2E55F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5F1-9BC2-4B91-A414-773D1D17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471B-69FC-4664-8E1D-0BD6C1DF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5D61-362A-4690-880D-ACB70EE1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6E89-E9A2-43E2-A716-2F7A05AD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8CBB-57AB-4969-8AF6-F795ACBD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5639-211A-4253-BE86-F871F794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EB05-860F-4EB2-811E-99D19045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2C3F-67AD-43FC-9367-73407AB4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1C4-1AB1-4F7D-B6D1-E0C89A04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1995-4758-4C97-A635-C06CEBD0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2E35-7B8E-4A44-A9C8-9AC62B40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7167-AEE8-4971-860A-2B3C57D4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825-07AF-4DA5-B55E-C4F22450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8518-1D8E-4F4B-8697-E1A39C90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0EE-E3D6-4629-8745-4FA1755A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2D4-09D0-43D7-A272-EC3D6A17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76C-C1FF-461C-BF71-E318C5A6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0F1-C345-4785-B9F7-3CC6C477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372-B367-4BB3-B26D-3E5FE76E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C6B-F4A7-4AC7-90D4-E203E6E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707-C35B-43A6-A93C-4CE9CB5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30BE-D911-4DFA-AE58-540F4F82B2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A68-FD35-4A57-943C-72FFBAC35F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POJIST.doc" TargetMode="External"/><Relationship Id="rId4" Type="http://schemas.openxmlformats.org/officeDocument/2006/relationships/hyperlink" Target="http://full.nkp.cz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86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oučasné trendy v selekčních jazycíc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2 (14.3.2008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7/200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E6B-279F-47D4-AED0-CD2E53EAEE6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DA8-2FB5-4927-8E48-C0906B0C993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2D8-2899-4372-BFF5-8A4195A64D7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2B5-E507-4069-B296-EB2C2E56C99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561-A0CA-45C4-A33C-D136CA5F107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214-7096-464C-9657-D2AD7C04084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653-FFFD-4DC9-8259-FAE366F417C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4EA-5E70-49FC-B8E8-2451D677F90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29D-9E54-4825-B25D-6E7AE05C9000}" type="slidenum">
              <a:t>18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B23-7302-4346-9A22-6607B37022BB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382-4C2E-4C1D-B0FE-A09427560DCF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D21-2488-4D68-AFF5-B2AA138264A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 +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aplikace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F76-788A-4650-BA42-BF0BF600E42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  <a:hlinkClick r:id="rId4" action="ppaction://hlinksldjump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0A6-0BF3-4F43-A1D3-0814C857DB9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67D-E9BD-414B-A89C-CDB995A118A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35E-C26F-431D-92C7-F86E97BB00F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A60-6694-4395-9F83-B590F7D967B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8-03-14T10:11:24Z</dcterms:modified>
  <cp:revision>339</cp:revision>
  <dc:subject/>
  <dc:title>Selekční jazyky</dc:title>
</cp:coreProperties>
</file>