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11D-F08D-426A-938D-64D8DF57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3C6-6B97-4144-B8FF-92A5A28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167-67D5-42B4-8E5B-93CCDFED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9FE-C15D-479F-A472-085BDEB1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A7AF-61D3-41DB-83ED-8470F61D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EDBC-0EAB-4048-B26F-3DD88F4F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6B72-E72B-49F8-A86E-CAF0E23F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94F6-FD00-4C39-8AEC-95A9B323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6B52-F5CC-41CD-BB2D-A8C84F7E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562F-927B-4123-9103-5CF55ABA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FC03-628A-4984-969D-25104D82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0E7-393F-4188-9B8A-6CF4B811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4E4F-F5DB-4B2E-A99B-353033E3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DD2E-733C-4E9D-B2E0-480B1C6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F7EA-6C48-4422-A616-B9BD0C7D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0937-0A7F-46F7-A928-34DFBC52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13FF-5861-45C7-9B1E-C1C0CE35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4A2-C505-49E2-911C-CBE3AF2F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FAA-35FE-4794-B114-1DA8CD6B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7F5-F103-433C-BD75-45E7D1FC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883-452A-4E6A-9770-11F34E4D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FE1-D6D1-4BEE-BF36-49D7B97A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72F-B336-41F5-B19E-CD5672E9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A3C-B7D5-4FBA-9919-2DBFF05A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9FCD-6AEC-4CBB-A154-792861A5A7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AEBC-BCA6-4466-8409-9AD48CEF9D83}" type="slidenum">
              <a:rPr b="0" lang="cs-CZ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indpravidla2_0.doc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29.2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SER</cp:lastModifiedBy>
  <dcterms:modified xsi:type="dcterms:W3CDTF">2009-03-18T08:55:23Z</dcterms:modified>
  <cp:revision>115</cp:revision>
  <dc:subject/>
  <dc:title>Selekční jazyky</dc:title>
</cp:coreProperties>
</file>