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924-6D5C-4A1C-A3D4-A651C7CF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C11-1908-4188-A990-DB1ACFFB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6E3-EFF2-4418-8610-365FEA53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9C2-7D39-43B6-8EC8-B399F7EC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A8B1-BB8F-4488-9B27-73445142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FA34-3A10-4031-BF60-D9827741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859A-BD72-4E8A-A21E-9BB47155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96E1-F890-429D-9D3B-DC1D60E7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E9AE-11FE-4508-ABB7-7DEC77A9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C98A-3986-42CB-BC43-A0B8D433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6A4B-7A79-4B19-BA3F-C748E757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C20-6A8D-4538-9916-74E42FCD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17D9-DEDB-4E38-A802-C650BC9D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8680-CBE2-411E-A943-A971FFBB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CCEC-D46A-4132-BDB0-233F1465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EA08-137D-44AB-B177-A6F60DB2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C61F-6632-43AC-96F4-73F7E1F1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B08-EB2C-4AE7-901E-EF286F3E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64F-C146-4C99-B9F1-8233F18B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CB3-7D34-4721-9A06-BACE875C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4AC-B85C-493B-AE10-B88574EF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851-7009-473F-8876-212BC8F0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4B1-CDC5-43EE-91EA-5BDF7588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4B1-E3C7-4D7C-91D9-065600B1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9BE0-CA28-42AA-90B7-C87B182C28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08ED-34A2-42AD-A54D-B4545E8BCDA9}" type="slidenum">
              <a:rPr b="0" lang="cs-CZ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loc.gov/catdir/pcc/fictioninfo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indpravidla2_0.doc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1 29.2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spekt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mě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ce, události,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sychologický vývoj postav, moti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ociální vztah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áme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ba (minulost, současnost, budoucnos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ísto (geografie, sociální prostředí, profes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utorský zámě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mocionální působ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zn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ístup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t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yzické charakteristiky (velké písmo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iterární forma (žán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LA: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Guidelines on Subject Access to Individual Works of Fiction, Drama, Etc. (1990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CLC/LC Fiction Pro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, OCLC, 6 dalších amerických knihov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d r. 199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ěcný přístup k dílům krásné litera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SH (rozšíření o 916 nových hese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 000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Britská národní bibliograf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ce krásné literatury od r. 1997 dle pravidel A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tížnější indexace než u odborné literatury – problém identifikace základních obsahových charakteristik a poj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přítomnost pomocného aparátu (obsah, rejstří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šší subjektiv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ízká konzist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dostatek specializovaných řízených slovní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eprezentace plného textu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vyhledávání podle obsah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ces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ce, klasifik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bstrahování/refero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nástro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lekt/algorit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J/P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ý proces věcného zprac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dentifikace pojm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běr znaků SJ a tvorba selekčního obrazu dokumentu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SN ISO 5963. Dokumentace. Metody analýzy dokumentů, určování jejich obsahu a výběru lexikálních jednotek selekčního jazyka.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Úč. 1.4.1996. 12 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avidla (indexační pravidla)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příklad: ČTT/UK-ETF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sahová analýz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content/subject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určení obsahu dokumentu na základě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orientační, kurzorické/diagonální, selektivní, statarické, racionální čtení –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významy viz TDKI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duk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abstrakt, resumé, výtah, anotac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ch adekvátních čás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ázev, obsah, rejstřík, úvod, závěr, zvýrazněné části textu apo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ásadní význam pro kvalitu S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ozumění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azykov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odborn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dentifikace pojm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cho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ohlednění funkce IS a potřeb uživate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ohlednění významu a rozsahu dokumen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ohlednění všech adekvátních obsahových hledis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anovení důležitosti pojmů/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hlavn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edlejš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yjádře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líčová sl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rozený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běr znaků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ce/klasifikace (PSJ/SSJ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znalost konkrétního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sah zachycení hlavních a vedlejších 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čet znaků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běr nejspecifičtějšího znaku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hle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př. předmět/téma, čas, místo, entita, proces/činnost, vzta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ekoordinace/postk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ubjektivní aspek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pecifičnost indexace (příkl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arla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1 složení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2 komory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3 jedno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3 dvou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4 hor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4 dol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4 federální sněmov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ůvody indexa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á část fondu a výpůjček (veřejné knihovn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ást fondu odborných knihove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žné uživatelské dotaz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eletrizovaný životopis van Gogh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ci-fi odehrávající se na Měsíc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mán situovaný do italského kláštera odehrávající se ve 14. stole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co: Jméno růž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K, KJM, MZK: italské romány * detektivní romány * historické román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BBB: </a:t>
            </a: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historie - františkáni - Vilém z Baskervillu (františkáni - Vilém z Baskervillu - František z Assisi – benediktini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KMO: italská tvorba, 14.stol., benediktini, kláštery, detektivky, historické příběh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MK Tábor: </a:t>
            </a:r>
            <a:r>
              <a:rPr b="0" lang="cs-CZ" sz="1800" spc="-1" strike="noStrike">
                <a:solidFill>
                  <a:srgbClr val="40458c"/>
                </a:solidFill>
                <a:latin typeface="Arial Unicode MS"/>
              </a:rPr>
              <a:t>detektivky - historické romány - středověk - teologie - 14. stol. – Itálie (historické román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USER</cp:lastModifiedBy>
  <dcterms:modified xsi:type="dcterms:W3CDTF">2009-03-18T08:55:23Z</dcterms:modified>
  <cp:revision>115</cp:revision>
  <dc:subject/>
  <dc:title>Selekční jazyky</dc:title>
</cp:coreProperties>
</file>