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0D15-7349-4D14-B7CB-550446B8C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B089-1D9D-4C92-AC76-134F5B6B0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7933-3BB3-4E36-A9D9-8C463EAF2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F7D0-7017-4BC9-805D-7552D1362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F870F-5BE8-4FD9-8805-119954001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B8012-7E01-42EC-B097-5E4B0595B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9EA60-DD58-4C99-A75C-E3756D323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B8E45-C28A-442B-8CD5-ECBCB2A88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155E6-7DF9-427D-91DF-37C1B83A1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5B529-7659-42C7-88F2-7F63EA098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C9A81-E5F1-4EC6-B8FC-AB7D94CC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0ACF-4C87-4FE6-8425-DDF26EAB0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36D9C-694F-4EA9-95A4-210B8948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BF984-FFC6-418F-8653-0E891821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BE1B1-0E3B-4D8C-BDF9-DD7B83CA7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1DF2D-2785-4648-9C01-97AF8F353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F2EBD-1C6F-4495-B044-70651DD29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3456-FFE0-486E-9B0A-00A3546FD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3769-7A09-4815-8D74-1DB651E74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5C04-4A01-41E4-9BE1-DAE4A10BB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7DB2-0892-421C-AB46-90D3D0A25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1A2D-8877-45DA-B12D-9605BC31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8285-F6C1-4270-B85E-6AB93F2C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811E-6443-4295-815F-F872BF9F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F3772-27B9-405F-9A15-67C3A33E686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102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1027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1028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1029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1030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1031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1032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1033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34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035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036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037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038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039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040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041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042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043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1044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1045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1046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1047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1048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1049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1050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1051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1052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1053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1054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1055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1056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1057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1058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1059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1060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1061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1062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1063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1064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1065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1066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1067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1068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1069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1070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1071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1072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1073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1074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1075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1076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1077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1078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1079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1080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1081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1082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1083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1084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1085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1086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1087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1088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1089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1090"/>
              <p:cNvSpPr/>
              <p:nvPr/>
            </p:nvSpPr>
            <p:spPr>
              <a:xfrm rot="5400000">
                <a:off x="8090640" y="531252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9F353-61B3-4CC4-A4C6-7184B5270B5C}" type="slidenum">
              <a:rPr b="0" lang="cs-CZ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ww.loc.gov/catdir/pcc/fictioninfo.html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hyperlink" Target="file:///indpravidla2_0.doc" TargetMode="Externa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Selekční jazyky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042560" y="3309480"/>
            <a:ext cx="6729480" cy="22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Úvod do problematik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40458c"/>
                </a:solidFill>
                <a:latin typeface="Tahoma"/>
              </a:rPr>
              <a:t>Přednáška č. 1 29.2.2008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40458c"/>
                </a:solidFill>
                <a:latin typeface="Tahoma"/>
              </a:rPr>
              <a:t>Filozofická fakulta Masarykova Univerzity, Kabinet knihovnictví - Ústav české literatury a knihovnictví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40458c"/>
                </a:solidFill>
                <a:latin typeface="Tahoma"/>
              </a:rPr>
              <a:t>jarní semestr 2007/2008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40458c"/>
                </a:solidFill>
                <a:latin typeface="Tahoma"/>
              </a:rPr>
              <a:t>Josef Schwarz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40458c"/>
                </a:solidFill>
                <a:latin typeface="Tahoma"/>
              </a:rPr>
              <a:t>schwarzjv@seznam.cz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Indexace krásné literatu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spekty index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ředmě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akce, události, témat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sychologický vývoj postav, motiv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ociální vztah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ráme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doba (minulost, současnost, budoucnost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místo (geografie, sociální prostředí, profes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autorský zámě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emocionální působe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zn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řístupno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čtivos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fyzické charakteristiky (velké písmo apod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literární forma (žánr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Indexace krásné literatu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LA: </a:t>
            </a:r>
            <a:r>
              <a:rPr b="0" i="1" lang="cs-CZ" sz="2800" spc="-1" strike="noStrike">
                <a:solidFill>
                  <a:srgbClr val="40458c"/>
                </a:solidFill>
                <a:latin typeface="Tahoma"/>
              </a:rPr>
              <a:t>Guidelines on Subject Access to Individual Works of Fiction, Drama, Etc. (1990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OCLC/LC Fiction Projec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LC, OCLC, 6 dalších amerických knihove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d r. 199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ěcný přístup k dílům krásné literatur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LCSH (rozšíření o 916 nových hesel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14 000 záznam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Britská národní bibliografi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ndexace krásné literatury od r. 1997 dle pravidel AL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Indexace krásné literatu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roblém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btížnější indexace než u odborné literatury – problém identifikace základních obsahových charakteristik a pojm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nepřítomnost pomocného aparátu (obsah, rejstřík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yšší subjektivi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nízká konzisten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nedostatek specializovaných řízených slovník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1752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Sémantická redukce dokumentů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Sémantická redukce dokumentů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úč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reprezentace plného textu dokument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možnost vyhledávání podle obsah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proces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bsahová analýz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ndexace, klasifik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abstrahování/refero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nástroj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ntelekt/algoritmu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J/PJ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Obecný proces věcného zprac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Obsahová analýz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Identifikace pojmů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ýběr znaků SJ a tvorba selekčního obrazu dokumentu (SOD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ČSN ISO 5963. Dokumentace. Metody analýzy dokumentů, určování jejich obsahu a výběru lexikálních jednotek selekčního jazyka. 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Úč. 1.4.1996. 12 s.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ravidla (indexační pravidla) 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příklad: ČTT/UK-ETF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Obsahová analýz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40458c"/>
                </a:solidFill>
                <a:latin typeface="Tahoma"/>
              </a:rPr>
              <a:t>content/subject analys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určení obsahu dokumentu na základě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lného tex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(orientační, kurzorické/diagonální, selektivní, statarické, racionální čtení –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významy viz TDKIV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redukovaného tex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34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abstrakt, resumé, výtah, anotace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dalších adekvátních část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ázev, obsah, rejstřík, úvod, závěr, zvýrazněné části textu apod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zásadní význam pro kvalitu SO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rozumění tex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jazykové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odborné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ečlivos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Identifikace pojmů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ýchodisk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zohlednění funkce IS a potřeb uživatel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zohlednění významu a rozsahu dokumen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zohlednění všech adekvátních obsahových hledise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tanovení důležitosti pojmů/téma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hlavní pojmy/témat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vedlejší pojmy/témat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yjádření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klíčová slov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rozený jazy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Výběr znaků SJ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indexace/klasifikace (PSJ/SSJ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ředpoklad: znalost konkrétního SJ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úplnost indexace/klasifik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rozsah zachycení hlavních a vedlejších téma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čet znaků SJ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pecifičnost indexace/klasifik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ýběr nejspecifičtějšího znaku SJ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indexační hledisk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apř. předmět/téma, čas, místo, entita, proces/činnost, vztah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rekoordinace/postkoordin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ubjektivní aspek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indexační pravidl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Specifičnost indexace (příklad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arlame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D1 složení parlament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         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D2 komory parlament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D3 jednokomorový systé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D3 dvoukomorový systé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D4 horní komor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D4 dolní komor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D4 federální sněmovn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Indexace krásné literatu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důvody indexace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elká část fondu a výpůjček (veřejné knihovny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část fondu odborných knihove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možné uživatelské dotazy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beletrizovaný životopis van Gogh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ci-fi odehrávající se na Měsíci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román situovaný do italského kláštera odehrávající se ve 14. stolet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říklady index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Eco: Jméno růž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K, KJM, MZK: italské romány * detektivní romány * historické romány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KBBB: </a:t>
            </a:r>
            <a:r>
              <a:rPr b="0" lang="cs-CZ" sz="1800" spc="-1" strike="noStrike">
                <a:solidFill>
                  <a:srgbClr val="40458c"/>
                </a:solidFill>
                <a:latin typeface="Times New Roman"/>
              </a:rPr>
              <a:t>historie - františkáni - Vilém z Baskervillu (františkáni - Vilém z Baskervillu - František z Assisi – benediktini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imes New Roman"/>
              </a:rPr>
              <a:t>KMO: italská tvorba, 14.stol., benediktini, kláštery, detektivky, historické příběhy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imes New Roman"/>
              </a:rPr>
              <a:t>MK Tábor: </a:t>
            </a:r>
            <a:r>
              <a:rPr b="0" lang="cs-CZ" sz="1800" spc="-1" strike="noStrike">
                <a:solidFill>
                  <a:srgbClr val="40458c"/>
                </a:solidFill>
                <a:latin typeface="Arial Unicode MS"/>
              </a:rPr>
              <a:t>detektivky - historické romány - středověk - teologie - 14. stol. – Itálie (historické romány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21:06:36Z</dcterms:created>
  <dc:creator>J.Schwarz</dc:creator>
  <dc:description/>
  <dc:language>en-US</dc:language>
  <cp:lastModifiedBy>USER</cp:lastModifiedBy>
  <dcterms:modified xsi:type="dcterms:W3CDTF">2009-03-18T08:55:23Z</dcterms:modified>
  <cp:revision>115</cp:revision>
  <dc:subject/>
  <dc:title>Selekční jazyky</dc:title>
</cp:coreProperties>
</file>