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768-5097-41F1-B3EC-F528ACE7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78D-D5BE-4B89-8E97-5D428C2C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D8F-6A6D-4B18-8230-FA6396AB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0E9-9490-4DD8-A67D-245E7321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8ED2-8630-4DEA-9687-E249A250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D7BD-9490-4931-A069-F9614B3A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F7A0-7D80-40D5-9815-57F14BFC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F229-86E1-43B1-95D8-0E0BB75D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01C3-CB89-48D3-817C-F141CD92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1A7C-57E6-416D-A7DC-2DA79A4C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D9A1-7468-4291-84C9-0F10F679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6AA-A084-4E2F-811C-928AF867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962F-EB76-4D82-A9E3-778921BD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5E06-D3A5-4D0D-A98D-CD175311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CC0F-51DE-467D-AD25-54C2819E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C3E8-ADBA-4B23-849A-92F038BD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4F9B-8D72-421F-849A-CC86C33A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01A-E4E6-4408-9904-24CC5224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AFD-395F-4D9B-8F80-EC96E5A2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84D-4455-4370-A34D-785BECD8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8C9-8282-4483-8562-62F0BCEA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464-DA01-44A0-8AC3-45D17FDB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CA7-0CC1-4179-9388-8689275E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88D-3C91-4C42-9541-2B3232B6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4BCF-5F19-4561-85F0-098404840C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499B-F329-4AF4-8942-FD83ED0B9473}" type="slidenum">
              <a:rPr b="0" lang="cs-CZ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indpravidla2_0.doc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29.2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SER</cp:lastModifiedBy>
  <dcterms:modified xsi:type="dcterms:W3CDTF">2009-03-18T08:55:23Z</dcterms:modified>
  <cp:revision>115</cp:revision>
  <dc:subject/>
  <dc:title>Selekční jazyky</dc:title>
</cp:coreProperties>
</file>