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EFC-40DF-41B7-8DB7-6914A98D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B9E-2D22-485C-BE75-4CF62CE8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295-B3C0-427C-894F-30C69287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ED9-6DDB-4495-B4BA-82E147DD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A481-6AC6-4929-B693-3C51F79F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D0C5-9633-4BFF-B5FD-F1F422D3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27EE-7EE8-4240-AC48-339F4F8F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9EAC-15F0-41F4-995C-25BA92FB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C928-DE18-45E0-A6DB-1E4E0691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BEDA-865B-4694-A605-205276DC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2960-F0A9-4E4C-8DF3-120F32CD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A52-9A7A-40F3-B20C-689CB339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4254-AEA9-4256-998F-4A7FD853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9937-A91F-44FE-9C25-56D5987C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FA8B-AC85-4B50-B29E-5C67DC03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A094-5D49-4F24-A8E1-BE4314DD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7DBE-87DB-4F26-BDF5-FED2C8CA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A42-C916-4E22-98EF-6DCCC065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CC9-0B95-40B8-9BAD-BB8BB0CD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769-849E-4DCC-87DA-A4BD3F27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DFF-7288-4902-87BA-B912C4F9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BFB-671A-448D-B462-C584968D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D80-4F3C-46E9-A9B8-4DDEB04A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5F4-1C93-4963-8054-DBE44C31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CB92-2129-49CE-B017-B2091C69EF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ECFE-B3B9-4865-9E35-4C662FB9C77A}" type="slidenum">
              <a:rPr b="0" lang="cs-CZ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ev/evquery.sqw?snt=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www4.infotrieve.com/newmedline/adv_search.asp" TargetMode="External"/><Relationship Id="rId4" Type="http://schemas.openxmlformats.org/officeDocument/2006/relationships/hyperlink" Target="http://library.dialog.com/bluesheets/html/bl0002.html#BI" TargetMode="External"/><Relationship Id="rId5" Type="http://schemas.openxmlformats.org/officeDocument/2006/relationships/hyperlink" Target="http://www.eric.ed.gov/" TargetMode="External"/><Relationship Id="rId6" Type="http://schemas.openxmlformats.org/officeDocument/2006/relationships/hyperlink" Target="http://library.dialog.com/bluesheets/html/bl0439.html#BI" TargetMode="Externa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leph.lib.cas.cz/" TargetMode="External"/><Relationship Id="rId3" Type="http://schemas.openxmlformats.org/officeDocument/2006/relationships/hyperlink" Target="http://www4.infotrieve.com/newmedline/search.asp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hyperlink" Target="http://www.scirus.com/" TargetMode="External"/><Relationship Id="rId6" Type="http://schemas.openxmlformats.org/officeDocument/2006/relationships/hyperlink" Target="http://aleph.lib.cas.cz/" TargetMode="External"/><Relationship Id="rId7" Type="http://schemas.openxmlformats.org/officeDocument/2006/relationships/hyperlink" Target="http://www4.infotrieve.com/newmedline/adv_search.asp" TargetMode="External"/><Relationship Id="rId8" Type="http://schemas.openxmlformats.org/officeDocument/2006/relationships/hyperlink" Target="http://www.google.cz/advanced_search?hl=cs" TargetMode="External"/><Relationship Id="rId9" Type="http://schemas.openxmlformats.org/officeDocument/2006/relationships/hyperlink" Target="http://www.scirus.com/srsapp/advanced/index.jsp" TargetMode="External"/><Relationship Id="rId10" Type="http://schemas.openxmlformats.org/officeDocument/2006/relationships/hyperlink" Target="http://aleph.lib.cas.cz/" TargetMode="External"/><Relationship Id="rId11" Type="http://schemas.openxmlformats.org/officeDocument/2006/relationships/hyperlink" Target="http://www4.infotrieve.com/newmedline/search.asp" TargetMode="External"/><Relationship Id="rId12" Type="http://schemas.openxmlformats.org/officeDocument/2006/relationships/hyperlink" Target="http://www.psp.cz/rapid/aRL/main.php?language=czech&amp;ictx=par" TargetMode="External"/><Relationship Id="rId13" Type="http://schemas.openxmlformats.org/officeDocument/2006/relationships/hyperlink" Target="http://df.stk.cz/cgi-bin/dflex/CZE/STK/FIND2" TargetMode="External"/><Relationship Id="rId14" Type="http://schemas.openxmlformats.org/officeDocument/2006/relationships/hyperlink" Target="http://tinweb.upm.cz/" TargetMode="External"/><Relationship Id="rId15" Type="http://schemas.openxmlformats.org/officeDocument/2006/relationships/hyperlink" Target="http://www.psp.cz/eknih/" TargetMode="Externa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3 – 11.4.2008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4EDF-1C80-4A98-93FF-E080F010BAA5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0942-A086-43D7-9540-601811ABB80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540A-1E61-4572-9D6D-23FB952F7C9B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BDEC-5232-490E-BCA7-D691858B7BD0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EEB5-4D35-4924-A186-8A838A03E931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CBFA-06C7-4EDE-A88B-16D4A78C0E3E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6F05-B814-4FB7-B5B4-5FD004EA2A4A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CB55-5D2D-4FF5-8944-733558464725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A369-C26C-472A-AEE2-E5F99DD8E248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A96C-F770-4E3F-A3CC-3D09D4117D58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5D6F-8297-4841-B73F-C5D9AA04CBFE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D104-CDA4-49B2-B2D4-7DAF67F8B370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B03C-5C74-4607-B9D8-8A1E0CA9BC4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 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8898-BA0F-4B30-9C0C-7D7A42B1EB22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JIB, Sciru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Metacrawl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Obchodní rejstřík vs Metacrawl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C05B-0F5D-4AAF-A2CE-B2056079BC17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TIS, e-Print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atentové třídění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3D6B-4187-4E0C-A95D-9ECB7CFF42DF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6A4C-D948-48E6-8898-31298058372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040E-F176-44EA-ACF2-255F58A31FD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23AD-30AA-46A1-8D2A-E85481ABE6DE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037C-8429-4902-AF31-6E222D6C8FD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D936-571C-43D4-8EA2-C3D157E0BB4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C936-E221-438D-9320-1457E6CABE0C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1FA5-CC30-480A-81A1-903FDC512ED5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cs-CZ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6C53-C804-407C-82C9-4C51330F8F83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300A-A052-4B62-A376-E2CB4D6130C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70D4-EF79-4812-BCEF-1D7214377DC6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59C4-4699-4C17-B536-4E7D136A948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SER</cp:lastModifiedBy>
  <dcterms:modified xsi:type="dcterms:W3CDTF">2009-03-18T08:58:31Z</dcterms:modified>
  <cp:revision>222</cp:revision>
  <dc:subject/>
  <dc:title>Selekční jazyky</dc:title>
</cp:coreProperties>
</file>