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7B5-BCFE-43B7-B06D-E0159975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2FB-0588-4575-B91C-B10CCAB1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ECC-FB53-4654-BAB1-4135E9ED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338-FF93-4188-89E4-56F296B5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53A3-5F50-4EA7-AAF5-F7A1DBC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D48-05A5-4F5D-8E2A-8886968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7C0-5321-455D-9403-AF371D46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EFC1-608C-4A6C-8E92-2E501D7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47F-BACE-45CF-9C3C-CE9A69BC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6AE9-FDCE-4C70-8166-ECCA726B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8DE5-DC08-4BEA-B560-CC59C9B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98D-A993-4A79-A2AA-726C457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DD53-DF71-4C69-A7D9-25D78C8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725-DBCF-4B6C-9FCB-6E82358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88E-8D1B-4F28-AF39-EF13F50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9C9-809D-40CF-8DE6-8B765FB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5F24-8F2D-4904-9189-0A187484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3F3-27DC-4023-A322-B4F29C9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5CF-E304-40BC-B0F0-C365E5E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09D-2DE3-41E4-9679-806A299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803-1694-4B56-B8F1-0CA3569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BFA-7A16-4D0F-B649-20C880B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B27-2F44-4D83-81F4-A117B8F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5ED-9D22-4151-8F34-E37429D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F3A-B32D-4D8A-A2E6-1B163CD26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133-7150-452E-B34D-3CCF486D0C25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www4.infotrieve.com/newmedline/adv_search.asp" TargetMode="External"/><Relationship Id="rId4" Type="http://schemas.openxmlformats.org/officeDocument/2006/relationships/hyperlink" Target="http://library.dialog.com/bluesheets/html/bl0002.html#BI" TargetMode="External"/><Relationship Id="rId5" Type="http://schemas.openxmlformats.org/officeDocument/2006/relationships/hyperlink" Target="http://www.eric.ed.gov/" TargetMode="External"/><Relationship Id="rId6" Type="http://schemas.openxmlformats.org/officeDocument/2006/relationships/hyperlink" Target="http://library.dialog.com/bluesheets/html/bl0439.html#BI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leph.lib.cas.cz/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aleph.lib.cas.cz/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aleph.lib.cas.cz/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tinweb.upm.cz/" TargetMode="External"/><Relationship Id="rId15" Type="http://schemas.openxmlformats.org/officeDocument/2006/relationships/hyperlink" Target="http://www.psp.cz/eknih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11.4.2008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360-44B6-4A71-B198-8901035E1BA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D21-B92E-4662-8E9C-FFA6EF3DCDF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9233-CFEB-417C-8FB5-DD1DA4EAFDC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1E82-D562-4FD6-8122-AB6181C3DCF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03B-951B-418F-9D5F-0051885130F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01B-8A10-4EE0-9A5C-37B337325BD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9FE8-6A97-4802-96F3-1623BC89E27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4FD3-EC69-49C7-BF15-DF579196CE4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8E6E-E474-450F-8424-E25801F09BF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397-1816-454C-B5ED-264060E8240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958-03AA-4AA2-93CF-F4C9A918AF4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0AC-BE12-4CAD-9508-65EC206DDC9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6950-8607-4265-AD61-60CF94A06E9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 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481-62C7-467E-A89C-FA7282EAA2A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JIB, Sciru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Obchodní rejstřík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FA0-FB68-4EC8-8C92-0F2B74ADB00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8EB0-894D-4573-9699-F51D76C27D1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640-75FA-462D-90D0-049E95D1C61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757-D27F-4D59-BE08-98D3320C6C5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A0A-2505-4461-9852-F873FDD2D2A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C02C-5F0B-4C23-A047-71FA93D1196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EDBC-7E6B-4F21-9938-45EF18025CC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80A-A9DB-48B3-8C5D-AB4914F9EFD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3F36-66F5-4405-B3C2-02D764BE5FE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B3F-86D1-4FE9-A2F0-A67FBB6888D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13DB-CA1C-4322-88DA-2A8B1C22D93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47D-99C2-4619-8584-D907451F8A5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4EB-F2FA-437D-881D-B02641B7ACD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8:31Z</dcterms:modified>
  <cp:revision>222</cp:revision>
  <dc:subject/>
  <dc:title>Selekční jazyky</dc:title>
</cp:coreProperties>
</file>