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CDA-BB32-4213-A548-30DFC933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A7D-497F-4857-A97F-7BEEFD62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FA3-EC90-44E1-A8A3-4F60E610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36E-3551-48D7-940F-451CD0C8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5DA6-AD56-4842-B112-9DBD2FD2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4EE9-DAD2-46F3-9E22-A5790390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F242-66B8-47EB-8AA4-36F290BE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EAC3-2A73-425F-9307-35AB64FF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3C87-A284-4A0E-811A-B2A19079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6CE6-3571-4784-91EF-AC0988CB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CA07-E605-4C8B-811A-3D27CABA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E2A-9F1A-4ECA-8C36-0B9409B1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397E-3AC6-439D-8D0B-323FDBD2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2F2D-099F-42EB-B117-7FB02899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14D9-AB83-4C75-9F58-877A2110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2C5D-6499-4D3D-8CA2-9E63B2E0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FA2A-3AD4-424F-9F95-F81A89CE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D37-4886-4BA2-8FFA-B7F9D736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ADD-AFB8-4712-8606-BDCD96A0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7B8-BB11-48D4-BDFA-9315655F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899-9EB8-4C3F-9D9D-E809A4A1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412-5F19-4BBA-AB94-CDC2E416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BDD-1F63-4C2C-8075-FF918D18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333-AF97-448D-93A2-121BBA89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FAD5-71BC-4512-A043-6EA1C4AAF1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15AA-60BA-468D-BC6A-96E7982A06B4}" type="slidenum">
              <a:rPr b="0" lang="cs-CZ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ev/evquery.sqw?snt=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www4.infotrieve.com/newmedline/adv_search.asp" TargetMode="External"/><Relationship Id="rId4" Type="http://schemas.openxmlformats.org/officeDocument/2006/relationships/hyperlink" Target="http://library.dialog.com/bluesheets/html/bl0002.html#BI" TargetMode="External"/><Relationship Id="rId5" Type="http://schemas.openxmlformats.org/officeDocument/2006/relationships/hyperlink" Target="http://www.eric.ed.gov/" TargetMode="External"/><Relationship Id="rId6" Type="http://schemas.openxmlformats.org/officeDocument/2006/relationships/hyperlink" Target="http://library.dialog.com/bluesheets/html/bl0439.html#BI" TargetMode="Externa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leph.lib.cas.cz/" TargetMode="External"/><Relationship Id="rId3" Type="http://schemas.openxmlformats.org/officeDocument/2006/relationships/hyperlink" Target="http://www4.infotrieve.com/newmedline/search.asp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hyperlink" Target="http://www.scirus.com/" TargetMode="External"/><Relationship Id="rId6" Type="http://schemas.openxmlformats.org/officeDocument/2006/relationships/hyperlink" Target="http://aleph.lib.cas.cz/" TargetMode="External"/><Relationship Id="rId7" Type="http://schemas.openxmlformats.org/officeDocument/2006/relationships/hyperlink" Target="http://www4.infotrieve.com/newmedline/adv_search.asp" TargetMode="External"/><Relationship Id="rId8" Type="http://schemas.openxmlformats.org/officeDocument/2006/relationships/hyperlink" Target="http://www.google.cz/advanced_search?hl=cs" TargetMode="External"/><Relationship Id="rId9" Type="http://schemas.openxmlformats.org/officeDocument/2006/relationships/hyperlink" Target="http://www.scirus.com/srsapp/advanced/index.jsp" TargetMode="External"/><Relationship Id="rId10" Type="http://schemas.openxmlformats.org/officeDocument/2006/relationships/hyperlink" Target="http://aleph.lib.cas.cz/" TargetMode="External"/><Relationship Id="rId11" Type="http://schemas.openxmlformats.org/officeDocument/2006/relationships/hyperlink" Target="http://www4.infotrieve.com/newmedline/search.asp" TargetMode="External"/><Relationship Id="rId12" Type="http://schemas.openxmlformats.org/officeDocument/2006/relationships/hyperlink" Target="http://www.psp.cz/rapid/aRL/main.php?language=czech&amp;ictx=par" TargetMode="External"/><Relationship Id="rId13" Type="http://schemas.openxmlformats.org/officeDocument/2006/relationships/hyperlink" Target="http://df.stk.cz/cgi-bin/dflex/CZE/STK/FIND2" TargetMode="External"/><Relationship Id="rId14" Type="http://schemas.openxmlformats.org/officeDocument/2006/relationships/hyperlink" Target="http://tinweb.upm.cz/" TargetMode="External"/><Relationship Id="rId15" Type="http://schemas.openxmlformats.org/officeDocument/2006/relationships/hyperlink" Target="http://www.psp.cz/eknih/" TargetMode="Externa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3 – 11.4.2008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3644-2639-4B0E-8D7E-0F05F6972B27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332E-B1DE-4B91-9F2E-C13E72F2F3DA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8481-3BBF-4B6A-9A23-B3C8CFBEDB46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622D-3129-4B08-89EB-FE489474FBC7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90CE-DE84-4545-B72E-5CB1844377D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C6BB-33B8-4086-9E5E-54CD1DAAA770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E35C-401E-41D5-B24F-CFB15DCCA524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B65E-C464-459B-A4E9-93E23CC0B61A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F809-43CB-4A3D-A11C-6C747D4DEB7B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EC74-AD91-48DB-A63C-32F6EDA820E7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D0CA-6E38-4475-9B85-CF18DBFC6818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AC2B-1EEE-4820-B641-2AC21A3CED25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9813-FDDF-45A0-A357-8E6DBC6CB80F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 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A276-D698-4BA3-A52B-4CBEE6C36054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JIB, Sciru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Metacrawl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Obchodní rejstřík vs Metacrawl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CB82-A6FA-4554-81DC-B3B9AB98F67E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TIS, e-Print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atentové třídění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E659-C410-4D81-9C59-2C79FAD2D7A1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1C28-117D-412E-9A25-7F1141EE32C7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DDE7-6C47-47BA-8248-F97BE7F8F7BA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019C-C87A-48AB-9D6D-4B18E8AA9923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8D5C-597F-46EF-9005-6789C5922E35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4D6E-A528-4D9E-8CE3-F8840DECE151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cs-CZ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915F-D3EC-4084-9CA5-38AF0732F2AE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KNA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Zástupný symbol pro číslo snímk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5C9E-AE3A-41D5-A56A-B614DF5F49B6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cs-CZ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C1D4-E1B7-4FA5-BC99-4A2CE6C21296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3AA2-951C-4A09-AB3C-324D2EC49FB5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8A22-49F4-4967-82D9-3BFEF9DB3D14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ástupný symbol pro číslo snímk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614A-D5C9-4B76-B7A9-D3D4DA038862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SER</cp:lastModifiedBy>
  <dcterms:modified xsi:type="dcterms:W3CDTF">2009-03-18T08:58:31Z</dcterms:modified>
  <cp:revision>222</cp:revision>
  <dc:subject/>
  <dc:title>Selekční jazyky</dc:title>
</cp:coreProperties>
</file>