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3F85-31DE-43EA-B30B-58F79DC27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5BB3-3C41-4EFA-8133-992F25C00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EF7C-94C1-48CB-B464-AAA19F97B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E554-9AAA-4D14-B5D3-11AE8F616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1D8C-7010-46BF-9A5D-92D18EAE9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F6AB-2D68-431D-AF4F-EDEEBDA10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4B53-584F-4BB4-B5C1-45A8D6916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F815-0891-4795-8365-6D9E48DC5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F471-FD5B-4DFE-94FA-2F8EC24ED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2501-A925-4C35-815A-DBCBB8988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9ABE-5E0A-468E-97BF-47220BD94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7324-1583-4742-9D7A-655195817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B714F-42EE-48D1-B43C-8DB874BAAD50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Manželské a rodinné poradenstv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pracovala PhDr. Marta Pšikalov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Komunik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otivace ke komunika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iskvalifik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vojná vazb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ácvik komunikace (sdělování, směřování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Základní poradenské a terapeutické přístup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ehaviorál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ognitivně behaviorál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umanisticko psychologick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- Virginia Satirov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- Carl Ro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- O´Neilov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ystemick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ransakčně analytick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ogoterapie a existenciální analý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Integrativní a eklektick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Koluz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ce (potlačená a odvržená pudová přání či jejich části; co si chtěl jedinec přes partnera doplnit, vede k oživení konfliktně prožívaných přání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nalytický pohl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- narcistick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- orál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- anál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- genitál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sychologie rodi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ce rodi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Uzavřenost a otevřenost systé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ční rod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Dynamika rodinného soužit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Eta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ormativní a paranormativní udál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r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- defin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- parciální dys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- totální dys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Rozpad manželství a rozv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d krize k rozvo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Čtyři etapy předrozvodového, rozvodového a porozvodového dě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sychorozv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- definice dle Plaňav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- úko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Rodinné a manželské mý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edpokladem vydařeného manželství je sdílení společných zájm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 manželství se partneři rozhodují svobodně a nezávis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zájemná láska zabrání vzniku problémů a potíž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 manželství nejsou zakázaní a rizikoví partneř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rozením dítěte se urovnají a vyřeší manželské sp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artnera (partnerku) je třeba přetvořit k obrazu svém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do není dokonalý, bezchybný, úspěšný, výkonný, je nehodnotnou až bezcennou bytost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ak ty mně, tak já tobě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estli se mně(nám něco nedaří, je třeba najít viníka (obětního beránk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ěkteré zásady jsou jasné, „svaté“, nejede přes ně vl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ětem je třeba se obětovat, i manželský život je třeba jim a jejich blahu podří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o na srdci, to na jazyku (doma lze být upřímný a spontánní, lze si hned vše vyříka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Rodinná psychoterap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stup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- psychodynamick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- experienciál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- behaviorál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- komunikační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) strukturní (S. Minuch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) strategický (Haley, Lidz, Simon a Stierl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- komunikačně interakční (V. Satirová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orozvodové spory o dě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ozvod jako zásah do rodinného dě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spořádání kontaktů rodičů s dět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espekt rodičů navzáj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přiznání rodičovských schopnost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přiznat druhému lásku k dě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děti potřebují kontakt s oběma rodič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muž nebude fungovat jako žena, žena nebude fungovat jako mu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zvládnutím rozvodové situace dospělí pomohou zmírnit její dopad na dě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dítě nemá být nátlakovým prostředkem k ovlivňování druhého rodič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veškeré informace si předávají dospělí, dítě není transportérem vzkazů jednoho rodiče druhém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Úkol pracovníků OSP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Úloha soud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yndrom zavrženého rodič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Domácí násil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ymezení poj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ruhy násil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- psychick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- fyzick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- sexuál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ýty, které přetrvávaj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zice oběti, důvody jejího mlč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ůsledky D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ev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am v případě ohrož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Historie manželského poradenství v Brn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ok 1971 – ustavení porad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sobnosti působící v brněnském poradenstv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tupné členění porad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yndrom vyhoře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ízna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ev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lužby v manželské poradn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borné sociální poradenstv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manželské a rodinné poradenství – cílené, krátkodobé ved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manželská a rodinná terapie – systematická déletrvající restrukturalizace systé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telefonická intervence a poskytnutí informac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psychologická krizová interv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nácvik soc. dovedností (asertivní chování, relaxační technik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skupinová terapie a poradenstv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poradenský servis a terapie pro rodiny s dětmi v NR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lužby v manželské poradn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ociální poradenstv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- základní sociálně právní poradenstv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- poskytování informací (přesměrování na jiné institu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- spolupráce s jinými organizacemi v rámci sítě sociálních služeb, zdravotnictví a školstv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Základní formy poradenských služe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ípadová práce s jednotlivci, páry, rodinami, skupin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kytnutí informace, doporučení, poradenství, terapie, psychologického doprová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moc při zprostředkování dalších kontaktů (psychologická, zdravotnická, sociální pomo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Cíl poradenského proces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osažení alespoň relativní stabilizace a harmonizace osobnosti klienta, aby mohl přijmout sám sebe a plnit roli v oblasti partnerství a manželství, rodičovství a rodin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 souladu se záměrem obou klientů dosáhnout alespoň relativní stabilizace a harmonizace vztah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 práci s rodinou dosáhnout alespoň relativní stabilizace a harmonizace rodinných vztahů, aby rodina mohla optimálně fungovat. Vždy se preferuje zájem nezletilých dětí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Základní zásady při poskytování služe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espektování práv klient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- není potřeba žádné doporuč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- služby v poradně jsou bezplatn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- klient má právo vystupovat anonymn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- povinnost všech pracovníků poradn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- zachovat mlčenlivost dle §90 vyhlášky č.182/91 S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- dodržuje se zásada nestrannosti a nezávislosti přístupu ke klientovi a řešenému problé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Základní zásady při poskytování služe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espektování volby klient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- k výběru pracoviš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- k přání věnovat se konkrétnímu problé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- na změnu poradce, změnu požadavku, ukončení poradenského procesu i bez udání důvo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Volba partnera a směřování k manželstv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o si člověk od manželství slibu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ozdíly v představách žen a muž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o také hraje roli (patriarchální, matriarchální, spolupracující přístup, klima v rodině vlastní a v rodině druhého partner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strumentální slož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organizování chodu domácnosti, fin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výchova dětí a péče o n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organizování volného času (společného i pro každého odděleně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s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radiční pojetí mužské a ženské r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7T21:17:30Z</dcterms:created>
  <dc:creator>empty</dc:creator>
  <dc:description/>
  <dc:language>en-US</dc:language>
  <cp:lastModifiedBy>empty</cp:lastModifiedBy>
  <dcterms:modified xsi:type="dcterms:W3CDTF">2010-04-15T21:46:56Z</dcterms:modified>
  <cp:revision>7</cp:revision>
  <dc:subject/>
  <dc:title>Manželské a rodinné poradenství</dc:title>
</cp:coreProperties>
</file>