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dt" idx="2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2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D50B4-04B2-401B-82CB-B8DE32AF454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D2F34-A616-40FC-9722-118CB2BF139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B338B-8C8F-4AE3-B6BF-07A5A7F0B75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720360" y="4140360"/>
            <a:ext cx="54514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1DD58-CBB9-445B-B0D4-F7267FB5DCD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360000" y="4140360"/>
            <a:ext cx="611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2C8A4-E52C-4F6C-9E75-1BBCFAD19E5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FF279-B2A4-4CED-BEF8-6999FF8C3E3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633240" y="4056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1CE6D-719C-4164-A030-56567C21512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94719-305F-4B73-80DE-D97E1FE42B7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4A318-0282-4BEF-9DED-D48226D9498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8F0C2-B0CD-4A52-A0D6-89F5F83AEC3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51D44-7193-4C70-8361-23DE8C44AD8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124CA-3C0D-47D6-956E-3A4F0ABF3A4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E682-5EA0-4E39-9383-35B8F5D9BD8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875A9-8491-4B77-BB46-268054DFC69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079640" y="3603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45C3F-001D-4417-8746-74C6E599D1D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3DF56-5D19-4CB5-B552-9F8CD1FDD5D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F540-4A3A-481A-97F3-53184F2F5EF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CE53E-DE07-4251-A913-88A2AACF792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E219B-8AA2-4BB2-BF2D-4638CE8678B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96E88-22E7-471D-9668-2DD8E65F967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66EF0-DDFE-4CAF-9E63-20905F93B91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7E494-73C6-4793-803F-544D6845027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EC0984-FB17-402C-8EBD-7C050853E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720720" y="4156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85F0D-EAEC-4D32-B21D-F892EC67695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CD392-A121-495F-9E06-47EF21419CA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720720" y="43196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B7CA7-557F-4668-999A-EAB14F4BD00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927A0-6357-4AFA-9940-06A82CB9388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1AC39-B3BC-4E1A-B367-F0DBC0994A0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8432-E9AE-4B2C-AEEA-EC6361D2ED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C36D-8C5E-4817-8D15-3916218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4BFE9-DCFB-4FEC-B03D-17E0927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0E473-85B3-4FE2-BFF4-5829D3D2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F4BC8-40C8-45DD-8CA3-8247762A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C7F6C-A5DD-40EC-A24C-090F3837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49EA6-1175-4FEC-891B-6928B8DF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291C4-12AE-4029-A3CB-368B38CB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95029-EEEE-48A8-B722-9E2595A0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641D2-8813-4AEC-B92A-36E5E01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A73C7-BE3B-4FC1-A463-C3E342E84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78CD9-8492-4F3A-A405-96CD8108E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FE80-2B27-4698-9A87-AB169B7C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87CE6-F54C-46D0-9411-916DA50C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1EABD7-E933-47A7-B9AF-05A2EEC6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105FBC-0E61-48DF-9F0B-4B9392A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B533B8-C7F6-463B-B6FA-671837FF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0647D7-674B-4439-BACD-EC7E0E96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5F1EC5-680D-4DB5-9536-B07434E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E091E-63E5-485F-8AF0-E05A77D5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4BA23-9E15-4AC5-9FCA-EEE48AD0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0D3945-6D79-4566-8F2F-17619D4A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DFE885-9124-41B5-9DF4-52B67C6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5697-A95C-412B-A7E2-78F035E57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2A485F-FB74-48FE-A513-FABA94253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D228AE-FAA0-4FB6-8640-80D6BAEAC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BFA49A-4E83-47D6-91A0-7D39FBBA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2D1A0-3FF3-48EC-82CB-010023F9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F4A3AA-C152-48E0-AFAA-F487D96F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D32D3-3EE1-4019-8ACC-3DCC76E1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6BECF7-7515-430E-ABCA-37CFA8B8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D07B9-7EE2-4194-A33D-53D9F6B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13065F-DF0E-4678-94D2-6CE377B3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E49EF-D349-4A76-8280-00833C1E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2C996-348F-4A8A-97DE-9866A51AF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C39B1B-D22F-4A13-A6C6-00462C97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147CA4-0AA7-4BE3-82DE-1938871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181D8-42C8-43D2-B232-5012A63BF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49574-F3DA-46D5-AB05-00E8C4B06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12C8E-02B0-490E-A75D-595CC24E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CDA01A-7EBA-41CF-AC92-C1B4F14D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8684C1-E429-4785-9118-FB724A24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179133-1D71-4453-ACCD-5B0B863A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B40CDF-FC7F-464D-AB50-DA088E18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31394B-A42B-4C23-B9C2-9027A1F3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FAAF8-C36D-4D1D-A6AA-C905E03B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79950A-8D63-4A6B-966B-79FE827D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9CB93-A0EF-4F76-9E9A-DE97AF9A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FCBA0-561A-4925-8360-76E439C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55D102-3B35-4CD3-8139-720FFC47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3743B-F1D7-4DB1-9DF5-16F4D889B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BF8A2-3A98-4E5F-8378-948724F9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D5B35-475E-4249-BC61-2BF0B190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C3803-63E0-40BD-8420-92352089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2323-CAAA-4500-9C11-3A5D3D98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F9BE2-F793-4DE1-BC17-F0B8B7D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6260-8523-475E-AB08-71A6AC6E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A7FBD-17BB-4C60-BD3C-0EBF23C4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D7A95-31F5-49E5-9641-F9288B43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03C8A-48BD-46F8-B3C3-23CFA3BF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4105F-40EE-48C8-B0C7-000A256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BEC19-260E-4E27-915A-147738DD0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EA04-CFF5-45B7-8DEB-DEE072240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C48D-37AD-4216-9661-FFA6C57E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28D8-DD96-4824-AA49-01C33E39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8337-6974-49E9-B6AB-3851B5F7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072C-D159-46E5-8D3A-606AEB7E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0BCB-C58C-41C9-9BB9-172241AB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8F40-51FC-4664-BCEE-A944F09F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9D34-F9E1-46BB-B81D-256B6F60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6256-7747-4575-84E9-E580FE4E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6087-FA72-4069-BB0A-60F87232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ACA-EFFB-48CB-A6FA-33A80CC5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538A-5C08-48F5-89AA-63A497E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4396-B215-479C-856C-C9E9A972B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AC4F7-3DB9-4223-9384-F8A065A98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9F926-4C3E-4CFE-B9E1-AD4429A9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B3A98-ABCA-4802-8A08-D2926B7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C957-1072-46C3-B771-9EACB00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F9011-F461-4033-A7B5-300FA100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2FF85-CD69-4A6C-AAAA-F8BACC15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BC634-80D6-45C6-B818-01C850B0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7F229-6A94-4578-B354-D95AD73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CC0C9-958F-4348-B767-59692832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3BF83-B272-4A97-8C5C-88520DD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E4DDE-1780-4FEB-8A6E-A9CFB497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DD120-98EF-4E2E-A5F5-4E2564A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2112F-6A16-4F2C-A298-AF2F77DD6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129D0-CD88-4061-857B-AD0E16393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EFA5-70F9-45A9-895F-25A53C05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D8FCD-46B8-47AB-A179-737B9812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3B5A3-3B5C-4EB4-AB6C-F73FCB8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84592-5B19-48B2-A3A4-9918349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AEB4E-6C76-48B0-9B53-58ED9D7B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83C5E-305D-460C-9C02-D6DE25A6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758AC-AF92-4BB2-B9A0-AAE6C254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14F26-E99F-42C0-BD36-8116CAB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B6717-E939-40F0-A54B-1A9BB1C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CBDAC-77A3-46B7-9DAB-E16677AC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B5D6B-D37C-4E1C-B48E-66CB981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9A51-CCEC-4150-B725-B31990A1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1819E-FF79-4A08-83E9-BC594BC3B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D390-9C64-4E56-811D-9CDCDAD71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1421-BE16-4EBC-878E-E21DC69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131F-FA9A-4411-8FFA-A26B8CAF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9133-5D69-4B6D-B769-80FEF2C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B533-5F00-474B-9610-B229EF20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9A65-F19D-44E0-A6B9-80CB07DC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9E46-1D92-4273-80F5-BA4F043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BEE4-5989-4DE4-8DBF-49FE24AF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9607C-3B8F-4A54-A249-D2D20D2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FEC7-7577-4278-85B2-4509ED96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6EFD-0EDC-47DE-8400-C1DDF4A2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B82F-4A2B-40D4-BBFD-15DFFF48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4BB5-436E-4DF1-A66F-408E042B1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E9E0C-A8D9-45EC-86F1-0E0F29029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B1D24-90A0-4B65-8AC3-B7AB4A0C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63643-F955-4FD3-A753-FCCBB84F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EA3FB-27E9-4B68-9136-1CD48BD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46505-B5F7-4D0F-9D41-4E4173C3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37915-784D-4CCC-9A0A-24BAB410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8C4FA-BB73-4354-8703-99541E3E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31D4-1E65-4F03-8118-13642DE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7CA7A-BC22-49B5-B58E-3E27110C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04623-C60E-4877-B469-30E5A11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AAAE0-A8B9-4A91-82D5-EE813B4B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6D5F7-0995-483D-835D-17D1B4C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C452A-34B0-4BD1-836A-77C0ECFE70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AF25B9-ABAA-4ACF-98BB-362E613B4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E44EA-B2B7-4DD8-9A0C-C71D1A3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EFF2C-B708-41CF-A99E-F1856414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A6CB58-C3A7-4F5D-89C3-6F79EF1D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7E526D-D457-4424-A2E7-5EE97234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468B-8C86-4AD2-B499-A107373E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272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CE0295-C3F3-4B0C-B3E7-1A9A0FFC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E3916E-F709-41F2-8A2C-C37C5F21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BBA10-E496-4C63-8166-3C0A7DE3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FF9FC-1325-446C-B6AF-C84AC732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A2E09B-0094-4767-998A-DA9C03B5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F0C4F-60E7-4C87-B2B4-906B0A50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E8E00-BAC0-4B9F-B37C-4ADF76D4D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54942-D8DE-4B6C-B16C-7B1231DD86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830A6-C7FC-462F-A8ED-69E9BC1C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EC54A-690D-43AA-84AE-B4361CF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85C1F3-1BA9-411A-AE9C-F1D5F13DD0B7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9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B16C7D-9833-4716-A0E5-006740FCC107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0"/>
          </p:nvPr>
        </p:nvSpPr>
        <p:spPr>
          <a:xfrm>
            <a:off x="578772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1680" y="6410160"/>
            <a:ext cx="3584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92068F-543C-448B-AA76-2B22B874FF1F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"/>
          <p:cNvSpPr/>
          <p:nvPr/>
        </p:nvSpPr>
        <p:spPr>
          <a:xfrm>
            <a:off x="7143840" y="155520"/>
            <a:ext cx="1440" cy="624528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23"/>
          </p:nvPr>
        </p:nvSpPr>
        <p:spPr>
          <a:xfrm>
            <a:off x="6914880" y="3009600"/>
            <a:ext cx="45540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96529F-CC3C-4709-9C85-2EF30C046115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24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0F622F-11D1-4517-9F5F-6FE5893EB486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3FE2C6-5052-45D8-80F3-1651422D0110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43828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785839-0BA8-43C4-AA36-361FDD97947A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62640" y="1574280"/>
            <a:ext cx="9360" cy="482148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790960" y="641016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57B69B-17EF-4BB4-BFB9-36757C0CDD6F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V="1">
            <a:off x="4572000" y="2198520"/>
            <a:ext cx="1440" cy="419112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127944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4343400" y="10429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559DB8-8A63-4B3B-B41D-040D37B39376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4"/>
          </p:nvPr>
        </p:nvSpPr>
        <p:spPr>
          <a:xfrm>
            <a:off x="4343400" y="103644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85862C-C743-410A-9C4C-34FDAD2CA75F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6"/>
          </p:nvPr>
        </p:nvSpPr>
        <p:spPr>
          <a:xfrm>
            <a:off x="4266720" y="6324480"/>
            <a:ext cx="60804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A7424E-8446-4E42-9C37-9A1EDE05A87B}" type="slidenum">
              <a:rPr b="0" lang="cs-CZ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2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A4C573-9B17-4ECB-8E50-432A32456EFD}" type="slidenum">
              <a:rPr b="0" lang="cs-CZ" sz="1600" spc="-1" strike="noStrike">
                <a:solidFill>
                  <a:srgbClr val="7b9899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18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1680" y="6410160"/>
            <a:ext cx="3382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sko.org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b.dk/bh/lifeboat_ko/KnowledgeOrg_chapter%207.pdf" TargetMode="External"/><Relationship Id="rId2" Type="http://schemas.openxmlformats.org/officeDocument/2006/relationships/hyperlink" Target="http://web.archive.org/web/20050305205024/http:/index.bonn.iz-soz.de/~sigel/ISKO/ko-def.dahlberg.html" TargetMode="External"/><Relationship Id="rId3" Type="http://schemas.openxmlformats.org/officeDocument/2006/relationships/hyperlink" Target="http://www.db.dk/bh/lifeboat_ko/CONCEPTS/knowledge_organizat_functions.htm" TargetMode="External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db.dk/bh/lifeboat_ko/CONCEPTS/knowledge_organization_systems.htm" TargetMode="External"/><Relationship Id="rId2" Type="http://schemas.openxmlformats.org/officeDocument/2006/relationships/hyperlink" Target="http://www.db.dk/bh/lifeboat_ko/CONCEPTS/knowledge_organization.htm" TargetMode="Externa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ikaros.cz/node/255.%20ISSN%201212-5075" TargetMode="External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cZlYmQrnTMwC&amp;pg=PA5&amp;dq=Organizing+Knowledge+Jennifer+Rowley&amp;source=gbs_toc_r&amp;cad=0_0" TargetMode="External"/><Relationship Id="rId2" Type="http://schemas.openxmlformats.org/officeDocument/2006/relationships/hyperlink" Target="http://geologie.vsb.cz/geoinformatika/kap07.htm" TargetMode="External"/><Relationship Id="rId3" Type="http://schemas.openxmlformats.org/officeDocument/2006/relationships/hyperlink" Target="http://biblis.db.dk/archimages/199.pdf" TargetMode="External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371600" y="2819520"/>
            <a:ext cx="6400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646b86"/>
                </a:solidFill>
                <a:latin typeface="Georgia"/>
              </a:rPr>
              <a:t>26. 2. 201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646b86"/>
                </a:solidFill>
                <a:latin typeface="Georgia"/>
              </a:rPr>
              <a:t>PŘEDMĚT: ORGANIZACE ZNALOSTÍ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646b86"/>
                </a:solidFill>
                <a:latin typeface="Georgia"/>
              </a:rPr>
              <a:t>PŘEDNÁŠEJÍCÍ: SILVIE KOŘÍNKOVÁ PRESOVÁ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119160"/>
            <a:ext cx="7772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200" spc="-1" strike="noStrike">
                <a:solidFill>
                  <a:srgbClr val="d16349"/>
                </a:solidFill>
                <a:latin typeface="Georgia"/>
              </a:rPr>
              <a:t>Knowledge organization/organizace znalostí - výklad pojmu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KO v užším a v širším smyslu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/>
          <p:nvPr/>
        </p:nvSpPr>
        <p:spPr>
          <a:xfrm>
            <a:off x="301680" y="1527120"/>
            <a:ext cx="850428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KO v užším smyslu</a:t>
            </a:r>
            <a:r>
              <a:rPr b="1" lang="cs-CZ" sz="27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– studium procesů a systémů KO v rámci knihovní a informační vědy (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brary and Information Science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S)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KO v širším smyslu</a:t>
            </a:r>
            <a:r>
              <a:rPr b="1" lang="cs-CZ" sz="27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– interdisciplinární perspektiva, studium toho, jak je poznání organizováno např. vědeckými disciplínami, na univerzitách, v encyklopediích, slovnících, jednotlivých jazycích, teoriíc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j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land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007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KO v užším smyslu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" y="1527120"/>
            <a:ext cx="850428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se vztahuje k informacím v bibliogr. záznamech.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bibliogr. záznamy jako součásti knihovního katalogu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záznamy v bibliogr. databázíc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záznamy v archivech a muzeíc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plnotextové dokumenty a dokumenty na internetu a jejich reprezentace pro vyhledáván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KO v širším smyslu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"/>
          <p:cNvSpPr/>
          <p:nvPr/>
        </p:nvSpPr>
        <p:spPr>
          <a:xfrm>
            <a:off x="301680" y="1527120"/>
            <a:ext cx="850428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6120" indent="-273240">
              <a:lnSpc>
                <a:spcPct val="10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Georgia"/>
                <a:ea typeface="MS Gothic"/>
              </a:rPr>
              <a:t>Interdisciplinární oblast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MS Gothic"/>
              </a:rPr>
              <a:t>pokrývající mj. lingvistiku, filozofii, psychologii, sémiotiku a sociologii. Příkladem tohoto širšího pohledu na KO je publikac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Gothic"/>
              </a:rPr>
              <a:t>Oleson &amp; Voss (1979)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MS Gothic"/>
              </a:rPr>
              <a:t>The Organization of knowledge in modern America, 1860-1920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MS Gothic"/>
              </a:rPr>
              <a:t>(dostupné v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Georgia"/>
                <a:ea typeface="MS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MS Gothic"/>
              </a:rPr>
              <a:t>ÚK FF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MS Gothic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MS Gothic"/>
              </a:rPr>
              <a:t>Zakladatelé KO na poč. 20. stol. (např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Gothic"/>
              </a:rPr>
              <a:t>Charles A. Cutter, Henry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MS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Gothic"/>
              </a:rPr>
              <a:t>Bliss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MS Gothic"/>
              </a:rPr>
              <a:t>) - tradiční systematické selekční jazyky vychází z organizace znalostí tak, jak je ustanovena ve vědě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MS Gothic"/>
              </a:rPr>
              <a:t>Interdisciplinární přístup ke studiu procesů a systémů KO by měl být součástí LIS – Je nezbytné porozumět KO v širším smyslu, aby se mohlo porozumět KO v užším smyslu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Organizace </a:t>
            </a:r>
            <a:r>
              <a:rPr b="1" lang="cs-CZ" sz="3300" spc="-1" strike="noStrike">
                <a:solidFill>
                  <a:srgbClr val="c00000"/>
                </a:solidFill>
                <a:latin typeface="Georgia"/>
              </a:rPr>
              <a:t>znalostí</a:t>
            </a: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 či informací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/>
          <p:nvPr/>
        </p:nvSpPr>
        <p:spPr>
          <a:xfrm>
            <a:off x="301680" y="1527120"/>
            <a:ext cx="850428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Organizace zaznamenaných (explicitních) znalostí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Anderson (2003, s. 471): 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KO in the context of LIS is short form for knowledge resources organization or knowledge representations organization. It is often called „information organization“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Rowley (2008, s. 7)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If the term explicit knowledge is used, the indexing and organization of package of information or documents can be described as the organization of knowledge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Organizace znalostí či </a:t>
            </a:r>
            <a:r>
              <a:rPr b="1" lang="cs-CZ" sz="3300" spc="-1" strike="noStrike">
                <a:solidFill>
                  <a:srgbClr val="c00000"/>
                </a:solidFill>
                <a:latin typeface="Georgia"/>
              </a:rPr>
              <a:t>informací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"/>
          <p:cNvSpPr/>
          <p:nvPr/>
        </p:nvSpPr>
        <p:spPr>
          <a:xfrm>
            <a:off x="301680" y="1527120"/>
            <a:ext cx="850428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Organizace</a:t>
            </a: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informací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, např. autorky Arlene G.</a:t>
            </a: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aylor, Gobinda G. Chowdhury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Zaznamenaná znalost není pro čtenáře znalostí, dokud ji neporozumí a neintegruje do svého znalostního fondu, do té doby jde stále o informaci. Proto to jsou informace, co organizujeme. 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(Taylor, 2004, s. 2-3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Zaměření publikací - příkla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2500" spc="-1" strike="noStrike">
                <a:solidFill>
                  <a:srgbClr val="00b050"/>
                </a:solidFill>
                <a:latin typeface="Georgia"/>
              </a:rPr>
              <a:t>Organizing information : from the shelf to the Web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(Chowdhury, 2007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Cataloguing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Bibliographic Formats: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ARC 21 and Other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ibrary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lassification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ubject Heading lists and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Thesauri in Information Organiz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Organization of Internet Information Resource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etadata; Markup Langu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Ontology; Information Architectur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The Semantic Web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Cíl organizace znalostí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/>
          <p:nvPr/>
        </p:nvSpPr>
        <p:spPr>
          <a:xfrm>
            <a:off x="301680" y="1527120"/>
            <a:ext cx="850428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Cílem organizace poznání je umožnit, aby se informace či poznatky daly vyhledat. (Steinerová, 1998, s. 250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Základní funkce KO v rámci LIS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Hjørland, 2008a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  <a:ea typeface="MS Gothic"/>
              </a:rPr>
              <a:t>rešeršní funkce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  <a:ea typeface="MS Gothic"/>
              </a:rPr>
              <a:t>dokumentová funkce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- informace o tom, zda má být dokument požadován (odpovídá informačnímu požadavku uživatele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a jak daný dokument získa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  <a:ea typeface="MS Gothic"/>
              </a:rPr>
              <a:t>pořádací funkce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– různé formy uspořádání v různých prostředích (např. stavění knihovního fondu, kategorizace zdrojů na internetu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6800"/>
            <a:ext cx="85345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b80047"/>
                </a:solidFill>
                <a:latin typeface="Georgia"/>
              </a:rPr>
              <a:t>Přístupy v KO - obecně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78920" y="1325160"/>
            <a:ext cx="85345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2360" indent="0">
              <a:spcBef>
                <a:spcPts val="6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2360" indent="-2523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Změna tradičních knihovnických přístupů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7600" indent="-2538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d fyzického přístupu k fondům, který byl daný lokalizací dokumentů, se přechází k intelektuálnímu přístupu zaměřenému na využívání digitalizovaných informací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52360" indent="-25236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Jak se v těchto souvislostech mění tradiční přístupy organizace znalostí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7600" indent="-2538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ůraz na podporu selekce, analýzy, syntézy, interpretace a prezentace informací ze zdrojů. Nestačí jednoduchá navigace či lokalizace zdroje - sekundární informace bez interpretace či analýzy jsou pro dnešní uživatele nedostatečným výstupem IS.  (Steinerová, 2000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285840" y="108000"/>
            <a:ext cx="8534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c00000"/>
                </a:solidFill>
                <a:latin typeface="Georgia"/>
              </a:rPr>
              <a:t>Přístupy v KO – historický přehled </a:t>
            </a:r>
            <a:br>
              <a:rPr sz="3000"/>
            </a:b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(Broughton, 2005, s. 136-140)</a:t>
            </a:r>
            <a:r>
              <a:rPr b="0" lang="cs-CZ" sz="30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"/>
          <p:cNvSpPr/>
          <p:nvPr/>
        </p:nvSpPr>
        <p:spPr>
          <a:xfrm>
            <a:off x="301680" y="1527120"/>
            <a:ext cx="85042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4680" indent="-5432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1.</a:t>
            </a: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enumerativní hierarchické klasifikační systémy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– konec 19. stol. a poč. 20. stol. (DDC, UDC/MDT, LCC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4680" indent="-543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Opírají se o organizaci vědec. poznání a disciplín té dob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4680" indent="-543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rekoordinované systé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4680" indent="-543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oužívají se ještě dnes                aktualizace systémů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4680" indent="-543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hodné pro pořádání online zdrojů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4680" indent="-5432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51" name=""/>
          <p:cNvCxnSpPr/>
          <p:nvPr/>
        </p:nvCxnSpPr>
        <p:spPr>
          <a:xfrm>
            <a:off x="4071600" y="4500720"/>
            <a:ext cx="1215000" cy="2160"/>
          </a:xfrm>
          <a:prstGeom prst="straightConnector1">
            <a:avLst/>
          </a:prstGeom>
          <a:ln w="15840">
            <a:solidFill>
              <a:srgbClr val="d16349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KO – historický přehl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2. fasetovo-analytický příst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fasetové klasifikační systémy– Colon Classification, Bliss Classif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ystémy organizující pojmy do faset a syntetizující notaci předmětu kombinací fase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yjádření složených témat, flexibilita – vhodné pro digitální prostředí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Harmonogram přednášek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"/>
          <p:cNvSpPr/>
          <p:nvPr/>
        </p:nvSpPr>
        <p:spPr>
          <a:xfrm>
            <a:off x="316080" y="1538280"/>
            <a:ext cx="850392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5. 3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PhDr. Michal Lorenz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Filozofická východiska KO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12. 3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PhDr. Michal Lorenz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Poznání a jeho sociální produkc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19. 3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PhDr. Michal Lorenz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shrnutí pro kombinované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26. 3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gr. Ladislava Suchá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Doménová analýz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2. 4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PhDr. Petr Škyřík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Řízení virtuálních týmů a projektů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9. 4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PhDr. Petr Škyřík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shrnutí pro kombinované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KO – historický přehl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3. tradice vyhledávání informací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(ve smyslu subdisciplín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rozvoj od 50. let 20. st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znik deskriptorového sel. jazyka (tezaury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Zpochybňování syst. sel. jazyků a intelekt. indexace. (Předpoklad, že algoritmy rešeršních systémů je mohou plně nahradit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 90. letech na tuto tradici navazuje vyhledávání na internetu, v plnotextových databázích a v současné době model semantického webu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KO – historický přehl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"/>
          <p:cNvSpPr/>
          <p:nvPr/>
        </p:nvSpPr>
        <p:spPr>
          <a:xfrm>
            <a:off x="301680" y="1527120"/>
            <a:ext cx="85042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4. uživatelsky orientovaný přístup (kognitivní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oslední desetiletí obrat ve výzkumu LIS - zaměření na uživatele   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zjišťování dat reprezentující aktuální zkušenosti uživate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myslem věcných SJ je podpořit intuitivní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a uživatelsky přívětivé vyhledávání, dopracovat uživatelův dotaz, pomoci definovat účinné rešeršní strategie, vazba na rešeršní systém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58" name=""/>
          <p:cNvCxnSpPr/>
          <p:nvPr/>
        </p:nvCxnSpPr>
        <p:spPr>
          <a:xfrm>
            <a:off x="2714760" y="2714760"/>
            <a:ext cx="1000800" cy="2160"/>
          </a:xfrm>
          <a:prstGeom prst="straightConnector1">
            <a:avLst/>
          </a:prstGeom>
          <a:ln w="15840">
            <a:solidFill>
              <a:srgbClr val="d16349"/>
            </a:solidFill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KO – historický přehl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"/>
          <p:cNvSpPr/>
          <p:nvPr/>
        </p:nvSpPr>
        <p:spPr>
          <a:xfrm>
            <a:off x="316080" y="1420920"/>
            <a:ext cx="8503920" cy="59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5. bibliometrický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příst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cience Citation Index (SCI) - 1963, popis obsahu dokumentu pomocí bibliografických citací (indexační termín - bibliografická citace citovaného dokumentu) x klasické věcné selekční jazyk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kusy propojit bibliometrii s tradičnějšími přístupy k organizací znalostí a vyhledávání informací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45000"/>
              <a:buFont typeface="Wingdings" charset="2"/>
              <a:buChar char="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Tvorba deskriptorových SJ vychází z citačních vztahů mezi dokumenty, např. tvorba tezauru – podpora při výběru slov či slovních spojení začleněných do tezauru (kandidát deskriptoru), identifikace semant. vztahů mezi termíny; monitorování změn v terminologii. (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neider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004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KO – historický přehl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"/>
          <p:cNvSpPr/>
          <p:nvPr/>
        </p:nvSpPr>
        <p:spPr>
          <a:xfrm>
            <a:off x="316080" y="1266840"/>
            <a:ext cx="8503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6. doménově-analytický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700" spc="-1" strike="noStrike">
                <a:solidFill>
                  <a:srgbClr val="00b050"/>
                </a:solidFill>
                <a:latin typeface="Georgia"/>
              </a:rPr>
              <a:t>příst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90. léta 20. sto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ménová analýza usiluje o poznání určité domény (obor, disciplína) uvnitř domény knihovní a informační vědy.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Porozumění systémům a procesům KO se opírá o studium domény, která je pořádána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S jsou více méně odrazem určitého pohledu na organizovanou domén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např. paradigma)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          Různé výklady pojmů, různé způsoby organizace pojmů, různá strukturace domény.              Přizpůsobení KOS konkrétní uživatelské komunitě.               Znalost domény knihovníkem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"/>
          <p:cNvSpPr/>
          <p:nvPr/>
        </p:nvSpPr>
        <p:spPr>
          <a:xfrm>
            <a:off x="6659640" y="468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5400720"/>
            <a:ext cx="90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"/>
          <p:cNvSpPr/>
          <p:nvPr/>
        </p:nvSpPr>
        <p:spPr>
          <a:xfrm>
            <a:off x="5734080" y="5877000"/>
            <a:ext cx="90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Knihovnický přístup ke KO 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(Chowdhury, 2007 ) </a:t>
            </a: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tabLst>
                <a:tab algn="l" pos="0"/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Nástroje a techniky k organizaci dokumentů v prostředí kniho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500" spc="-1" strike="noStrike">
                <a:solidFill>
                  <a:srgbClr val="7030a0"/>
                </a:solidFill>
                <a:latin typeface="Georgia"/>
              </a:rPr>
              <a:t>systematické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500" spc="-1" strike="noStrike">
                <a:solidFill>
                  <a:srgbClr val="7030a0"/>
                </a:solidFill>
                <a:latin typeface="Georgia"/>
              </a:rPr>
              <a:t>selekční jazyky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– systematické stavění, systematický katal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500" spc="-1" strike="noStrike">
                <a:solidFill>
                  <a:srgbClr val="7030a0"/>
                </a:solidFill>
                <a:latin typeface="Georgia"/>
              </a:rPr>
              <a:t>předmětové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2500" spc="-1" strike="noStrike">
                <a:solidFill>
                  <a:srgbClr val="7030a0"/>
                </a:solidFill>
                <a:latin typeface="Georgia"/>
              </a:rPr>
              <a:t>SJ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typu předmětových hes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500" spc="-1" strike="noStrike">
                <a:solidFill>
                  <a:srgbClr val="7030a0"/>
                </a:solidFill>
                <a:latin typeface="Georgia"/>
              </a:rPr>
              <a:t>knihovní katalog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a s tím spojené standardy, formáty a pravidla týkající se tvorby bibliogr. záznam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digitálním prostředí 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(Chowdhury, 2007 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"/>
          <p:cNvSpPr/>
          <p:nvPr/>
        </p:nvSpPr>
        <p:spPr>
          <a:xfrm>
            <a:off x="301680" y="1527120"/>
            <a:ext cx="85042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0b050"/>
                </a:solidFill>
                <a:latin typeface="Georgia"/>
              </a:rPr>
              <a:t>1. online databázový přístup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b jako sbírka informací je organizována do </a:t>
            </a:r>
            <a:r>
              <a:rPr b="1" lang="cs-CZ" sz="2700" spc="-1" strike="noStrike">
                <a:solidFill>
                  <a:srgbClr val="7030a0"/>
                </a:solidFill>
                <a:latin typeface="Georgia"/>
              </a:rPr>
              <a:t>záznamů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a ty se dále skládají z </a:t>
            </a:r>
            <a:r>
              <a:rPr b="1" lang="cs-CZ" sz="2700" spc="-1" strike="noStrike">
                <a:solidFill>
                  <a:srgbClr val="7030a0"/>
                </a:solidFill>
                <a:latin typeface="Georgia"/>
              </a:rPr>
              <a:t>pol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b je obvykle rozdělena na dvě části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7030a0"/>
                </a:solidFill>
                <a:latin typeface="Georgia"/>
              </a:rPr>
              <a:t>vlastní data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- sekvenční soubory (struktura pole-záznam-databáze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700" spc="-1" strike="noStrike">
                <a:solidFill>
                  <a:srgbClr val="7030a0"/>
                </a:solidFill>
                <a:latin typeface="Georgia"/>
              </a:rPr>
              <a:t>indexy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– seznamy hodnot (slovo, fráze) z určitého pole nebo více polí s identifikací, z jakého záznamu hodnota pochází, umožňují přístup k záznamům v db dle položených dotazů -  zrychlují proces vyhledává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digitálním prostředí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"/>
          <p:cNvSpPr/>
          <p:nvPr/>
        </p:nvSpPr>
        <p:spPr>
          <a:xfrm>
            <a:off x="301680" y="1527120"/>
            <a:ext cx="850428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b050"/>
                </a:solidFill>
                <a:latin typeface="Georgia"/>
              </a:rPr>
              <a:t>2. přístup vztahující se k expertním systémů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expertní systém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- počítačová aplikace nebo systém simulující poznávací a rozhodovací činnost experta při řešení složitých úloh s cílem dosáhnout ve zvolené problémové oblasti kvality rozhodování na úrovni experta. Základní součásti tvoří báze znalostí, báze dat k řešeným případům a řídící mechanismus. (TDKIV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různé přístupy k organizaci báze znalostí v souvislosti s reprezentací poznání/znalostí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reprezentace znalostí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- uložení, uspořádání znalostí v bázi znalostí s vyjádřením vazeb mezi nimi s cílem odvození nových znalostí (Steinerová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"/>
          <p:cNvSpPr/>
          <p:nvPr/>
        </p:nvSpPr>
        <p:spPr>
          <a:xfrm>
            <a:off x="30168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c00000"/>
                </a:solidFill>
                <a:latin typeface="Georgia"/>
              </a:rPr>
              <a:t>reprezentace znalostí – základní mode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  <a:ea typeface="MS Gothic"/>
              </a:rPr>
              <a:t>sémantické sítě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 – Jsou tvořeny uzly (reprezentují objekty, koncepty nebo situace) a hranami (vyjadřují relace mezi uzly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  <a:ea typeface="MS Gothic"/>
              </a:rPr>
              <a:t>rámc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 – Vychází se z faktu, že celá řada situací nás provázejících je stereotypních a standardizovatelných. Vytvářejí tudíž jakýsi rámec pro události a stavy, které lze očekávat, naplánovat či splni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  <a:ea typeface="MS Gothic"/>
              </a:rPr>
              <a:t>inferenčn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 </a:t>
            </a:r>
            <a:r>
              <a:rPr b="0" lang="cs-CZ" sz="2200" spc="-1" strike="noStrike">
                <a:solidFill>
                  <a:srgbClr val="7030a0"/>
                </a:solidFill>
                <a:latin typeface="Georgia"/>
                <a:ea typeface="MS Gothic"/>
              </a:rPr>
              <a:t>sítě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 - Znalosti se kódují ve formě pravidel. Je to nejrozšířenější technologie vytváření znalostních bází expertních systémů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(Schejbal, 2006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řístupy v digitálním prostředí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Georgia"/>
              </a:rPr>
              <a:t>3. přístupy vztahující se k organizaci zdrojů na internet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yhledávací stroj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dmětové adresář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folksonom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ontolo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informační architektur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ISKO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"/>
          <p:cNvSpPr/>
          <p:nvPr/>
        </p:nvSpPr>
        <p:spPr>
          <a:xfrm>
            <a:off x="301680" y="1527120"/>
            <a:ext cx="850428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b050"/>
                </a:solidFill>
                <a:latin typeface="Georgia"/>
              </a:rPr>
              <a:t>International Society for Knowledge Organization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5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isko.org/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založena v r. 1989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Základním smyslem organizace je podporovat koncepční, teoretickou a metodickou práci v oblasti knowledge organization ve všech formách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Setkávání odborníků z velmi rozdílných oborů, což přispívá k mezioborové spolupráci a výměně znalostí - členy ISKO více než 500 odborníků z oblasti informační vědy, filozofie, lingvistiky, informatiky a dalších disciplín, kromě jiného i ze specializovaných informačních oborů. (Jonák, 1999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Více viz též bakalářská práce Anthová, 2005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Harmonogram přednášek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"/>
          <p:cNvSpPr/>
          <p:nvPr/>
        </p:nvSpPr>
        <p:spPr>
          <a:xfrm>
            <a:off x="301680" y="1014480"/>
            <a:ext cx="850428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16. 4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gr. Josef Schwarz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Klasifikace z pohledu kognitivních vě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23. 4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gr. Josef Schwarz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Automatická indexa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30. 4.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gr. Josef Schwarz 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shrnutí pro kombinované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7. 5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gr. Silvie Kořínková Presová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Ontologi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14. 5.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gr. Silvie Kořínková Presová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21. 5.</a:t>
            </a: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Mgr. Silvie Kořínková Presová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500" spc="-1" strike="noStrike">
                <a:solidFill>
                  <a:srgbClr val="008000"/>
                </a:solidFill>
                <a:latin typeface="Georgia"/>
              </a:rPr>
              <a:t>shrnutí pro kombinované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ovinná literatur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"/>
          <p:cNvSpPr/>
          <p:nvPr/>
        </p:nvSpPr>
        <p:spPr>
          <a:xfrm>
            <a:off x="30168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Broughton, V.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, et. al.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2005. </a:t>
            </a:r>
            <a:r>
              <a:rPr b="0" lang="cs-CZ" sz="2100" spc="-1" strike="noStrike">
                <a:solidFill>
                  <a:srgbClr val="00b050"/>
                </a:solidFill>
                <a:latin typeface="Georgia"/>
              </a:rPr>
              <a:t>K</a:t>
            </a:r>
            <a:r>
              <a:rPr b="0" lang="en-US" sz="2100" spc="-1" strike="noStrike">
                <a:solidFill>
                  <a:srgbClr val="00b050"/>
                </a:solidFill>
                <a:latin typeface="Georgia"/>
              </a:rPr>
              <a:t>nowledge Organization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 I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Georgia"/>
              </a:rPr>
              <a:t>European Curriculum Reflections on Library and Information  Science Education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Edited by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L. Kajberg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, L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 Lørring. Copenhagen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: Royal School of Library and Information Science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, 2005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 s.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133-148.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ISBN: 87-7415-292-0 Dostupné z WWW: http://biblis.db.dk/Archimages/423.12.05.PDF 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Dostupné též z WWW: </a:t>
            </a:r>
            <a:r>
              <a:rPr b="0" lang="cs-CZ" sz="21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db.dk/bh/lifeboat_ko/KnowledgeOrg_chapter%207.pdf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Dahlberg, I. 1998. </a:t>
            </a:r>
            <a:r>
              <a:rPr b="0" lang="cs-CZ" sz="2100" spc="-1" strike="noStrike">
                <a:solidFill>
                  <a:srgbClr val="00b050"/>
                </a:solidFill>
                <a:latin typeface="Georgia"/>
              </a:rPr>
              <a:t>Knowledge Organization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 [online]. html-ified by sigel@gmd.de 98-02-26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[cit. 2009-02-10]. Dostupné z WWW: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web.archive.org/web/20050305205024/http:/index.bonn.iz-soz.de/~sigel/ISKO/ko-def.dahlberg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j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ø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land, B.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2008a. </a:t>
            </a:r>
            <a:r>
              <a:rPr b="0" lang="en-US" sz="2200" spc="-1" strike="noStrike">
                <a:solidFill>
                  <a:srgbClr val="00b050"/>
                </a:solidFill>
                <a:latin typeface="Georgia"/>
              </a:rPr>
              <a:t>Knowledge organization (KO), functions of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[online].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st edited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05-02-2008 [cit. 2009-02-10]. Dostupné z WWW: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ttp://www.db.dk/bh/lifeboat_ko/CONCEPTS/knowledge_organizat_functions.ht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Povinná literatur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"/>
          <p:cNvSpPr/>
          <p:nvPr/>
        </p:nvSpPr>
        <p:spPr>
          <a:xfrm>
            <a:off x="301680" y="1527120"/>
            <a:ext cx="8504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j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ø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land, B.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2008b. </a:t>
            </a:r>
            <a:r>
              <a:rPr b="0" lang="en-US" sz="2200" spc="-1" strike="noStrike">
                <a:solidFill>
                  <a:srgbClr val="00b050"/>
                </a:solidFill>
                <a:latin typeface="Georgia"/>
              </a:rPr>
              <a:t>Knowledge organization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 systems (KOS)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[online].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st edited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29-02-2008 [cit. 2009-02-10]. Dostupné z WWW: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db.dk/bh/lifeboat_ko/CONCEPTS/knowledge_organization_systems.ht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j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ø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land, B.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2007. </a:t>
            </a:r>
            <a:r>
              <a:rPr b="0" lang="en-US" sz="2200" spc="-1" strike="noStrike">
                <a:solidFill>
                  <a:srgbClr val="00b050"/>
                </a:solidFill>
                <a:latin typeface="Georgia"/>
              </a:rPr>
              <a:t>What is Knowledge Organization (KO)?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[online].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st edited: 19-05-2007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[cit. 2009-02-10]. Dostupné z WWW: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www.db.dk/bh/lifeboat_ko/CONCEPTS/knowledge_organization.ht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Steinerová, J.; Jurčacková, Z. 1998. 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Organizácia poznani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In Matthaeidesová, M.; Nováková, M.; Katuščák, D.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Informačná výchova : terminologický a výkladový slovník, odbor knižničná a informačná veda.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1. vyd. Bratislava : Slovenské pedagogické nakladateľstvo, 1998, s. 249-251. ISBN 8008028181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Doporučená literatur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"/>
          <p:cNvSpPr/>
          <p:nvPr/>
        </p:nvSpPr>
        <p:spPr>
          <a:xfrm>
            <a:off x="179280" y="1347840"/>
            <a:ext cx="8820360" cy="53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nderson, J.D. 2003. 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Organization of knowledg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In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International Encyclopedia of Information and Library Scienc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Edited by J. Feather, P. Sturges. 2nd ed. London : Routledge, 2003, s. 471-490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nthová, V. 2005. 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International Society for Knowledge Organization (ISKO) a její aktivity podporující mezinárodní spolupráci v oblasti věcného pořádání informac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Brno : Masarykova univerzita, 2005. 59 s. Bakalářská práce. Masarykova univerzita. Kabinet informačních studií a knihovnictví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Chowdhury, G. G. ; Chowdhury, S. 2007.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Organizing information : from the shelf to the We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London : Facet, 2007. 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Kap. 1 </a:t>
            </a:r>
            <a:r>
              <a:rPr b="0" lang="en-US" sz="2200" spc="-1" strike="noStrike">
                <a:solidFill>
                  <a:srgbClr val="00b050"/>
                </a:solidFill>
                <a:latin typeface="Georgia"/>
              </a:rPr>
              <a:t>Organizing information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: what it means, Kap. 2 Information organization in non-library enviroments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s. 1-27. ISBN 978-1-85604-578-0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ostupné v ÚK – registrační pul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Jonák, Z.; Pálka, P.; Schwarz, J. 1999.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Potřeby a možnosti mezinárodní spolupráce v oblasti pořádání znalost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Ikaros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[online]. 1999, roč. 3, č. 1 [cit. 2009-02-10]. Dostupné z  WWW: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ikaros.cz/node/255. ISSN 1212-5075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Doporučená literatur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"/>
          <p:cNvSpPr/>
          <p:nvPr/>
        </p:nvSpPr>
        <p:spPr>
          <a:xfrm>
            <a:off x="179280" y="1440000"/>
            <a:ext cx="850428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Jurčacková, Z. 1996. 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Organizácia poznania v dokumentovej komunikácii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Vyd. 1.. V Bratislave : Slovenská technická knižnica, 1996. 98 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owley, J. E.; Hartley, R. J. 2008.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Organizing knowledge : an introduction to managing access to informatio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Burlington, VT : Ashgate, 2008. 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Kap. 1 </a:t>
            </a:r>
            <a:r>
              <a:rPr b="0" lang="en-US" sz="2200" spc="-1" strike="noStrike">
                <a:solidFill>
                  <a:srgbClr val="00b050"/>
                </a:solidFill>
                <a:latin typeface="Georgia"/>
              </a:rPr>
              <a:t>Knowledge, information and their organizatio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s. 3-19. Dostupné též z WWW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books.google.com/books?id=cZlYmQrnTMwC&amp;pg=PA5&amp;dq=Organizing+Knowledge+Jennifer+Rowley&amp;source=gbs_toc_r&amp;cad=0_0#PPA17,M1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Schejbal, C. et. al.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200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Geoinformatik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[online]. Poslední aktualizace: 10. ledna 2006 [cit. 2009-02-10]. 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Kap. 7 Expertní a neuronové systém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 Dostupné z WWW: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geologie.vsb.cz/geoinformatika/kap07.ht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chneider, J. W. 2004. </a:t>
            </a:r>
            <a:r>
              <a:rPr b="0" i="1" lang="en-US" sz="2200" spc="-1" strike="noStrike">
                <a:solidFill>
                  <a:srgbClr val="00b050"/>
                </a:solidFill>
                <a:latin typeface="Georgia"/>
              </a:rPr>
              <a:t>Verification of bibliometric methods' applicability for thesaurus construct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alborg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Royal School of Library and Information Scienc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2004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PhD-dissertation).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Dostupné z WWW: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ttp://biblis.db.dk/archimages/199.pd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6800"/>
            <a:ext cx="85345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Doporučená litera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Steinerová, J. 2000.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 "Nová" organizácia poznania a informačná ved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In 7. mezinárodní seminář CASLIN. Olomouc : Konsorcium MOLIN, 2000. s. 59-66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Taylor, A. G. 2004.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The organization of informatio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Westport : Libraries Unlimited , 2004.  </a:t>
            </a:r>
            <a:r>
              <a:rPr b="0" lang="cs-CZ" sz="2200" spc="-1" strike="noStrike">
                <a:solidFill>
                  <a:srgbClr val="00b050"/>
                </a:solidFill>
                <a:latin typeface="Georgia"/>
              </a:rPr>
              <a:t>Kap. 1 Organization of Recorded Informatio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s. 1-28. ISBN 1-56308-976-9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ostupné v ÚK – registrační pul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Ukončení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"/>
          <p:cNvSpPr/>
          <p:nvPr/>
        </p:nvSpPr>
        <p:spPr>
          <a:xfrm>
            <a:off x="301680" y="1527120"/>
            <a:ext cx="850428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způsob ukončení– písemná zkouška – t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ermíny vypsané v IS MU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uzavřené otázky, počet otázek – 2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lasifikační stupn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21-2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19-1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17-1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15-1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13-1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11 - 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c00000"/>
                </a:solidFill>
                <a:latin typeface="Georgia"/>
              </a:rPr>
              <a:t>Vymezení pojmu Knowledge Organization (KO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"/>
          <p:cNvSpPr/>
          <p:nvPr/>
        </p:nvSpPr>
        <p:spPr>
          <a:xfrm>
            <a:off x="301680" y="1527120"/>
            <a:ext cx="85042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angl. ekv. organization of knowledge, information organization, organization of information, organizing information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české ekv. organizace znalostí, pořádání znalostí, pořádání informací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Georgia"/>
              </a:rPr>
              <a:t>Zjednodušeně se KO zabývá </a:t>
            </a: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procesy KO</a:t>
            </a:r>
            <a:r>
              <a:rPr b="0" lang="cs-CZ" sz="25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cs-CZ" sz="25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systémy KO (KOS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7030a0"/>
                </a:solidFill>
                <a:latin typeface="Georgia"/>
                <a:ea typeface="MS Gothic"/>
              </a:rPr>
              <a:t>procesy KO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MS Gothic"/>
              </a:rPr>
              <a:t> - např. jmenná a věcná katalogizac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7030a0"/>
                </a:solidFill>
                <a:latin typeface="Georgia"/>
                <a:ea typeface="MS Gothic"/>
              </a:rPr>
              <a:t>KO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MS Gothic"/>
              </a:rPr>
              <a:t> – nástroje prezentující organizované interpretace znalostních struktur (Hjørland, 2008b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ejen věcné SJ a identifikační SJ, ale i např. ontologie,  folksonomie, systémy pro automatické vyhledávání, dále v širším smyslu i encyklopedie, pojmové systémy a teorie atd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5219640"/>
            <a:ext cx="7207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85840" y="168120"/>
            <a:ext cx="85341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International Encyclopedia of Information and Library Sci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"/>
          <p:cNvSpPr/>
          <p:nvPr/>
        </p:nvSpPr>
        <p:spPr>
          <a:xfrm>
            <a:off x="301680" y="1527120"/>
            <a:ext cx="85042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heslo </a:t>
            </a:r>
            <a:r>
              <a:rPr b="0" lang="cs-CZ" sz="2700" spc="-1" strike="noStrike">
                <a:solidFill>
                  <a:srgbClr val="00b050"/>
                </a:solidFill>
                <a:latin typeface="Georgia"/>
              </a:rPr>
              <a:t>Organization of knowledge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Anderson, 2003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The description (indexing) and organization (classification) for retrieval of messages representing knowledge, texts by which knowledge is recorded, and documents in which texts are embedd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Indexing, cataloguing and classification are three methods, often confused, for organizing knowledge resour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Terminologická databáze TDKIV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"/>
          <p:cNvSpPr/>
          <p:nvPr/>
        </p:nvSpPr>
        <p:spPr>
          <a:xfrm>
            <a:off x="301680" y="1527120"/>
            <a:ext cx="850428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organizace znalostí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ekv k termínu 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znalostní manageme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ztah znalostního managementu a KO viz Taylor, 2004, s. 21-2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termín </a:t>
            </a:r>
            <a:r>
              <a:rPr b="1" lang="cs-CZ" sz="2400" spc="-1" strike="noStrike">
                <a:solidFill>
                  <a:srgbClr val="00b050"/>
                </a:solidFill>
                <a:latin typeface="Georgia"/>
              </a:rPr>
              <a:t>pořádání informací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ekv pořádání znalost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termín anglicky knowledge organization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Organizace a reprezentace zaznamenaných znalostí s cílem zajistit efektivní využívání údajů, informací a poznatků obsažených v informačních zdrojích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Pořádání informací zahrnuje vytváření organizovaných souborů identifikačních a obsahových informací získaných informační analýzou dokumentu podle předem stanoveného systému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Podle typu vstupních informací se vyčleňuje identifikační pořádání informací a věcné pořádání informací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57120" y="0"/>
            <a:ext cx="85345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Georgia"/>
              </a:rPr>
              <a:t>Informačná výchova : terminologický a výkladový slovník, odbor knižničná a informačná ved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" y="1527120"/>
            <a:ext cx="85042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heslo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b050"/>
                </a:solidFill>
                <a:latin typeface="Georgia"/>
              </a:rPr>
              <a:t>organizácia poznania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Steinerová, 1998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  <a:ea typeface="MS Gothic"/>
              </a:rPr>
              <a:t>Nový vědní a profesní obor zabývající se metodami strukturace poznání včetně jeho reprezentace, transformace, klasifikace s cílem zabezpečit co nejefektivnější vyhledávání informací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612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300" spc="-1" strike="noStrike">
                <a:solidFill>
                  <a:srgbClr val="c00000"/>
                </a:solidFill>
                <a:latin typeface="Georgia"/>
              </a:rPr>
              <a:t>Výklad Ingetraut Dahlberg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/>
          <p:nvPr/>
        </p:nvSpPr>
        <p:spPr>
          <a:xfrm>
            <a:off x="30168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nowledge Organization is a subject field concerned with odering/the order of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28640" indent="-45720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Georgia"/>
                <a:ea typeface="MS Gothic"/>
              </a:rPr>
              <a:t>Knowledge item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MS Gothic"/>
              </a:rPr>
              <a:t> (</a:t>
            </a:r>
            <a:r>
              <a:rPr b="0" lang="en-US" sz="2200" spc="-1" strike="noStrike">
                <a:solidFill>
                  <a:srgbClr val="00b050"/>
                </a:solidFill>
                <a:latin typeface="Georgia"/>
                <a:ea typeface="MS Gothic"/>
              </a:rPr>
              <a:t>concept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MS Gothic"/>
              </a:rPr>
              <a:t>) and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28640" indent="-45720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Georgia"/>
                <a:ea typeface="MS Gothic"/>
              </a:rPr>
              <a:t>Objects of all type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MS Gothic"/>
              </a:rPr>
              <a:t> (minerals, plants, animals, documents, images, museal objects, etc.) which are being related to corresponding concepts or concept classes in order to capture the </a:t>
            </a:r>
            <a:r>
              <a:rPr b="0" lang="en-US" sz="2200" spc="-1" strike="noStrike">
                <a:solidFill>
                  <a:srgbClr val="00b050"/>
                </a:solidFill>
                <a:latin typeface="Georgia"/>
                <a:ea typeface="MS Gothic"/>
              </a:rPr>
              <a:t>knowledge about the world of the known in an ordered form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MS Gothic"/>
              </a:rPr>
              <a:t> and to be able to disseminate this knowledge for usage purposes.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MS Gothic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MS Gothic"/>
              </a:rPr>
              <a:t>Dahlberg, 1998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eský překlad viz (Jonák, 1999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8:05:25Z</dcterms:created>
  <dc:creator>USER</dc:creator>
  <dc:description/>
  <dc:language>en-US</dc:language>
  <cp:lastModifiedBy>Silvie Kořínková Presova</cp:lastModifiedBy>
  <dcterms:modified xsi:type="dcterms:W3CDTF">2010-03-03T21:42:27Z</dcterms:modified>
  <cp:revision>555</cp:revision>
  <dc:subject/>
  <dc:title>Snímek 1</dc:title>
</cp:coreProperties>
</file>