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D22-66FE-4B39-AF92-BA46CB66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C88-4082-4E1E-9C00-31B764BF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2C7-69A9-409E-A14A-90BB1506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B06-1CDF-4606-B74B-E6F0B501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F2D-BEDA-41DF-9A1E-C1B1E94D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9A2D-E61B-4578-969D-3624B387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A3B-E326-410C-A127-2750372F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350-9E3C-4433-A301-97C8D925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7FB-01D0-4D8A-B31B-DFA3E361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250-612F-4872-BFB2-78CF1A7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82B-8B33-4D01-B771-BAF29659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6775-8451-49B9-BF66-AA92A75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06C1-ACD0-4AEA-A533-1F43D4B99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24400" y="0"/>
            <a:ext cx="4719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21440" y="620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Škapulí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1480" y="1865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z lat. scapulae – ramena záda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" y="6093000"/>
            <a:ext cx="43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. Šimon dostává škapulíř od Panny Ma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vaš podle rytiny, 175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03560" cy="616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954760" y="0"/>
            <a:ext cx="3189240" cy="6165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83280" y="6216480"/>
            <a:ext cx="28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íbrný desátkový růžene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žní Německo, 18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5520" y="61866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íbrný růžen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žní Německo, 18./19. stole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74400" y="282600"/>
            <a:ext cx="25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v. Šimon drží škapulí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o záruku vysvoboz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očist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05560" y="1197000"/>
            <a:ext cx="3159000" cy="566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75840" y="143352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ábit bosý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rmeli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42040" y="282600"/>
            <a:ext cx="31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raz Panny Marie Škapulířo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 Kostelním Vyd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25520" y="649044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Škapulíř s hedvábným sáčkem s Mariánským monogramem, 18. st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77920" y="0"/>
            <a:ext cx="67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112080" cy="6237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828440" y="6307920"/>
            <a:ext cx="52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Škapulíř (detail) s rytinami světců, 19. stol., Plzeňsk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4240" cy="6093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4320" y="623664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ítkové tisky“ ze škapulíře. 19. st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05" descr=""/>
          <p:cNvPicPr/>
          <p:nvPr/>
        </p:nvPicPr>
        <p:blipFill>
          <a:blip r:embed="rId2"/>
          <a:stretch/>
        </p:blipFill>
        <p:spPr>
          <a:xfrm>
            <a:off x="4518000" y="0"/>
            <a:ext cx="462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35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85000" y="469800"/>
            <a:ext cx="33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ůžen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arium = lat. růžová zahr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81760" y="5875200"/>
            <a:ext cx="47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ženec. Lourdy. Druhá polovina 19. stol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0:34:51Z</dcterms:created>
  <dc:creator>Roman Doušek</dc:creator>
  <dc:description/>
  <dc:language>en-US</dc:language>
  <cp:lastModifiedBy>Admin</cp:lastModifiedBy>
  <dcterms:modified xsi:type="dcterms:W3CDTF">2011-03-01T14:46:43Z</dcterms:modified>
  <cp:revision>7</cp:revision>
  <dc:subject/>
  <dc:title>Snímek 1</dc:title>
</cp:coreProperties>
</file>