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519-9DD7-4234-8A76-C1D37199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DF9-5260-4445-BE5E-83D45C0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A55-520A-493C-A719-4D7ACC9D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6BC-D09F-4306-ADCC-22940E77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FAAE-62D4-4A5B-AFA4-D9B30A42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70B-56F9-41E1-88CF-6691640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569-F472-428D-92F9-71055784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106-529F-4F47-A94E-625344F5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F0F-58D5-4DBC-A3BA-2483CB2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452-126C-4693-BCB9-2E1C855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932-EC09-4572-8BFF-79D61B7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5DE-E5C8-4619-9407-8BC9FC3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C84E-42AF-410C-B86D-1F87991050F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58920" y="1052640"/>
            <a:ext cx="11337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Times New Roman"/>
              </a:rPr>
              <a:t>BRATRSTV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sdružení věřících, především laiků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dená duchovním, která se zaměřova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 nějaký katolický kul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01"/>
          <p:cNvPicPr/>
          <p:nvPr/>
        </p:nvPicPr>
        <p:blipFill>
          <a:blip r:embed="rId1"/>
          <a:stretch/>
        </p:blipFill>
        <p:spPr>
          <a:xfrm>
            <a:off x="0" y="0"/>
            <a:ext cx="45687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692960" y="66600"/>
            <a:ext cx="44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é album sod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věstování Panny Marie v Jindřichově Hradc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 roku 1644. SÚA Prah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4537080" cy="6237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b05"/>
          <p:cNvPicPr/>
          <p:nvPr/>
        </p:nvPicPr>
        <p:blipFill>
          <a:blip r:embed="rId2"/>
          <a:stretch/>
        </p:blipFill>
        <p:spPr>
          <a:xfrm>
            <a:off x="4584600" y="0"/>
            <a:ext cx="4559400" cy="6237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50280" y="649116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děv bratrstva sv. Michala z Berg am Laim v Bavorsku. 18. století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04"/>
          <p:cNvPicPr/>
          <p:nvPr/>
        </p:nvPicPr>
        <p:blipFill>
          <a:blip r:embed="rId1"/>
          <a:stretch/>
        </p:blipFill>
        <p:spPr>
          <a:xfrm>
            <a:off x="755640" y="189000"/>
            <a:ext cx="7850160" cy="6205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755640" y="6491160"/>
            <a:ext cx="78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bratrstva Panny Marie Pomocné ze Štoků u Havlíčkova Brodu. 174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2"/>
          <p:cNvPicPr/>
          <p:nvPr/>
        </p:nvPicPr>
        <p:blipFill>
          <a:blip r:embed="rId1"/>
          <a:stretch/>
        </p:blipFill>
        <p:spPr>
          <a:xfrm>
            <a:off x="1116000" y="115920"/>
            <a:ext cx="3497400" cy="595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07"/>
          <p:cNvPicPr/>
          <p:nvPr/>
        </p:nvPicPr>
        <p:blipFill>
          <a:blip r:embed="rId2"/>
          <a:stretch/>
        </p:blipFill>
        <p:spPr>
          <a:xfrm>
            <a:off x="4716360" y="115920"/>
            <a:ext cx="3452760" cy="5950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263680" y="6237360"/>
            <a:ext cx="47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škapulířových bratrstev. 18. století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b08"/>
          <p:cNvPicPr/>
          <p:nvPr/>
        </p:nvPicPr>
        <p:blipFill>
          <a:blip r:embed="rId1"/>
          <a:stretch/>
        </p:blipFill>
        <p:spPr>
          <a:xfrm>
            <a:off x="826920" y="0"/>
            <a:ext cx="7236000" cy="6210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19720" y="6216480"/>
            <a:ext cx="73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ský lístek k pobožnosti věčného růžence pro Marii Annu Weinmanovo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členku růžencového bratrstva v Dolním Žandově. 2. pol. 18. stol. SÚA Prah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511560" y="758880"/>
            <a:ext cx="8643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skupiny bratrste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lastní náboženská bratrst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bratrstva církevní, zádušní či oltář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terátské kůry (=bratrstvo kostelních zpěváků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družení terciář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příslušníci tzv. „třetího řádu“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075280" y="60213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obrazení literátského sbor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z  z hradeckého kancionál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Picture 5" descr="brat"/>
          <p:cNvPicPr/>
          <p:nvPr/>
        </p:nvPicPr>
        <p:blipFill>
          <a:blip r:embed="rId1"/>
          <a:stretch/>
        </p:blipFill>
        <p:spPr>
          <a:xfrm>
            <a:off x="0" y="0"/>
            <a:ext cx="4532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909320" y="398520"/>
            <a:ext cx="3466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terátské ků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ěžné od konce 15. stole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6. století: zlatá do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innost: zpěv, hostin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zor nad školo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haritativní činnos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řádání pohřb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ětšinou protestantsk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 roce 1620 procház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)katolizac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ěkteré se m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 náboženská bratrst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02"/>
          <p:cNvPicPr/>
          <p:nvPr/>
        </p:nvPicPr>
        <p:blipFill>
          <a:blip r:embed="rId1"/>
          <a:stretch/>
        </p:blipFill>
        <p:spPr>
          <a:xfrm>
            <a:off x="0" y="0"/>
            <a:ext cx="41194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352040" y="5373720"/>
            <a:ext cx="45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řijímání nových členů do františkánskéh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třetího řádu. 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Regule aneb spůsob života bratrův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a sester třetího řádu svatého otce Františka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…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raha 173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473360" y="254160"/>
            <a:ext cx="44312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rciář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aická sdružení participujíc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a životě řá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dle „prvního řádu“ pro muž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 „druhého řádu pro ženy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istuje „třetí řád“ pro obě pohlav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ejména u františkán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53840" y="836640"/>
            <a:ext cx="8034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atrocinia dělíme do 4 skup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různé kulty Ježíše Kris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 barokních Čechách 19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mariánské kulty (v barokních Čechách 43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ěstující kulty světců (v barokních Čechách 31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íšené (v barokních Čechách 7 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 smíšené: JK, PM a světců dohromad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 pohřební či zádušní bratrst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735120" y="398520"/>
            <a:ext cx="840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tivace ke čl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ábožen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znivější přístup ke spáse (modlitby, odpust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chranu před sejitím na špatnou ces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polečens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litní společen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estiž (pohřeb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03"/>
          <p:cNvPicPr/>
          <p:nvPr/>
        </p:nvPicPr>
        <p:blipFill>
          <a:blip r:embed="rId1"/>
          <a:stretch/>
        </p:blipFill>
        <p:spPr>
          <a:xfrm>
            <a:off x="324000" y="189000"/>
            <a:ext cx="3471840" cy="568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b10"/>
          <p:cNvPicPr/>
          <p:nvPr/>
        </p:nvPicPr>
        <p:blipFill>
          <a:blip r:embed="rId2"/>
          <a:stretch/>
        </p:blipFill>
        <p:spPr>
          <a:xfrm>
            <a:off x="5018040" y="260280"/>
            <a:ext cx="3749760" cy="561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62800" y="6032520"/>
            <a:ext cx="383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Tisk bratrstva Pěti ran Krista Pána a Pěti r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sv. Františka z kostela sv. Jakub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na Starém městě pražském. 1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085360" y="6032520"/>
            <a:ext cx="292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Tisk bratrstva Ježíš, Marie, Ann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z kostela sv. Jakuba na Staré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městě pražském. 1743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09"/>
          <p:cNvPicPr/>
          <p:nvPr/>
        </p:nvPicPr>
        <p:blipFill>
          <a:blip r:embed="rId1"/>
          <a:stretch/>
        </p:blipFill>
        <p:spPr>
          <a:xfrm>
            <a:off x="0" y="0"/>
            <a:ext cx="42894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547880" y="5467320"/>
            <a:ext cx="408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Titulní list tisku pro členy bratrstv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Ustavičného velebení Nejsvětější Sváto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o 177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888840" y="628560"/>
            <a:ext cx="6979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innost (vedle předepsaných povinností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zaměřovala n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ět výročních svát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írkevní svát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pravidelné slav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hř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prezent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13:38:43Z</dcterms:created>
  <dc:creator>Roman Doušek</dc:creator>
  <dc:description/>
  <dc:language>en-US</dc:language>
  <cp:lastModifiedBy>Roman</cp:lastModifiedBy>
  <dcterms:modified xsi:type="dcterms:W3CDTF">2012-05-11T15:22:51Z</dcterms:modified>
  <cp:revision>17</cp:revision>
  <dc:subject/>
  <dc:title>Snímek 1</dc:title>
</cp:coreProperties>
</file>