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795-7EA4-42EB-A8F9-68C4168D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D444-4669-4135-8798-9D3D2C60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B8B-8B6B-4F30-9CA3-2AF63775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7A6-9E28-462D-A483-6503B097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7D5D-62ED-4431-9660-1E93162B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4F9-FC9F-4FC6-BF9F-90484437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628-A19E-4E07-A4FC-E0693754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767-3D38-4E77-958C-1C6A37F8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5D5-4676-46C7-A389-F0B4CC2F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44A6-B423-4561-9190-366029CC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1E46-29D6-4DF1-97D0-2EB31610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EA7-B445-44B4-B0FC-32CDC540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E5D8-F346-452A-B3E5-CA48AF6BC10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89800" y="620640"/>
            <a:ext cx="7037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ffff"/>
                </a:solidFill>
                <a:latin typeface="Times New Roman"/>
              </a:rPr>
              <a:t>DEVOCIONÁLI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= „předměty sloužící k vyjádře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sobní zbožnosti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k jejímu upevnění a povznesení.“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= hmotné, movité, doklady religioz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698560" y="2252520"/>
            <a:ext cx="316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evocioná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703840" y="878040"/>
            <a:ext cx="27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otivní předmě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643280" y="42418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robná sakrální archite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1188000" y="129060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hyl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685440" y="3789360"/>
            <a:ext cx="28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apulíř a růžen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2391480" y="6415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lykací obráz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-343800" y="269280"/>
            <a:ext cx="91332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NÁŠ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Devocioná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oční kovové ražby a odlitk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nustky, svátostk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oční obrázk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(svaté obrázk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oční kramářské tisk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oční závěsné obrazy (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aké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malby na sk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oční nádobí (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aké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ropenky, lahvice na vod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oční figurální plasti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kopisné modlitební kníž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né: kalvárie v lahvích,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ikviáře, betlémy, prsten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Škapulí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ůžen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6:51:20Z</dcterms:created>
  <dc:creator>Roman Doušek</dc:creator>
  <dc:description/>
  <dc:language>en-US</dc:language>
  <cp:lastModifiedBy>Roman</cp:lastModifiedBy>
  <dcterms:modified xsi:type="dcterms:W3CDTF">2012-05-11T15:07:31Z</dcterms:modified>
  <cp:revision>25</cp:revision>
  <dc:subject/>
  <dc:title>Snímek 1</dc:title>
</cp:coreProperties>
</file>