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EF8F-E564-42CE-A11A-C7DD1833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C987-9D2E-4F84-BCF9-CFBD6E2E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B7F-F3BA-46B1-B09D-3E6A5E1D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F70B-1D98-4AF9-908C-C2533EB2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CC3-002E-4CA7-ADCE-F473A40A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7426-B71B-4976-94E3-E0031A8C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2DC-2A9B-4876-8A30-7A17ACA1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F51-40BF-4B49-AC76-928F0612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43A-80F5-4197-B738-BAF61E60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4B8-CE6A-48E1-9EA1-755C58A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890-BB0B-4AAB-9C63-611FDA61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2B5-4103-49E9-A971-F2FC64A5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76E4-E270-4895-8D19-2633FE16FC9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12000" y="1413000"/>
            <a:ext cx="82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Times New Roman"/>
              </a:rPr>
              <a:t>DUCHOVNÍ KULTURA I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-246960" y="907920"/>
            <a:ext cx="94759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 rámci Duchovní kultury II můžeme identifikovat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ři hlavní téma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idová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ligiozita / Zbožno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idové náboženství, lidová vír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gi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d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316080" y="806400"/>
            <a:ext cx="918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eská etnologie se v souvislosti s výzkumem náboženstv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oustředil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ředkřesťanské náboženské představ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tzv. pověry a čarodějnice, tedy mag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zbožnost venkovského li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685800" y="476280"/>
            <a:ext cx="795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Times New Roman"/>
              </a:rPr>
              <a:t>1. téma: Religiozita / zbožno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824400" y="1844640"/>
            <a:ext cx="74743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tnologie zkoumá náboženství v českém prostor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dílčích problematiká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 různými pojmy (l. religiozita, l. víra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pojuje skutečnost, že popisuj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áboženské skutečnosti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ojíc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steč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imo oficiální věrouk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89800" y="758880"/>
            <a:ext cx="91472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udium (lidové) religiozity –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íry –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božnosti jak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ziduí předkřesťanské víry Čec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ecifických forem exaltovaného katolic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binace“: reziduí a přebírání prvků z křesťanstv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é jsou kulturně překládá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Antonín Václavík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Lidová víra je „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věrskou koncepcí, vybudovanou v zásadác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a  na fragmentech staré předkřesťanské víry prvky vývojově mladšími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jež ovšem nezřídka jen zastupovaly nebo nahrazovaly původní archaické představ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doplňovaly je a tmelily v organickou jednotu.“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08280" y="692280"/>
            <a:ext cx="7359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rel Procházka: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Lid česk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 hlediska prostonárodně-náboženskéh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9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lidová prostonárodně-náboženská kultura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. kap. Prostonárodní věrou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. kap. Prostonárodní umění nábožensk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. kap. Zařízení bytu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. kap. Život li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. kap. Zaměstnání li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5600" y="522360"/>
            <a:ext cx="8958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eligiozit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– defin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svědčení člověka o existenci skutečnosti přesahující lidský rozměr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 které je lidská existence závislá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tělesňuje základní kámen každého náboženstv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boženství m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íky této své postat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iv na vědomí i chování člověk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vlivy, stejně jako vědomí i chování člověk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niklé pod těmito vlivy naplňují pojem „religiozit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1"/>
          <p:cNvSpPr/>
          <p:nvPr/>
        </p:nvSpPr>
        <p:spPr>
          <a:xfrm>
            <a:off x="374760" y="1125360"/>
            <a:ext cx="885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Kultura vystupuje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ve formě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ýtvorů lidské práce (devocionálie, stavitelství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ociokulturních regulativů (náboženské normy, hodnoty, kul. vzor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Idejí (věroučný systé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Institucí organizujících lidské chování (náboženská organizace společnosti: církev, bratrstva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V rámci tripartitního členění kultur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uchovní k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-věrouka, její transformace a spontánní rozvoj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Sociální k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-uspořádání společnosti v jazyce křesťanství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vláštní sociální formace a  interakce umožňující lepší komunikaci s nadpřirozen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Hmotná k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-předměty, místa, čas a techniky umožňující komunikaci s nadpřirozen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ovéPole 2"/>
          <p:cNvSpPr/>
          <p:nvPr/>
        </p:nvSpPr>
        <p:spPr>
          <a:xfrm>
            <a:off x="813240" y="189000"/>
            <a:ext cx="790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růstání religiozity celým sociokulturním systém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-172080" y="620640"/>
            <a:ext cx="9529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áš program v rámci tématu „religiozita / zbožnost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estiv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utnic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vocionál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ratrst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29:27Z</dcterms:created>
  <dc:creator>Roman Doušek</dc:creator>
  <dc:description/>
  <dc:language>en-US</dc:language>
  <cp:lastModifiedBy>Roman</cp:lastModifiedBy>
  <dcterms:modified xsi:type="dcterms:W3CDTF">2012-05-11T15:14:46Z</dcterms:modified>
  <cp:revision>15</cp:revision>
  <dc:subject/>
  <dc:title>Snímek 1</dc:title>
</cp:coreProperties>
</file>