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D47F-9BB1-4A6B-B2C9-9822E0188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4487-A6BA-4BC0-BA2C-428CFC3AC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0E16-ACC7-4AE5-9FB7-64FD10279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0980-5386-4AB9-95A2-082A95CB1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A4EF-2F7F-4F50-8AFC-2A1057887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1221-8813-47CA-9D18-559B98A90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6AC7-FC00-4FB6-B3CE-1513791CD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D499-D484-4C7D-91F2-BC1B21573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1586-CEEB-49D2-9439-DA50478C4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0765-B5D6-42FA-B868-24292084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24A1-710C-4FA7-8DB8-2DDEC5C5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7499-85F2-446B-9277-04E1B89F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C354F-F5B4-4FF9-B93D-FC397B8B0C80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258920" y="1052640"/>
            <a:ext cx="113378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200" spc="-1" strike="noStrike">
                <a:solidFill>
                  <a:srgbClr val="ffffff"/>
                </a:solidFill>
                <a:latin typeface="Times New Roman"/>
              </a:rPr>
              <a:t>BRATRSTVA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sou sdružení věřících, především laiků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edená duchovním, která se zaměřoval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a nějaký katolický kul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b01"/>
          <p:cNvPicPr/>
          <p:nvPr/>
        </p:nvPicPr>
        <p:blipFill>
          <a:blip r:embed="rId1"/>
          <a:stretch/>
        </p:blipFill>
        <p:spPr>
          <a:xfrm>
            <a:off x="0" y="0"/>
            <a:ext cx="456876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4692960" y="66600"/>
            <a:ext cx="441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Členské album soda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Zvěstování Panny Marie v Jindřichově Hradc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z roku 1644. SÚA Prah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4537080" cy="6237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b05"/>
          <p:cNvPicPr/>
          <p:nvPr/>
        </p:nvPicPr>
        <p:blipFill>
          <a:blip r:embed="rId2"/>
          <a:stretch/>
        </p:blipFill>
        <p:spPr>
          <a:xfrm>
            <a:off x="4584600" y="0"/>
            <a:ext cx="4559400" cy="62373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1250280" y="6491160"/>
            <a:ext cx="639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Oděv bratrstva sv. Michala z Berg am Laim v Bavorsku. 18. století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b04"/>
          <p:cNvPicPr/>
          <p:nvPr/>
        </p:nvPicPr>
        <p:blipFill>
          <a:blip r:embed="rId1"/>
          <a:stretch/>
        </p:blipFill>
        <p:spPr>
          <a:xfrm>
            <a:off x="755640" y="189000"/>
            <a:ext cx="7850160" cy="62053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755640" y="6491160"/>
            <a:ext cx="787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Členský lístek bratrstva Panny Marie Pomocné ze Štoků u Havlíčkova Brodu. 1741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2"/>
          <p:cNvPicPr/>
          <p:nvPr/>
        </p:nvPicPr>
        <p:blipFill>
          <a:blip r:embed="rId1"/>
          <a:stretch/>
        </p:blipFill>
        <p:spPr>
          <a:xfrm>
            <a:off x="1116000" y="115920"/>
            <a:ext cx="3497400" cy="5950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b07"/>
          <p:cNvPicPr/>
          <p:nvPr/>
        </p:nvPicPr>
        <p:blipFill>
          <a:blip r:embed="rId2"/>
          <a:stretch/>
        </p:blipFill>
        <p:spPr>
          <a:xfrm>
            <a:off x="4716360" y="115920"/>
            <a:ext cx="3452760" cy="59500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"/>
          <p:cNvSpPr/>
          <p:nvPr/>
        </p:nvSpPr>
        <p:spPr>
          <a:xfrm>
            <a:off x="2263680" y="6237360"/>
            <a:ext cx="477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Členský lístek škapulířových bratrstev. 18. století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b08"/>
          <p:cNvPicPr/>
          <p:nvPr/>
        </p:nvPicPr>
        <p:blipFill>
          <a:blip r:embed="rId1"/>
          <a:stretch/>
        </p:blipFill>
        <p:spPr>
          <a:xfrm>
            <a:off x="826920" y="0"/>
            <a:ext cx="7236000" cy="62103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819720" y="6216480"/>
            <a:ext cx="732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Členský lístek k pobožnosti věčného růžence pro Marii Annu Weinmanovou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členku růžencového bratrstva v Dolním Žandově. 2. pol. 18. stol. SÚA Prah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511560" y="758880"/>
            <a:ext cx="8643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Tři skupiny bratrstev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vlastní náboženská bratrstv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(bratrstva církevní, zádušní či oltářní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literátské kůry (=bratrstvo kostelních zpěváků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družení terciářů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(příslušníci tzv. „třetího řádu“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5075280" y="6021360"/>
            <a:ext cx="30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Vyobrazení literátského sboru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z  z hradeckého kancionálu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Picture 5" descr="brat"/>
          <p:cNvPicPr/>
          <p:nvPr/>
        </p:nvPicPr>
        <p:blipFill>
          <a:blip r:embed="rId1"/>
          <a:stretch/>
        </p:blipFill>
        <p:spPr>
          <a:xfrm>
            <a:off x="0" y="0"/>
            <a:ext cx="45324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4909320" y="398520"/>
            <a:ext cx="346608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Literátské ků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běžné od konce 15. stolet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16. století: zlatá dob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činnost: zpěv, hostiny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dozor nad školou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charitativní činnost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ořádání pohřb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ětšinou protestantsk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o roce 1620 prochází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(re)katolizací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ěkteré se mění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 náboženská bratrst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b02"/>
          <p:cNvPicPr/>
          <p:nvPr/>
        </p:nvPicPr>
        <p:blipFill>
          <a:blip r:embed="rId1"/>
          <a:stretch/>
        </p:blipFill>
        <p:spPr>
          <a:xfrm>
            <a:off x="0" y="0"/>
            <a:ext cx="411948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4352040" y="5373720"/>
            <a:ext cx="459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Přijímání nových členů do františkánskéh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třetího řádu. </a:t>
            </a:r>
            <a:r>
              <a:rPr b="0" i="1" lang="cs-CZ" sz="1800" spc="-1" strike="noStrike">
                <a:solidFill>
                  <a:srgbClr val="ffffff"/>
                </a:solidFill>
                <a:latin typeface="Times New Roman"/>
              </a:rPr>
              <a:t>Regule aneb spůsob života bratrův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Times New Roman"/>
              </a:rPr>
              <a:t>a sester třetího řádu svatého otce Františka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…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Praha 1731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4473360" y="254160"/>
            <a:ext cx="443124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Terciář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laická sdružení participující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a životě řád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edle „prvního řádu“ pro muže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a „druhého řádu pro ženy“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existuje „třetí řád“ pro obě pohlav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ejména u františkánů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753840" y="836640"/>
            <a:ext cx="80348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atrocinia dělíme do 4 skupin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ěstující různé kulty Ježíše Krist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v barokních Čechách 19 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ěstující mariánské kulty (v barokních Čechách 43 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ěstující kulty světců (v barokních Čechách 31 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míšené (v barokních Čechách 7 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. smíšené: JK, PM a světců dohromad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. pohřební či zádušní bratrst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735120" y="398520"/>
            <a:ext cx="84088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Motivace ke členstv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áboženské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íznivější přístup ke spáse (modlitby, odpustk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chranu před sejitím na špatnou cest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polečensk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elitní společenstv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estiž (pohřeb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b03"/>
          <p:cNvPicPr/>
          <p:nvPr/>
        </p:nvPicPr>
        <p:blipFill>
          <a:blip r:embed="rId1"/>
          <a:stretch/>
        </p:blipFill>
        <p:spPr>
          <a:xfrm>
            <a:off x="324000" y="189000"/>
            <a:ext cx="3471840" cy="568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b10"/>
          <p:cNvPicPr/>
          <p:nvPr/>
        </p:nvPicPr>
        <p:blipFill>
          <a:blip r:embed="rId2"/>
          <a:stretch/>
        </p:blipFill>
        <p:spPr>
          <a:xfrm>
            <a:off x="5018040" y="260280"/>
            <a:ext cx="3749760" cy="56167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262800" y="6032520"/>
            <a:ext cx="3833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Tisk bratrstva Pěti ran Krista Pána a Pěti ra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sv. Františka z kostela sv. Jakub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na Starém městě pražském. 173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5085360" y="6032520"/>
            <a:ext cx="292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Tisk bratrstva Ježíš, Marie, Ann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z kostela sv. Jakuba na Starém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městě pražském. 1743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b09"/>
          <p:cNvPicPr/>
          <p:nvPr/>
        </p:nvPicPr>
        <p:blipFill>
          <a:blip r:embed="rId1"/>
          <a:stretch/>
        </p:blipFill>
        <p:spPr>
          <a:xfrm>
            <a:off x="0" y="0"/>
            <a:ext cx="42894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4547880" y="5467320"/>
            <a:ext cx="408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Titulní list tisku pro členy bratrstv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Ustavičného velebení Nejsvětější Svátosti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Po 1773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888840" y="628560"/>
            <a:ext cx="69793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Činnost (vedle předepsaných povinností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e zaměřovala n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ět výročních svátk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církevní svátk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pravidelné slav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hř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chari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eprezent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13:38:43Z</dcterms:created>
  <dc:creator>Roman Doušek</dc:creator>
  <dc:description/>
  <dc:language>en-US</dc:language>
  <cp:lastModifiedBy>Roman</cp:lastModifiedBy>
  <dcterms:modified xsi:type="dcterms:W3CDTF">2012-05-11T15:22:51Z</dcterms:modified>
  <cp:revision>17</cp:revision>
  <dc:subject/>
  <dc:title>Snímek 1</dc:title>
</cp:coreProperties>
</file>