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AF5-E0B2-4320-AB99-40ED32FB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3E5-8F1A-4C3C-B8A5-11F540A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9A-112D-4ED0-AE55-758E76C1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1DA-E65D-4793-B225-DDF54456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D63-BE61-4606-A041-323A932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E7B-FBF2-43D9-8D88-C81451F3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057-92FA-4E77-A79B-67E7192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849-7628-4DEA-80A5-6EC2CBB8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9E0-AF20-45BF-B556-D1CDBDE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019-B5B7-41FB-AB57-A445E3D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35B-52A2-4AD5-9AC2-4348127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85D-C362-4CA4-9259-5543049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CEEE-0F34-4378-818F-635FC2B6ABF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2000" y="1413000"/>
            <a:ext cx="82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Times New Roman"/>
              </a:rPr>
              <a:t>DUCHOVNÍ KULTURA I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-246960" y="907920"/>
            <a:ext cx="94759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rámci Duchovní kultury II můžeme identifikovat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ři hlavní téma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idová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ligiozita / Zbožn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idové náboženství, lidová ví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gi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d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316080" y="806400"/>
            <a:ext cx="91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etnologie se v souvislosti s výzkumem náboženstv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oustředi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ředkřesťanské náboženské představ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tzv. pověry a čarodějnice, tedy mag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zbožnost venkovského li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476280"/>
            <a:ext cx="79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imes New Roman"/>
              </a:rPr>
              <a:t>1. téma: Religiozita / zbožno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824400" y="1844640"/>
            <a:ext cx="7474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tnologie zkoumá náboženství v českém prostor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dílčích problematiká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 různými pojmy (l. religiozita, l. víra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pojuje skutečnost, že popisuj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boženské skutečnosti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ojíc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steč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imo oficiální věrouk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89800" y="758880"/>
            <a:ext cx="91472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udium (lidové) religiozity –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íry –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božnosti jak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ziduí předkřesťanské víry Čec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ecifických forem exaltovaného katol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binace“: reziduí a přebírání prvků z křesťanstv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jsou kulturně překládá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Antonín Václavík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Lidová víra je „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věrskou koncepcí, vybudovanou v zásadá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a  na fragmentech staré předkřesťanské víry prvky vývojově mladším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jež ovšem nezřídka jen zastupovaly nebo nahrazovaly původní archaické představ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doplňovaly je a tmelily v organickou jednotu.“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08280" y="692280"/>
            <a:ext cx="735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rel Procházka: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Lid česk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 hlediska prostonárodně-nábožensk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9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lidová prostonárodně-náboženská kultur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. kap. Prostonárodní věrou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. kap. Prostonárodní umění nábožensk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. kap. Zařízení bytu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. kap. Život li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. kap. Zaměstnání li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5600" y="522360"/>
            <a:ext cx="8958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eligiozit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– defi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svědčení člověka o existenci skutečnosti přesahující lidský rozmě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které je lidská existence závislá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tělesňuje základní kámen každého náboženstv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boženství m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íky této své postat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iv na vědomí i chování člověk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vlivy, stejně jako vědomí i chování člověk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lé pod těmito vlivy naplňují pojem „religiozit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1"/>
          <p:cNvSpPr/>
          <p:nvPr/>
        </p:nvSpPr>
        <p:spPr>
          <a:xfrm>
            <a:off x="374760" y="1125360"/>
            <a:ext cx="885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Kultura vystupuje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ve formě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tvorů lidské práce (devocionálie, stavitelstv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okulturních regulativů (náboženské normy, hodnoty, kul. vzo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dejí (věroučný systé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stitucí organizujících lidské chování (náboženská organizace společnosti: církev, bratrstv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V rámci tripartitního členění kultu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uchovní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věrouka, její transformace a spontánní rozvo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uspořádání společnosti v jazyce křesťanství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vláštní sociální formace a  interakce umožňující lepší komunikaci s nadpřirozen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Hmotná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předměty, místa, čas a techniky umožňující komunikaci s nadpřirozen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813240" y="18900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růstání religiozity celým sociokulturním systém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-172080" y="620640"/>
            <a:ext cx="952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áš program v rámci tématu „religiozita / zbožnost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estiv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utn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ratrs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29:27Z</dcterms:created>
  <dc:creator>Roman Doušek</dc:creator>
  <dc:description/>
  <dc:language>en-US</dc:language>
  <cp:lastModifiedBy>Roman</cp:lastModifiedBy>
  <dcterms:modified xsi:type="dcterms:W3CDTF">2012-05-11T15:14:46Z</dcterms:modified>
  <cp:revision>15</cp:revision>
  <dc:subject/>
  <dc:title>Snímek 1</dc:title>
</cp:coreProperties>
</file>