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831-E107-4D25-8A35-C4D4F52A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7F1-DAF1-463D-A177-D8264F3B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3B2-D5B8-45E4-A707-2B8E574F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64F-37F0-4707-9151-AFAFE344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4DC-463F-4692-B5FD-373762D7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1CA-294B-4D51-B8DA-45519E64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16E-B590-416B-A0AD-F6C1819D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DC0-CC91-4D24-ACC9-0834B2B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61D-6D12-4EC9-8721-B9785EA2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EB5-8FE7-4C9F-92D9-02BD386C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181-8BAE-4D57-B0FE-3A64EAFF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952-FD44-408E-8ADC-638711E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1B07-EA47-4E8E-81FC-FFAF0073C09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4200" y="333360"/>
            <a:ext cx="30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Baskerville Old Face"/>
              </a:rPr>
              <a:t>MAGIE</a:t>
            </a:r>
            <a:endParaRPr b="0" lang="en-US" sz="72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26920" y="3141720"/>
            <a:ext cx="786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Leopold Pospíšil: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Magie je provádění rituálního aktu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k dosažení praktických a specifických výsledků;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je založena na víře v empiricky neověřitelné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kauzální spojení mezi aktem a (příležitostným)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žádoucím výsledkem.“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211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25240" y="5022720"/>
            <a:ext cx="68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Délka Ježíše Krista, pětidílný tisk, 1. polovina 19. století. Čechy.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ýlka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08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019880" y="5383080"/>
            <a:ext cx="56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Délka Ježíše Krista, stočený tisk, 19. století. Morava.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ýlka"/>
          <p:cNvPicPr/>
          <p:nvPr/>
        </p:nvPicPr>
        <p:blipFill>
          <a:blip r:embed="rId1"/>
          <a:stretch/>
        </p:blipFill>
        <p:spPr>
          <a:xfrm>
            <a:off x="0" y="0"/>
            <a:ext cx="4710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794480" y="5837400"/>
            <a:ext cx="326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Délka Ježíše Krista,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knížkový tisk. 1848. Litomyšl.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Štajnochr 3"/>
          <p:cNvPicPr/>
          <p:nvPr/>
        </p:nvPicPr>
        <p:blipFill>
          <a:blip r:embed="rId1"/>
          <a:stretch/>
        </p:blipFill>
        <p:spPr>
          <a:xfrm>
            <a:off x="0" y="0"/>
            <a:ext cx="6156360" cy="368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Štajnochr 4"/>
          <p:cNvPicPr/>
          <p:nvPr/>
        </p:nvPicPr>
        <p:blipFill>
          <a:blip r:embed="rId2"/>
          <a:stretch/>
        </p:blipFill>
        <p:spPr>
          <a:xfrm>
            <a:off x="62056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60320" y="389088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Baskerville Old Face"/>
              </a:rPr>
              <a:t>Délka Panny Marie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96080" y="63388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Baskerville Old Face"/>
              </a:rPr>
              <a:t>Stopa Panny Marie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st2"/>
          <p:cNvPicPr/>
          <p:nvPr/>
        </p:nvPicPr>
        <p:blipFill>
          <a:blip r:embed="rId1"/>
          <a:stretch/>
        </p:blipFill>
        <p:spPr>
          <a:xfrm>
            <a:off x="0" y="0"/>
            <a:ext cx="5067360" cy="6524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saní"/>
          <p:cNvPicPr/>
          <p:nvPr/>
        </p:nvPicPr>
        <p:blipFill>
          <a:blip r:embed="rId2"/>
          <a:stretch/>
        </p:blipFill>
        <p:spPr>
          <a:xfrm>
            <a:off x="5062680" y="0"/>
            <a:ext cx="4081320" cy="6524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3520440" y="64008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askerville Old Face"/>
              </a:rPr>
              <a:t>Listy z nebe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053000" y="836640"/>
            <a:ext cx="71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Baskerville Old Face"/>
              </a:rPr>
              <a:t>Lidé praktikující magii</a:t>
            </a:r>
            <a:r>
              <a:rPr b="0" lang="cs-CZ" sz="4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51160" y="2276640"/>
            <a:ext cx="8827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jsou ve vesnické komunitě akceptovatelní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a hovoříme o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léčitelích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,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bohyních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,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božcích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či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zaříkávačích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nejsou ve vesnické komunitě akceptovatelní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a hovoříme o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čarodějnicích 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a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čarodějích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či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bosorkách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35"/>
          <p:cNvPicPr/>
          <p:nvPr/>
        </p:nvPicPr>
        <p:blipFill>
          <a:blip r:embed="rId1"/>
          <a:stretch/>
        </p:blipFill>
        <p:spPr>
          <a:xfrm>
            <a:off x="4886280" y="0"/>
            <a:ext cx="4257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40880" y="6237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askerville Old Face"/>
              </a:rPr>
              <a:t>Bohyně ze Žítkové. Foto Jan Koula </a:t>
            </a:r>
            <a:endParaRPr b="0" lang="en-US" sz="20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-19080" y="523800"/>
            <a:ext cx="87109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kruhy čarodějnictví :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Čarodějnictví na ve středověkém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aně novověkém evropském venkově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Čarodějnice ve středověké a raně novověké Evropě,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zástupkyně stana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Africké čarodějnictví a kouzelnictví 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Novopohanské čarodějnictví 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Reader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739160" y="595008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Jan Amos Komenský: Orbis pictus. Kapitola „Soud“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Č. 10 – čarodějnice na hranici.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ookReaderImages"/>
          <p:cNvPicPr/>
          <p:nvPr/>
        </p:nvPicPr>
        <p:blipFill>
          <a:blip r:embed="rId1"/>
          <a:stretch/>
        </p:blipFill>
        <p:spPr>
          <a:xfrm>
            <a:off x="0" y="0"/>
            <a:ext cx="6659640" cy="464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čaro2"/>
          <p:cNvPicPr/>
          <p:nvPr/>
        </p:nvPicPr>
        <p:blipFill>
          <a:blip r:embed="rId2"/>
          <a:stretch/>
        </p:blipFill>
        <p:spPr>
          <a:xfrm>
            <a:off x="6637320" y="0"/>
            <a:ext cx="25066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7160" y="708480"/>
            <a:ext cx="8688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Tři fáze zájmu o magii: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Pověry/magie a čarodějnice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v očích teologů (od středověku)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Pověry/magie a čarodějnice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v očích osvícenců (od konce 18. století)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Etnografický zájem o magii a čarodějnice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(od poloviny 19. století)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51"/>
          <p:cNvPicPr/>
          <p:nvPr/>
        </p:nvPicPr>
        <p:blipFill>
          <a:blip r:embed="rId1"/>
          <a:stretch/>
        </p:blipFill>
        <p:spPr>
          <a:xfrm>
            <a:off x="0" y="0"/>
            <a:ext cx="411336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52"/>
          <p:cNvPicPr/>
          <p:nvPr/>
        </p:nvPicPr>
        <p:blipFill>
          <a:blip r:embed="rId2"/>
          <a:stretch/>
        </p:blipFill>
        <p:spPr>
          <a:xfrm>
            <a:off x="5300640" y="0"/>
            <a:ext cx="3843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4237560" y="6400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askerville Old Face"/>
              </a:rPr>
              <a:t>1763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41360" y="380880"/>
            <a:ext cx="804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ENCE MAGIE NA VENKOVĚ: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e folkloru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Lidé praktikující magii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Informace ze strany konkurenčních ideologií (křesťanství, racionalismus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Samotné praktikování magie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-501840" y="642960"/>
            <a:ext cx="9162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Druhy magie 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v českém venkovském prostředí</a:t>
            </a: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1</a:t>
            </a: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Prosperitní magie</a:t>
            </a: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askerville Old Face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Věštění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askerville Old Face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Léčební 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askerville Old Face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Ochranná 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624680" y="642960"/>
            <a:ext cx="55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1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Prosperitní</a:t>
            </a:r>
            <a:r>
              <a:rPr b="1" lang="cs-CZ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-653760" y="1989000"/>
            <a:ext cx="10717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Úkony snažící se pozitivně ovlivnit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zemědělskou úrodu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Úkony snažící se pozitivně ovlivnit chov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hospodářských zvířat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Úkony snažící se získat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lásku </a:t>
            </a: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(náklonnost) vybrané osoby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Úkony snažící se získat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poklad/získat</a:t>
            </a: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pomocníka</a:t>
            </a: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zajišťujícího prosperitu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3440" y="620640"/>
            <a:ext cx="29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Věštění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26920" y="2349360"/>
            <a:ext cx="74170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Odhalovaní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budoucnosti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Odhalování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neznámých informací</a:t>
            </a: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(zloděje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098440" y="642960"/>
            <a:ext cx="491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3</a:t>
            </a: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Léčebná 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095560" y="1916280"/>
            <a:ext cx="596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Byliny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Zaříkávání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řípravky živočišného původu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ředměty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rostředky nabyté léčebnou silou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mající původ v křesťanství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Alkohol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316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9520" y="631836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askerville Old Face"/>
              </a:rPr>
              <a:t>Arch polykacích obrázků, 1. polovina 19. století. Linec.</a:t>
            </a:r>
            <a:endParaRPr b="0" lang="en-US" sz="20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508680" y="692280"/>
            <a:ext cx="71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4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Ochranná 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25560" y="2205000"/>
            <a:ext cx="8180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ředměty s ochrannou silou (staré, kovové,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Zaříkávání (špatného počasí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Zvuky (zvony, práskání bičem, střelba)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rostředky nabyté ochrannou silou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mající původ v křesťanství (amulety: phylacteria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Barva (červená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0:10:54Z</dcterms:created>
  <dc:creator>Roman Doušek</dc:creator>
  <dc:description/>
  <dc:language>en-US</dc:language>
  <cp:lastModifiedBy>Roman</cp:lastModifiedBy>
  <dcterms:modified xsi:type="dcterms:W3CDTF">2012-05-11T15:20:45Z</dcterms:modified>
  <cp:revision>20</cp:revision>
  <dc:subject/>
  <dc:title>Snímek 1</dc:title>
</cp:coreProperties>
</file>