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DCF-9B6D-4ED8-9842-86D19245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33B-A70D-4D71-AC8E-56DC307B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218-AB81-445B-B93E-0357D0D7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EDC-FF8F-49CE-A26A-776C0381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2D4-2F2E-4A70-99D6-5A0D84E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588-7F8F-4E76-9769-9BBE89EB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C8A-9946-4E9C-9206-ED50328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172-A22D-4460-B281-A8BB961F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9A5-6C39-40D3-BEAD-9603CAC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686-8E49-4B11-92E2-B4E3A17C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619-0B05-4E96-8E8C-AEB7044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77C-AB7F-4E8A-89F0-775607C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D79-C617-4891-A0CB-BD51DB8C7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21440" y="620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Škapulí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1480" y="1865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z lat. scapulae – ramena záda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" y="60930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. Šimon dostává škapulíř od Panny Ma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vaš podle rytiny, 17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356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54760" y="0"/>
            <a:ext cx="3189240" cy="616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83280" y="621648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íbrný desátkový růžene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žní Německo, 18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5520" y="61866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íbrný růžen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žní Německo, 18./19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74400" y="28260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. Šimon drží škapulí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o záruku vysvoboz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očis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560" y="1197000"/>
            <a:ext cx="3159000" cy="566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75840" y="143352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ábit bos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meli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42040" y="282600"/>
            <a:ext cx="31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raz Panny Marie Škapulíř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 Kostelním Vyd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25520" y="649044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Škapulíř s hedvábným sáčkem s Mariánským monogramem, 18. st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7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112080" cy="623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28440" y="630792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Škapulíř (detail) s rytinami světců, 19. stol., Plzeňsk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4240" cy="609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4320" y="623664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ítkové tisky“ ze škapulíře. 19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" descr=""/>
          <p:cNvPicPr/>
          <p:nvPr/>
        </p:nvPicPr>
        <p:blipFill>
          <a:blip r:embed="rId2"/>
          <a:stretch/>
        </p:blipFill>
        <p:spPr>
          <a:xfrm>
            <a:off x="4518000" y="0"/>
            <a:ext cx="462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35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85000" y="469800"/>
            <a:ext cx="33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ůže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arium = lat. růžová zah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81760" y="5875200"/>
            <a:ext cx="47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ženec. Lourdy. Druhá polovina 19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0:34:51Z</dcterms:created>
  <dc:creator>Roman Doušek</dc:creator>
  <dc:description/>
  <dc:language>en-US</dc:language>
  <cp:lastModifiedBy>Admin</cp:lastModifiedBy>
  <dcterms:modified xsi:type="dcterms:W3CDTF">2011-03-01T14:46:43Z</dcterms:modified>
  <cp:revision>7</cp:revision>
  <dc:subject/>
  <dc:title>Snímek 1</dc:title>
</cp:coreProperties>
</file>