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F94-D006-4A50-AE60-4AAA8E32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94B-BB15-4AD7-BDA5-66A0DAEA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19E1-0424-4748-B432-8420DAC0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3648-1AF8-4A32-A0C2-2E1CDAC0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96C-07BA-422F-9E40-C8E909F0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01C3-78E9-4560-9435-1D6EA95F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F8AC-1B6E-4103-A33E-E2AA3A8F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F41-0E79-4ED1-9EDF-F52F3DED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B7D-0746-47ED-9CD4-3A1A753A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CBD3-4971-43C2-866C-D80938F7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6A4D-01AD-4593-8EBE-E94B0881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39AA-D638-4707-B578-7CFBED46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C788-2729-4085-B93C-8824407E05A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89800" y="620640"/>
            <a:ext cx="7037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ffff"/>
                </a:solidFill>
                <a:latin typeface="Times New Roman"/>
              </a:rPr>
              <a:t>DEVOCIONÁLI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= „předměty sloužící k vyjádřen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osobní zbožnosti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k jejímu upevnění a povznesení.“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= hmotné, movité, doklady religioz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2698560" y="2252520"/>
            <a:ext cx="316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evocioná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703840" y="878040"/>
            <a:ext cx="27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otivní předmě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643280" y="42418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robná sakrální architek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188000" y="1290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hyl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685440" y="3789360"/>
            <a:ext cx="28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apulíř a růžen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391480" y="6415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lykací obráz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-343800" y="269280"/>
            <a:ext cx="91332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MS Mincho"/>
              </a:rPr>
              <a:t>NÁŠ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MS Mincho"/>
              </a:rPr>
              <a:t>Devocioná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oční kovové ražby a odlitk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nustky, svátostk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oční obrázk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(svaté obrázk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oční kramářské tisk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oční závěsné obrazy (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aké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malby na sk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oční nádobí (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aké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ropenky, lahvice na vod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oční figurální plasti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kopisné modlitební kníž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né: kalvárie v lahvích,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kviáře, betlémy, prsten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Škapulí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ůžen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51:20Z</dcterms:created>
  <dc:creator>Roman Doušek</dc:creator>
  <dc:description/>
  <dc:language>en-US</dc:language>
  <cp:lastModifiedBy>Roman</cp:lastModifiedBy>
  <dcterms:modified xsi:type="dcterms:W3CDTF">2012-05-11T15:07:31Z</dcterms:modified>
  <cp:revision>25</cp:revision>
  <dc:subject/>
  <dc:title>Snímek 1</dc:title>
</cp:coreProperties>
</file>