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A924-A345-4FCB-A0D2-B0A96716B3F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4344-6E7B-45D3-9EE9-EC8C7C33CA3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CC85-76CF-4626-BE6F-43B5183059A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619F-6C43-4617-A869-DE4AC41FB3A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6EEF-281C-4A6C-9BB4-DF2F02EAE2B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2E79-673B-4DAA-BE31-42632FFA7B4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4AD8-16CF-4EE8-AE49-83BEB1CB0AE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F13D-7BB0-483C-BFB5-F735A8E7593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8C31-5926-4065-BE37-9A8C61C3CD2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6F5-8A13-422D-B6A7-991EA8A6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1B7-4D8B-410E-AF31-E4988396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EF9-9FB9-4A1C-835A-475499EC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105-53C8-4CDB-A34E-CBB4319E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C865-A474-430D-AFA3-D68935DA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81E2-0F45-4378-B127-C21806F4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3ABF-8CD2-458D-A66C-F2CB0D52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A880-966E-4A07-921B-598608BE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BED7-3129-4199-94B1-B916F46A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E4AC-8701-413E-8BE4-756E5C26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8E38-0E91-416A-B944-B7701A44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A7D-715B-4094-A693-23B52F99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2CA-AA57-4DCE-933C-8E72A38A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D4A7-7A61-4436-8AD7-317D9C46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AEDE-9018-425A-AB87-ADB40CDC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059B-9BE8-4D22-A66B-C7BBB3C0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18A0-3A40-43A5-9AFF-43C30E62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31D-E242-4516-84FD-00485CAC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252-3D0C-4538-9D18-26E56E62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36E-0E03-44B4-AED7-5D33C007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339-51C0-4420-98F1-12465C27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F04-D2B9-4DC1-A8B2-0D33C64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B87-F093-4C72-8C22-A6BEB7C9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C4E-32B2-4D30-BA5E-74E22DD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98BC-9C3E-48F6-94DF-52694559C8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4E7-0E38-40C1-9360-928BA6A4F27A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2. 4. 2016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jaro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190440"/>
            <a:ext cx="6840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79280" y="2781360"/>
            <a:ext cx="66308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íklady systém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R: (MOZAIKA), (SEMAN), LEG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SA MAI Tool (text1, text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6-04-22T16:33:29Z</dcterms:modified>
  <cp:revision>261</cp:revision>
  <dc:subject/>
  <dc:title>Selekční jazyky</dc:title>
</cp:coreProperties>
</file>