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BE2A-A9AE-43D0-9210-56C0800A26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806-3AFD-4E8E-9BAF-3DB44BEB9D6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7D2E-E1F1-4585-8327-7F7B0F9C891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3CD1-2D21-40C4-81D0-5EEAFFF743C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9ED0-08EB-4652-B67F-0081F9C3F3E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EE47-606E-4401-BEB2-302D830EE51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724-6C31-4D4C-907D-786347A6E29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954F-E9BE-4B84-9861-56544637B6B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7F8-0A9D-4ABE-AAC3-0BBA080DE41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A0F-DFF5-43D3-8571-6F27EAE6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880-1F3E-47D9-8D65-903C2C5F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FD5-9729-449C-B6FA-6004BCEC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CF7-F67D-4D56-B916-C383E1FC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C88-0D93-4FCF-91DB-838C9AB7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9D9-F7BE-4A30-896C-5B6F8DC7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BA39-E80C-4FFF-8248-7EFFFE9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E813-236B-417C-8F51-10FE45F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65F8-A290-4618-80B6-D84FD0FA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4C2E-EC4A-4221-9597-E584DD7B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F5E6-E7E2-47BF-8D93-406BDB08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906-075E-4ADA-915F-4227437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410-306B-4250-BD21-E48241E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482-FDA7-478B-BCC0-047142E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A2C-527A-4776-9F5F-725E589B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F58A-406B-4F3C-BCD0-ECF7E3E3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3C45-9254-4CBC-8C75-01C96D64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6A6-4484-44B0-A7F9-02ED2055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D76-FB07-4248-A7AB-90E9739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720-50D6-4BAA-A54F-DE8E580D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956-97A2-4A3A-8969-B7AD5594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F65-71B9-49AF-8BC8-6A56EF7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45D-EC5A-4BD7-A988-B285189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BFD-823C-42D4-B722-73CD56B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923-EBB9-4D75-B752-2B7AD1C23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A470-70E2-4EDB-8C45-3C5AB6A34EC8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2. 4. 2016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190440"/>
            <a:ext cx="6840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66308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íklady systém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R: (MOZAIKA), (SEMAN), LEG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A MAI Tool (text1, tex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04-22T16:33:29Z</dcterms:modified>
  <cp:revision>261</cp:revision>
  <dc:subject/>
  <dc:title>Selekční jazyky</dc:title>
</cp:coreProperties>
</file>