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430C-A478-47AB-AECA-A8F93F5197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425F-B05E-4220-AA66-F469D6CAE956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F3A6-9089-44D5-8216-5DA7F0224AFD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F377-D75A-489B-B9B2-6859AE7B9C4A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8782-B90D-49E9-A586-748F27905877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19D1-E8E9-4217-9E90-688664C0FFD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091F-EA29-4A3D-BCC3-FD3E09DE320B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930A-F231-4A96-993D-D9CF751AACFF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4630-3F43-47A1-B00F-0799B66AB2E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88F-2B39-4638-B9AB-1692637C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F70-B210-4B72-8409-A9E73635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544-7401-47B6-A0D4-264BD88C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237-1E0A-43B4-BDD0-668E7617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5803-E9FD-4F44-B8DE-2BEF6538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BE75-5CFF-4ED7-8D3E-BD74D1E3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993A-D31B-4014-AAA6-D7CC1B91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BFB0-4F1C-47E8-ADB5-418C110D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3C85-6609-4AD5-A89A-C94FB485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994E-F89B-4E12-AAD1-4D28ED1A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36BD-CEFF-4FAA-9955-CAA7EC68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4F8-4C78-49C4-A295-74713F9C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05CB-0806-45F2-9575-BA236D47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585A-371B-41E9-B0FF-09A36CBE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0833-656D-4FC0-A165-6ACDB311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0283-2693-4F22-9FE3-F05F18E22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6447-1474-48EB-9088-6A161718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1397-B9F6-4A8A-93BE-00DA44B6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656-F839-4AA0-BEF6-B0B3BC68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6C8-C5BE-440B-BE5F-16B46125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766E-70A9-4D53-ADD9-15A4C4BF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7BB5-9860-4E65-9A1B-9D1B6B5D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260-FC6D-4271-9353-945872B9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392-9FE5-49AC-A841-3D95B7EF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7DD4-25B6-45A9-91AA-E35A94179B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A032-78FE-4F7A-8A96-62675B209B14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karos.cz/soucasny-stav-a-trendy-automaticke-indexace-dokumentu" TargetMode="Externa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komparaceindexace.doc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karos.cz/node/26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MA05</a:t>
            </a:r>
            <a:br>
              <a:rPr sz="16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znalost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1. 4. 2017: Procesy organizace znalostí – obsahová analýza, indexace, klasifikace, automatizované procedury (P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F MU, jaro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0560" y="1628640"/>
            <a:ext cx="6705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stupnost plného textu, popř. abstrak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cké/intelektuální proc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subje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ký objem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oj nerozumí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e, synt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ratextová (slova/výrazy, věty, odstavce,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textová (různé tex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tratextová (real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0560" y="1773000"/>
            <a:ext cx="67770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problém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my nejsou vyjádřeny explicit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ímé odkazy na jiné části textu nebo tex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xt obsahuje nevýznamová sl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zykové problémy: synonymie, 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znam slov se mění v čase nebo mezi jednotlivými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é tvary slov (míra závisí na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190440"/>
            <a:ext cx="6985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Typy automatické index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0920" y="2133360"/>
            <a:ext cx="6785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trakce (extraction indexing) – slovní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líčová slova z text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analýza (identifikace slov a souslov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emat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áž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komparace s řízeným slovník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řazování (assignment indexing) – pojmová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áce s plným tex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kročilé statistické a matematickolingvistické metody (pravděpodobnostní mode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zený slovník – simulace intelektuálního proc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23640" y="190440"/>
            <a:ext cx="6410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95640" y="1844640"/>
            <a:ext cx="664056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Čísl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é text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§ 12“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borné termín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MARC21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rčení hranice s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čka (zkratky), spojovník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knihovnicko-informační systé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lší interpunkční znamé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lká/malá písm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66920" y="2923920"/>
            <a:ext cx="6569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ouslov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cky nosnější než jednotlivá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základ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rmalizace souslo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uštění pomocných slovních druhů a zanedbání pořadí slo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analýza s použitím kmene (koře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23640" y="1915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0-30 % běž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ky, předložky a další pomocné slož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35784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sloví s předložkovou vazb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knihovny pro nevidom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bez rozlišovací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gativní slovník (slovník nevýznamových slov, slovník stop-slov, stop-slovní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lexikální analýzou a váž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95280" y="30456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26920" y="2060640"/>
            <a:ext cx="620892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stop-slovní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uhy slov (spojky, předložky, částice apo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le frekvence slova v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tká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ti-negativní slov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23640" y="1773000"/>
            <a:ext cx="67122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goritmické (gramatická pravid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enerování afix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ově orient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vník kmenů nebo kořenů a dalších morfologických inform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ovník afixů (sufixů a prefix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etter successor variety stemme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arieta po sobě následujících pís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vé dokumenty v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rozliší inflexní a derivační afi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gram: lemmatizátor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temme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0920" y="1483920"/>
            <a:ext cx="69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y převodů slovních druh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žský životný/ženský tvar substantiv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, autorka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ivlastňovací přídavné jméno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čin, autorův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užský tvar subst., 1. pád, singulár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j.: stupňované tvar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jkonkrétnějš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vozená substantiva s konc. –ost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ost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nega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konkrétn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íslov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ě)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ákl. tvar. adj.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í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vesa: časování, příč. č. a trp., slovesné jméno podstatné, opakované sloveso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infinitiv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děla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0920" y="1844640"/>
            <a:ext cx="67852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Lemmatizace se provád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dex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ý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ručních zás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zpracování dot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rzní lemmatizace (deriv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ýšení rele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sn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k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cesy věcného zpracov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 a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dání 8. dílčího kroku 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- váže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23640" y="1700280"/>
            <a:ext cx="647532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Různá důležitost slov pro obsah do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elektivní síla indexačního termínu (výraz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Kritéria vážení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az (slovní dru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xt (délka, počet různých termín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výrazu a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stění výrazu ve specifické části textu (název, abstrakt, první a poslední pasáže apod.) – zohlednění koeficientem při váž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termínu a celé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Vybrané váhové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v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23640" y="2997360"/>
            <a:ext cx="6712200" cy="31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imulace intelektuálního proces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ledky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o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ovaný řízený slov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zarus, sémantická síť, znalostní 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po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23640" y="2923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ostup PI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ýr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ovnání výrazu s relevantními profily pojmů z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rčení indexačních termí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oblém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oda dokument/ŘS nemusí být určující pro obs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triviální vyjádření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icitní reprezentace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270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aktické aspek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né tex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účinnost ve srovnání s intelektuální index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náklady – vyšší kv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orový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ystém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niverzální systém ne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ční syst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á 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to pracují pouze s abstra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binace automatické a intelektuální inde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 automatické indexa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warz, Josef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učasný stav a trendy automatické indexace dokumen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, 2002-2003. Dostupné na: &lt;http://full.nkp.cz/nkdb/docs/studie/MAIobsah.html&gt;. Zde i další lit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ecně tři typy proces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ahová analýza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kladní krok, který předurčuje výsledek celého proce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dentifikace pojm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ýrazně ovlivňuje úplnost a přesnost vyhledá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čnost (hloub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běr selekčních znak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edpoklad: znalost daného selekčního jazyka, znalost obo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76000" y="1628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elekční obraz doku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lita (správ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istence (shod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-indexer consistency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vislá na počtu přidělovaných selekčních znak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ra-indexer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stroje na dosažení kvality a konz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arace zá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uperv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správnost popis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jak provést obsahovou analýzu, jak postupovat při výběru relevantních témat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konzistenci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okyny k výběru selekčních znaků, jejich kombinaci, rozkladu složených pojmů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ěcném zpracování dokumentu je třeba se ptá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 uživatel tuto informaci vyžadova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ne uživatel indexovaný/klasifikovaný dokument v případě, že hledá tém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y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ude pro uživatele indexovaná informace příliš obecná, a není tudíž potřeba použít specifičtějších selekčních znaků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použito příliš mnoho specifických selekčních znaků, které popisují nepodstatná témata a které uživateli znesnadní vyhledat požadovaný dokum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 uživatel z popisu dokumentu, jaký je jeho obsa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indexace/reklasifik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edení nov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ktualizace užívan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ité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měny mají velký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záznamů je omeze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znamy reprezentují „živé“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up reindexace/reklas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olo)automatické proced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190440"/>
            <a:ext cx="6840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ex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95640" y="2349360"/>
            <a:ext cx="664056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pracování přirozeného jazy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ojové zpracování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zované procedury a vyhledávání inform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ybra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lukování (klastr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h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tvorba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7-04-21T18:02:40Z</dcterms:modified>
  <cp:revision>264</cp:revision>
  <dc:subject/>
  <dc:title>Selekční jazyky</dc:title>
</cp:coreProperties>
</file>