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7608-0A3B-4A76-A6B0-5CBC3FEC764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B286-0A65-4B44-87FE-703470EAB217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B472-3614-4BDE-8E2F-DF0093A15C1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F0D2-3055-4663-AAFE-D116E3FDF87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BB0C-593E-41DE-9016-4877847E57D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47C3-37C5-4ADC-B7BB-0C8ACBC832B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8812-5EAC-45B5-B721-B1874D05354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AABF-371F-4B23-9DAD-7A4CB78B5A0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B99D-3FA7-4308-85DA-ECF0558F711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8FF-6858-45DC-BD5A-C640C8DF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FD6-5DCC-4EB1-88D1-059DFEE8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3F3-6433-4AC8-817E-9D53CD7F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391-948D-4FF3-8D63-89BEEF92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2924-8501-4C62-A428-A9C36C58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31C8-07DC-4B5C-8032-3C11F9BD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5561-6E6F-4FBC-986D-D1FDC778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7258-1998-4460-A136-FD431B14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D701-15FA-41A4-BB5D-F735B2E4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E399-96D3-4103-B386-B9866197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182E-34FB-40DA-BE89-93245886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94D-6EAA-4ADC-B269-9F23865E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396A-01A4-4FD3-9A5E-F04C8267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D9D4-AC4A-422B-9DC4-0733C2FC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64B1-7B17-4F88-8691-2CEF43CC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A87A-268B-4476-BA81-D6EDDE6E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F6E4-0289-43E8-9D16-2C760EBA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BAF-8C69-45CC-9DBD-1782E0AC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5C4-CD45-40E9-9304-5C4B4E9D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97F-D484-4BD6-B8B5-2B93AC1D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21E-0BEB-4E74-8017-71BD4B03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AAD-99C7-479F-A2DB-A97E9931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1B9-61BD-4095-B061-352BAE77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8E2-C91C-4637-A994-AD56F0D2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6C3E-931D-454D-BDE5-9C24049211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E486-F1CC-4305-AD66-52B19A51AA2E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karos.cz/soucasny-stav-a-trendy-automaticke-indexace-dokumentu" TargetMode="Externa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komparaceindexace.doc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karos.cz/node/26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5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znalost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1. 4. 2017: Procesy organizace znalostí – obsahová analýza, indexace, klasifikace, automatizované procedury (P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jaro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0560" y="1628640"/>
            <a:ext cx="6705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stupnost plného textu, popř. abstra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cké/intelektuální 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subje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ý objem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j nerozum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e,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ratextová (slova/výrazy, věty, odstavce,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textová (různé tex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tratextová (real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560" y="1773000"/>
            <a:ext cx="67770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problém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y nejsou vyjádřeny explicit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ímé odkazy na jiné části textu nebo tex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 obsahuje nevýznamová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problémy: synonymie, 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znam slov se mění v čase nebo mezi jednotlivými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é tvary slov (míra závisí na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19044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ypy automatické index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920" y="2133360"/>
            <a:ext cx="6785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rakce (extraction indexing) – slovní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líčová slova z text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analýza (identifikace slov a souslov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mat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áž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komparace s řízeným slovník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zování (assignment indexing) – pojmová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áce s plným tex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ročilé statistické a matematickolingvistické metody (pravděpodobnostní mode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zený slovník – simulace intelektuálního proc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95640" y="1844640"/>
            <a:ext cx="66405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Čís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é text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§ 12“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borné termí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MARC21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ení hranice s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čka (zkratky), spojovník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nihovnicko-informační systé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interpunkční znamé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lká/malá písm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66920" y="2923920"/>
            <a:ext cx="6569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ouslo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cky nosnější než jednotli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základ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alizace souslo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uštění pomocných slovních druhů a zanedbání pořadí slo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analýza s použitím kmene (koře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23640" y="1915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0-30 % běž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ky, předložky a další pomocné slo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5784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sloví s předložkovou vazb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knihovny pro nevidom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bez rozlišovac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gativní slovník (slovník nevýznamových slov, slovník stop-slov, stop-slovní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lexikální analýzou a vá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30456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26920" y="2060640"/>
            <a:ext cx="62089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stop-slovní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y slov (spojky, předložky, částice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frekvence slova v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á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i-negativní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23640" y="1773000"/>
            <a:ext cx="67122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goritmické (gramatická pravid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rování afix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ově orient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vník kmenů nebo kořenů a dalších morfologických inform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ovník afixů (sufixů a prefix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etter successor variety stemme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arieta po sobě následujících pís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é dokumenty v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rozliší inflexní a derivační afi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: lemmatizátor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temme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69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y převodů slovních dru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žský životný/ženský tvar substantiv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, autork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ivlastňovací přídavné jméno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čin, autorův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užský tvar subst., 1. pád, singulár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j.: stupňované tva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jkonkrétnějš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vozená substantiva s konc. –ost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ost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ega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konkrétn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íslov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ě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ákl. tvar. adj.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vesa: časování, příč. č. a trp., slovesné jméno podstatné, opakované sloveso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nfinitiv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děla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920" y="1844640"/>
            <a:ext cx="67852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emmatizace se provád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dex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ý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ručních zás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zpracování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ní lemmatizace (deriv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cesy věcného zpraco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a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dání 8. dílčího kroku 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- váže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23640" y="1700280"/>
            <a:ext cx="64753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ůzná důležitost slov pro obsah do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elektivní síla indexačního termínu (výraz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ritéria vážení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az (slovní dru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xt (délka, počet různých termín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výrazu a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výrazu ve specifické části textu (název, abstrakt, první a poslední pasáže apod.) – zohlednění koeficientem při váž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termínu a celé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Vybrané váhové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v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23640" y="2997360"/>
            <a:ext cx="671220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imulace intelektuálního proce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k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ovaný řízený slov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rus, sémantická síť, znalostní 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po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3640" y="2923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stup P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ý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výrazu s relevantními profily pojmů z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ení indexačních termí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oda dokument/ŘS nemusí být určující pro obs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triviální vyjádření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í reprezentace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270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aktické aspek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né tex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účinnost ve srovnání s intelektuální index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náklady – vyšší kv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orový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ysté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niverzální systém ne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ční syst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á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 pracují pouze s abstr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binace automatické a intelektuální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 automatické indexa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warz, Josef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učasný stav a trendy automatické indexace dokumen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, 2002-2003. Dostupné na: &lt;http://full.nkp.cz/nkdb/docs/studie/MAIobsah.html&gt;. Zde i další lit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ecně tři typy proces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ová analýz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kladní krok, který předurčuje výsledek celého proce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dentifikace pojm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ýrazně ovlivňuje úplnost a přesnost vyhledá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čnost (hloub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běr selekčních zna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dpoklad: znalost daného selekčního jazyka, znalost obo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6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lekční obraz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ta (správ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istence (shod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-indexer consistenc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vislá na počtu přidělovaných selekčních znak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ra-indexer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 na dosažení kvality a konz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race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správnost popis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jak provést obsahovou analýzu, jak postupovat při výběru relevantních témat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konzistenc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kyny k výběru selekčních znaků, jejich kombinaci, rozkladu složených pojmů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ěcném zpracování dokumentu je třeba se ptá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 uživatel tuto informaci vyžadov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ne uživatel indexovaný/klasifikovaný dokument v případě, že hledá tém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ude pro uživatele indexovaná informace příliš obecná, a není tudíž potřeba použít specifičtějších selekčních znaků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použito příliš mnoho specifických selekčních znaků, které popisují nepodstatná témata a které uživateli znesnadní vyhledat požadovaný doku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 uživatel z popisu dokumentu, jaký je jeho obsa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indexace/reklasifik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edení nov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tualizace užívan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ité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y mají velký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záznamů je omeze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znamy reprezentují „živé“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up reindexace/reklas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olo)automatické proced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190440"/>
            <a:ext cx="6840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ex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95640" y="2349360"/>
            <a:ext cx="664056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přirozeného jazy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ojové zpracování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zované procedury a vyhled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bra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lukování (klastr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tvorb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7-04-21T18:02:40Z</dcterms:modified>
  <cp:revision>264</cp:revision>
  <dc:subject/>
  <dc:title>Selekční jazyky</dc:title>
</cp:coreProperties>
</file>