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AB4-60EE-4EF4-A1D9-1FC7089D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A0B-76F5-43AF-96BA-9F3C064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D84-77E6-4213-8A80-ACED26CA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90A-85FD-44E2-8526-60E0F98D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BC2-5FA9-4EA4-9464-0AE29F43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B4B-1AF0-41BE-A345-BDF1D5E7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FB3-537B-4816-B3D3-37A2F9A6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685-D20B-4CA6-8C42-047FE59A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9CC-A1A6-4E11-A12E-23CE350A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6EA-B861-4A63-85DA-C0092497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034-FE66-4D36-BC14-70406787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7DD-03A6-4B8F-8213-49F40F2E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3647-4F3B-4F76-9803-88C6014069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tualart.at/database/general/work/archeology-of-a-mother-tongue.html" TargetMode="External"/><Relationship Id="rId2" Type="http://schemas.openxmlformats.org/officeDocument/2006/relationships/hyperlink" Target="http://www.fondation-langlois.org/html/e/page.php?NumPage=226" TargetMode="External"/><Relationship Id="rId3" Type="http://schemas.openxmlformats.org/officeDocument/2006/relationships/hyperlink" Target="http://www.tonidove.com/" TargetMode="External"/><Relationship Id="rId4" Type="http://schemas.openxmlformats.org/officeDocument/2006/relationships/hyperlink" Target="http://www.placelessness.com/project/1159/random-acts-of-memory/" TargetMode="External"/><Relationship Id="rId5" Type="http://schemas.openxmlformats.org/officeDocument/2006/relationships/hyperlink" Target="http://www.virtualart.at/database/general/work/archeology-of-a-mother-tongue.html" TargetMode="External"/><Relationship Id="rId6" Type="http://schemas.openxmlformats.org/officeDocument/2006/relationships/hyperlink" Target="http://www.fondation-langlois.org/html/e/page.php?NumPage=226" TargetMode="External"/><Relationship Id="rId7" Type="http://schemas.openxmlformats.org/officeDocument/2006/relationships/hyperlink" Target="http://www.tonidove.com/" TargetMode="External"/><Relationship Id="rId8" Type="http://schemas.openxmlformats.org/officeDocument/2006/relationships/hyperlink" Target="http://www.placelessness.com/project/1159/random-acts-of-memory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eatreofmemory.blogspot.com/2009/08/giulio-camillo-1480-1544.html" TargetMode="External"/><Relationship Id="rId2" Type="http://schemas.openxmlformats.org/officeDocument/2006/relationships/hyperlink" Target="http://www.amazon.com/Memory-Selected-Works-Frances-Yates/dp/0415606055/ref=sr_1_1?s=books&amp;ie=UTF8&amp;qid=1323168733&amp;sr=1-1#reader_0415606055" TargetMode="External"/><Relationship Id="rId3" Type="http://schemas.openxmlformats.org/officeDocument/2006/relationships/hyperlink" Target="http://books.google.com/books?id=Rs0m6NRwU8IC&amp;printsec=frontcover&amp;hl=cs&amp;source=gbs_ge_summary_r&amp;cad=0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music.com/album/john-buller-proena-the-theatre-of-memory-w110184" TargetMode="External"/><Relationship Id="rId2" Type="http://schemas.openxmlformats.org/officeDocument/2006/relationships/hyperlink" Target="http://www.youtube.com/watch?v=b4a9i58IdIY" TargetMode="External"/><Relationship Id="rId3" Type="http://schemas.openxmlformats.org/officeDocument/2006/relationships/hyperlink" Target="http://www.vasulka.org/Videomasters/pages_stills/index_6.html" TargetMode="External"/><Relationship Id="rId4" Type="http://schemas.openxmlformats.org/officeDocument/2006/relationships/hyperlink" Target="https://www.youtube.com/watch?v=lGOiTd83tD4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memorytheatre.org/index.htm" TargetMode="External"/><Relationship Id="rId2" Type="http://schemas.openxmlformats.org/officeDocument/2006/relationships/hyperlink" Target="http://www.robertedgar.com/" TargetMode="External"/><Relationship Id="rId3" Type="http://schemas.openxmlformats.org/officeDocument/2006/relationships/hyperlink" Target="http://www.robertedgar.com/memory-theatres/" TargetMode="External"/><Relationship Id="rId4" Type="http://schemas.openxmlformats.org/officeDocument/2006/relationships/hyperlink" Target="http://vimeo.com/1021130" TargetMode="External"/><Relationship Id="rId5" Type="http://schemas.openxmlformats.org/officeDocument/2006/relationships/hyperlink" Target="http://on1.zkm.de/zkm/werke/MemoryTheaterVR" TargetMode="External"/><Relationship Id="rId6" Type="http://schemas.openxmlformats.org/officeDocument/2006/relationships/hyperlink" Target="http://www.bewitched.com/apartment.html" TargetMode="External"/><Relationship Id="rId7" Type="http://schemas.openxmlformats.org/officeDocument/2006/relationships/hyperlink" Target="http://www.georgelegrady.com/" TargetMode="External"/><Relationship Id="rId8" Type="http://schemas.openxmlformats.org/officeDocument/2006/relationships/hyperlink" Target="http://www.georgelegrady.com/" TargetMode="External"/><Relationship Id="rId9" Type="http://schemas.openxmlformats.org/officeDocument/2006/relationships/hyperlink" Target="http://www.maska.si/en/?redirect=152" TargetMode="Externa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-ring.net/?page_id=550" TargetMode="External"/><Relationship Id="rId2" Type="http://schemas.openxmlformats.org/officeDocument/2006/relationships/hyperlink" Target="http://www.ffa.vutbr.cz/~qvklimovab/index.php" TargetMode="External"/><Relationship Id="rId3" Type="http://schemas.openxmlformats.org/officeDocument/2006/relationships/hyperlink" Target="http://magazin.aktualne.cz/kultura/umeni/chalupeckeho-cenu-ma-barbora-klimova/r~i:article:28794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.146.8.18/en/archives/festival_archive/festival_overview.asp?iPresentationYearFrom=1996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90.146.8.18/festival1996/www-ars2/index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kac.org/paper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rrNrfucoB0" TargetMode="External"/><Relationship Id="rId2" Type="http://schemas.openxmlformats.org/officeDocument/2006/relationships/hyperlink" Target="http://www.medienkunstnetz.de/works/rehearsal-of-memory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vingimages.de/index.php?type=teaching&amp;txt_id=62&amp;lng=eng" TargetMode="External"/><Relationship Id="rId2" Type="http://schemas.openxmlformats.org/officeDocument/2006/relationships/hyperlink" Target="http://www.ppsdanse.com/" TargetMode="External"/><Relationship Id="rId3" Type="http://schemas.openxmlformats.org/officeDocument/2006/relationships/hyperlink" Target="http://www.ppsdanse.com/strat-en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cinenet.com/script/main/art.asp?articlekey=53957&amp;page=2" TargetMode="External"/><Relationship Id="rId2" Type="http://schemas.openxmlformats.org/officeDocument/2006/relationships/hyperlink" Target="http://contactzones.cit.cornell.edu/artists/neumar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ndomdance.org/" TargetMode="External"/><Relationship Id="rId2" Type="http://schemas.openxmlformats.org/officeDocument/2006/relationships/hyperlink" Target="http://www.randomdance.org/r_research" TargetMode="External"/><Relationship Id="rId3" Type="http://schemas.openxmlformats.org/officeDocument/2006/relationships/hyperlink" Target="http://waynemcgregor.com/productions/undance/" TargetMode="External"/><Relationship Id="rId4" Type="http://schemas.openxmlformats.org/officeDocument/2006/relationships/hyperlink" Target="http://dumbtype.com/" TargetMode="External"/><Relationship Id="rId5" Type="http://schemas.openxmlformats.org/officeDocument/2006/relationships/hyperlink" Target="http://dumbtype.com/works/memorandum" TargetMode="External"/><Relationship Id="rId6" Type="http://schemas.openxmlformats.org/officeDocument/2006/relationships/hyperlink" Target="http://www.youtube.com/watch?v=HbSXbK-EpYY&amp;feature=related" TargetMode="External"/><Relationship Id="rId7" Type="http://schemas.openxmlformats.org/officeDocument/2006/relationships/hyperlink" Target="http://www.youtube.com/watch?v=kZ5uGjjAvNI&amp;feature=related" TargetMode="External"/><Relationship Id="rId8" Type="http://schemas.openxmlformats.org/officeDocument/2006/relationships/hyperlink" Target="http://www.youtube.com/watch?v=HbSXbK-EpYY&amp;feature=related" TargetMode="Externa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stroje interpretace novomediálního díl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čítačová paměť a lidská amné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ulio Camillo (1480-1544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´Idea del Thea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atreofmemory.blogspot.com/2009/08/giulio-camillo-1480-154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es A. Yates (1899-1981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The Art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kázka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azon.com/Memory-Selected-Works-Frances-Yates/dp/0415606055/ref=sr_1_1?s=books&amp;ie=UTF8&amp;qid=1323168733&amp;sr=1-1#reader_0415606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řední strana obálk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34290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řední strana obálky"/>
          <p:cNvPicPr/>
          <p:nvPr/>
        </p:nvPicPr>
        <p:blipFill>
          <a:blip r:embed="rId5"/>
          <a:stretch/>
        </p:blipFill>
        <p:spPr>
          <a:xfrm>
            <a:off x="4343400" y="3276720"/>
            <a:ext cx="17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sovatelé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d Hughes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hakespeare and the Goddess of Complete Be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London : Faber &amp; Faber,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lota Caufield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Book of Giulio Camil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InteliBooks Publishers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tvarní umělci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an Dubuffet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De Memoi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unlimited edition print, 1977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l_fi" descr="dubuffet-jean-theatre-de-memoire-1977"/>
          <p:cNvPicPr/>
          <p:nvPr/>
        </p:nvPicPr>
        <p:blipFill>
          <a:blip r:embed="rId1"/>
          <a:stretch/>
        </p:blipFill>
        <p:spPr>
          <a:xfrm>
            <a:off x="2819520" y="4295880"/>
            <a:ext cx="3124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adatel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hn Buller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enca/Theatre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rah Walker. BBC Symphony Orchestra. Cond. Mark Elder. 2003. B00009W8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music.com/album/john-buller-proena-the-theatre-of-memory-w1101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deo 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ll Vio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of Memor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4a9i58Id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oody Vasulk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98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asulka.org/Videomasters/pages_stills/index_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youtube.com/watch?v=lGOiTd83t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he World Memory Theatr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slava kulturní diversity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memorytheatre.org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ert Edg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0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alš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bertedg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bertedgar.com/memory-theat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imeo.com/1021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gens Hegedü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V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7): ZKM Karlsruhe: Odkaz1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on1.zkm.de/zkm/werke/MemoryTheater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Wattenberg – Marek Walcz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artme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1) net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ewitched.com/apartme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 Anecdoted Archive from the Cold W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1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 I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3 –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il Hrva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ive in Camil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aska.si/en/?redirect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tsuro Nag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: http://www.interactivearchitecture.org/computing-an-identity-tetsuro-naga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niel Libeski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Memory Ma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tp://greg.org/archive/2010/08/28/do_daniel_libeskinds_awesome_machines_mean_i_have_to_stop_hating_his_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ánky věnované Poetice a politice paměti /obsahují odkazy na další díla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politicsofmemory.blogspot.com/2010_10_01_archiv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měť médií a cestování v č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last Theory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 Backwards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 http://www.blasttheory.co.uk/bt/work_10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http://www.blasttheory.co.uk/bt/mov/mov_10_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édia/místa paměti: 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se zdát, že umění paměti dnes již nepotřebujeme. S pomocí různých technických  aparátů neustále zdokonalujeme  techniky zapamatování, které nahrazují (vnitřní) mnemotechnické pomůc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e umění paměti je však pro nás velice důležitá, protože nám ukazuje, jakým způsobem se toto umění vyvíjelo až do současné podoby. Toto umění bychom dnes mohli přejmenovat – z umění paměti na umění myšlen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kontextu nových médií chápaných jako extenze lidské mysli je metafora „míst paměti“ jedním z klíčových způsobů, jak funkce nových médií pochopit a dát jim smysl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xty a projek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7 Years too la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ůzné ver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rformance by Andrea Salzmann and Julia Kläring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th: Julia Kläring, Birgit Michlmayr and Andrea Salzmann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sic: Stefan Gei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alzmann.klingt.org/projects/37years-too-late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rbora Klímová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plac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fa.vutbr.cz/~qvklimovab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gazin.aktualne.cz/kultura/umeni/chalupeckeho-cenu-ma-barbora-klimova/r~i:article:2879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m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s Electronic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996: M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90.146.8.18/en/archives/festival_archive/festival_overview.asp?iPresentationYearFrom=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m: replikující se jednotka kulturní informace (R. Dawk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katalog_1996"/>
          <p:cNvPicPr/>
          <p:nvPr/>
        </p:nvPicPr>
        <p:blipFill>
          <a:blip r:embed="rId2"/>
          <a:stretch/>
        </p:blipFill>
        <p:spPr>
          <a:xfrm>
            <a:off x="990720" y="3429000"/>
            <a:ext cx="3047760" cy="220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estival1996_pro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429000"/>
            <a:ext cx="298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gitální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usíme přiznat, že totiž musí jít jednoznačně o likvidaci minulé tradice. Je možné, že nová síťová kultura přistupuje k tradici úplně jinak – nelikviduje ji, ale rozkládá na jednotlivé elementy a ty potom rozpouští, recykluje a využívá ve své hypertextové struktuře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. Rankov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formačná spoločnosť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006, s. 27-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možností měnit tělo a obraz je spojena také možnost vymazání jejich paměti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. Kac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t at the Biological Fronti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kac.org/pap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stmoderní doba a nostal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á teorie paměti se pohybuje ve dvou extréme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í amnézie současné společ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edlost pamětí a mnemon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scenované vzpomí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isha Brown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omema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OrrNrfucoB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lking Birds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ndercurra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n Harwoo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hearsal of Memory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edienkunstnetz.de/works/rehearsal-of-memo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digitální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matický kolaborativní projek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ellby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vingimages.de/index.php?type=teaching&amp;txt_id=62&amp;lng=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S Danse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psdanse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a, Memoirs of Lover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danse.com/strat-e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rry Hodges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irtual Vietn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inenet.com/script/main/art.asp?articlekey=53957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ie Neumark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hock in the E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actzones.cit.cornell.edu/artists/neuma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ělesná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ieNation.Co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ight Fal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ayne McGregor: Random Danc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andomd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andomdance.org/r_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NDANCE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aynemcgregor.com/productions/unda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ump Typ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emorand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umbtyp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umbtype.com/works/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kZ5uGjjAvNI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9"/>
          <a:stretch/>
        </p:blipFill>
        <p:spPr>
          <a:xfrm>
            <a:off x="6477120" y="1219320"/>
            <a:ext cx="2314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na Horáková</cp:lastModifiedBy>
  <dcterms:modified xsi:type="dcterms:W3CDTF">2016-02-23T16:14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