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00E2-64BC-4CE5-8F63-356F2597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0A2-88F5-45E4-B00A-B16633A1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F3AB-1E25-4BAC-8FA7-814594D1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F58-E6A9-4DA0-A4EF-AE1F32DC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E1E-1386-456A-9A70-8876E44E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E2B3-1288-45AD-985B-B018CB7C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67E-D1C3-4399-9131-C4527303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FF51-1DEE-4CFF-9EF2-08583812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223-A009-4D72-A29D-2D06F211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375-79EF-41AF-AF65-02024908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BA2-ABA9-4B70-90FD-514F0BF9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A700-76F2-44B5-9B89-E3D8D355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66FD-EEA3-4512-8A51-801838BA0AE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rtualart.at/database/general/work/archeology-of-a-mother-tongue.html" TargetMode="External"/><Relationship Id="rId2" Type="http://schemas.openxmlformats.org/officeDocument/2006/relationships/hyperlink" Target="http://www.fondation-langlois.org/html/e/page.php?NumPage=226" TargetMode="External"/><Relationship Id="rId3" Type="http://schemas.openxmlformats.org/officeDocument/2006/relationships/hyperlink" Target="http://www.tonidove.com/" TargetMode="External"/><Relationship Id="rId4" Type="http://schemas.openxmlformats.org/officeDocument/2006/relationships/hyperlink" Target="http://www.placelessness.com/project/1159/random-acts-of-memory/" TargetMode="External"/><Relationship Id="rId5" Type="http://schemas.openxmlformats.org/officeDocument/2006/relationships/hyperlink" Target="http://www.virtualart.at/database/general/work/archeology-of-a-mother-tongue.html" TargetMode="External"/><Relationship Id="rId6" Type="http://schemas.openxmlformats.org/officeDocument/2006/relationships/hyperlink" Target="http://www.fondation-langlois.org/html/e/page.php?NumPage=226" TargetMode="External"/><Relationship Id="rId7" Type="http://schemas.openxmlformats.org/officeDocument/2006/relationships/hyperlink" Target="http://www.tonidove.com/" TargetMode="External"/><Relationship Id="rId8" Type="http://schemas.openxmlformats.org/officeDocument/2006/relationships/hyperlink" Target="http://www.placelessness.com/project/1159/random-acts-of-memory/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heatreofmemory.blogspot.com/2009/08/giulio-camillo-1480-1544.html" TargetMode="External"/><Relationship Id="rId2" Type="http://schemas.openxmlformats.org/officeDocument/2006/relationships/hyperlink" Target="http://www.amazon.com/Memory-Selected-Works-Frances-Yates/dp/0415606055/ref=sr_1_1?s=books&amp;ie=UTF8&amp;qid=1323168733&amp;sr=1-1#reader_0415606055" TargetMode="External"/><Relationship Id="rId3" Type="http://schemas.openxmlformats.org/officeDocument/2006/relationships/hyperlink" Target="http://books.google.com/books?id=Rs0m6NRwU8IC&amp;printsec=frontcover&amp;hl=cs&amp;source=gbs_ge_summary_r&amp;cad=0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music.com/album/john-buller-proena-the-theatre-of-memory-w110184" TargetMode="External"/><Relationship Id="rId2" Type="http://schemas.openxmlformats.org/officeDocument/2006/relationships/hyperlink" Target="http://www.youtube.com/watch?v=b4a9i58IdIY" TargetMode="External"/><Relationship Id="rId3" Type="http://schemas.openxmlformats.org/officeDocument/2006/relationships/hyperlink" Target="http://www.vasulka.org/Videomasters/pages_stills/index_6.html" TargetMode="External"/><Relationship Id="rId4" Type="http://schemas.openxmlformats.org/officeDocument/2006/relationships/hyperlink" Target="https://www.youtube.com/watch?v=lGOiTd83tD4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orldmemorytheatre.org/index.htm" TargetMode="External"/><Relationship Id="rId2" Type="http://schemas.openxmlformats.org/officeDocument/2006/relationships/hyperlink" Target="http://www.robertedgar.com/" TargetMode="External"/><Relationship Id="rId3" Type="http://schemas.openxmlformats.org/officeDocument/2006/relationships/hyperlink" Target="http://www.robertedgar.com/memory-theatres/" TargetMode="External"/><Relationship Id="rId4" Type="http://schemas.openxmlformats.org/officeDocument/2006/relationships/hyperlink" Target="http://vimeo.com/1021130" TargetMode="External"/><Relationship Id="rId5" Type="http://schemas.openxmlformats.org/officeDocument/2006/relationships/hyperlink" Target="http://on1.zkm.de/zkm/werke/MemoryTheaterVR" TargetMode="External"/><Relationship Id="rId6" Type="http://schemas.openxmlformats.org/officeDocument/2006/relationships/hyperlink" Target="http://www.bewitched.com/apartment.html" TargetMode="External"/><Relationship Id="rId7" Type="http://schemas.openxmlformats.org/officeDocument/2006/relationships/hyperlink" Target="http://www.georgelegrady.com/" TargetMode="External"/><Relationship Id="rId8" Type="http://schemas.openxmlformats.org/officeDocument/2006/relationships/hyperlink" Target="http://www.georgelegrady.com/" TargetMode="External"/><Relationship Id="rId9" Type="http://schemas.openxmlformats.org/officeDocument/2006/relationships/hyperlink" Target="http://www.maska.si/en/?redirect=152" TargetMode="External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-ring.net/?page_id=550" TargetMode="External"/><Relationship Id="rId2" Type="http://schemas.openxmlformats.org/officeDocument/2006/relationships/hyperlink" Target="http://www.ffa.vutbr.cz/~qvklimovab/index.php" TargetMode="External"/><Relationship Id="rId3" Type="http://schemas.openxmlformats.org/officeDocument/2006/relationships/hyperlink" Target="http://magazin.aktualne.cz/kultura/umeni/chalupeckeho-cenu-ma-barbora-klimova/r~i:article:287941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90.146.8.18/en/archives/festival_archive/festival_overview.asp?iPresentationYearFrom=1996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90.146.8.18/festival1996/www-ars2/index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kac.org/paper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rrNrfucoB0" TargetMode="External"/><Relationship Id="rId2" Type="http://schemas.openxmlformats.org/officeDocument/2006/relationships/hyperlink" Target="http://www.medienkunstnetz.de/works/rehearsal-of-memory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ovingimages.de/index.php?type=teaching&amp;txt_id=62&amp;lng=eng" TargetMode="External"/><Relationship Id="rId2" Type="http://schemas.openxmlformats.org/officeDocument/2006/relationships/hyperlink" Target="http://www.ppsdanse.com/" TargetMode="External"/><Relationship Id="rId3" Type="http://schemas.openxmlformats.org/officeDocument/2006/relationships/hyperlink" Target="http://www.ppsdanse.com/strat-en.html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edicinenet.com/script/main/art.asp?articlekey=53957&amp;page=2" TargetMode="External"/><Relationship Id="rId2" Type="http://schemas.openxmlformats.org/officeDocument/2006/relationships/hyperlink" Target="http://contactzones.cit.cornell.edu/artists/neumark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ndomdance.org/" TargetMode="External"/><Relationship Id="rId2" Type="http://schemas.openxmlformats.org/officeDocument/2006/relationships/hyperlink" Target="http://www.randomdance.org/r_research" TargetMode="External"/><Relationship Id="rId3" Type="http://schemas.openxmlformats.org/officeDocument/2006/relationships/hyperlink" Target="http://waynemcgregor.com/productions/undance/" TargetMode="External"/><Relationship Id="rId4" Type="http://schemas.openxmlformats.org/officeDocument/2006/relationships/hyperlink" Target="http://dumbtype.com/" TargetMode="External"/><Relationship Id="rId5" Type="http://schemas.openxmlformats.org/officeDocument/2006/relationships/hyperlink" Target="http://dumbtype.com/works/memorandum" TargetMode="External"/><Relationship Id="rId6" Type="http://schemas.openxmlformats.org/officeDocument/2006/relationships/hyperlink" Target="http://www.youtube.com/watch?v=HbSXbK-EpYY&amp;feature=related" TargetMode="External"/><Relationship Id="rId7" Type="http://schemas.openxmlformats.org/officeDocument/2006/relationships/hyperlink" Target="http://www.youtube.com/watch?v=kZ5uGjjAvNI&amp;feature=related" TargetMode="External"/><Relationship Id="rId8" Type="http://schemas.openxmlformats.org/officeDocument/2006/relationships/hyperlink" Target="http://www.youtube.com/watch?v=HbSXbK-EpYY&amp;feature=related" TargetMode="Externa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stroje interpretace novomediálního díl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čítačová paměť a lidská amnéz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ny Do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 Michael MacKenzi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Archeology of Mother Tong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3 (1.VR instalace zahrnující složitý příbě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rtualart.at/database/general/work/archeology-of-a-mother-tongu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ondation-langlois.org/html/e/page.php?NumPage=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3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tonidove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rious.com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andom Acts of Mem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8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lacelessness.com/project/1159/random-acts-of-memor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ny Do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 Michael MacKenzi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Archeology of Mother Tong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3 (1.VR instalace zahrnující složitý příbě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virtualart.at/database/general/work/archeology-of-a-mother-tongu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fondation-langlois.org/html/e/page.php?NumPage=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3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onidove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rious.com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andom Acts of Mem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8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placelessness.com/project/1159/random-acts-of-memor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iulio Camillo (1480-1544) :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L´Idea del Theat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heatreofmemory.blogspot.com/2009/08/giulio-camillo-1480-1544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nces A. Yates (1899-1981) :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The Art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kázka: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mazon.com/Memory-Selected-Works-Frances-Yates/dp/0415606055/ref=sr_1_1?s=books&amp;ie=UTF8&amp;qid=1323168733&amp;sr=1-1#reader_04156060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řední strana obálk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3429000"/>
            <a:ext cx="162576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Přední strana obálky"/>
          <p:cNvPicPr/>
          <p:nvPr/>
        </p:nvPicPr>
        <p:blipFill>
          <a:blip r:embed="rId5"/>
          <a:stretch/>
        </p:blipFill>
        <p:spPr>
          <a:xfrm>
            <a:off x="4343400" y="3276720"/>
            <a:ext cx="17193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isovatelé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d Hughes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hakespeare and the Goddess of Complete Be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London : Faber &amp; Faber, 199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lota Caufield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 Book of Giulio Camill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InteliBooks Publishers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tvarní umělci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an Dubuffet: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atre De Memoir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unlimited edition print, 1977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l_fi" descr="dubuffet-jean-theatre-de-memoire-1977"/>
          <p:cNvPicPr/>
          <p:nvPr/>
        </p:nvPicPr>
        <p:blipFill>
          <a:blip r:embed="rId1"/>
          <a:stretch/>
        </p:blipFill>
        <p:spPr>
          <a:xfrm>
            <a:off x="2819520" y="4295880"/>
            <a:ext cx="31240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kladatel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ohn Buller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oenca/Theatre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200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rah Walker. BBC Symphony Orchestra. Cond. Mark Elder. 2003. B00009W8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llmusic.com/album/john-buller-proena-the-theatre-of-memory-w1101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ideo 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ll Vio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atre of Memory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98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b4a9i58IdI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Woody Vasulka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rt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198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vasulka.org/Videomasters/pages_stills/index_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youtube.com/watch?v=lGOiTd83tD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he World Memory Theatr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Oslava kulturní diversity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orldmemorytheatre.org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bert Edg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emory Theatre 0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dalš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1: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obertedgar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obertedgar.com/memory-theatr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vimeo.com/1021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gens Hegedü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emory Theatre V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97): ZKM Karlsruhe: Odkaz1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on1.zkm.de/zkm/werke/MemoryTheaterV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rtin Wattenberg – Marek Walcz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partmen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001) net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bewitched.com/apartmen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orge Leg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n Anecdoted Archive from the Cold W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9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eorgelegrad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orge Legrad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ckets Full of Memori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2001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ckets Full of Memories I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003 – 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georgelegrad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mil Hrvat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rive in Camill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maska.si/en/?redirect=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tsuro Nag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rt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: http://www.interactivearchitecture.org/computing-an-identity-tetsuro-nagat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niel Libeskin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 Memory Ma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tp://greg.org/archive/2010/08/28/do_daniel_libeskinds_awesome_machines_mean_i_have_to_stop_hating_his_wor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ánky věnované Poetice a politice paměti /obsahují odkazy na další díla/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politicsofmemory.blogspot.com/2010_10_01_archiv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aměť médií a cestování v č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last Theory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 Backwards (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1: http://www.blasttheory.co.uk/bt/work_10backwar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2: http://www.blasttheory.co.uk/bt/mov/mov_10_backwar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édia/místa paměti: záv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se zdát, že umění paměti dnes již nepotřebujeme. S pomocí různých technických  aparátů neustále zdokonalujeme  techniky zapamatování, které nahrazují (vnitřní) mnemotechnické pomůck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e umění paměti je však pro nás velice důležitá, protože nám ukazuje, jakým způsobem se toto umění vyvíjelo až do současné podoby. Toto umění bychom dnes mohli přejmenovat – z umění paměti na umění myšlení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kontextu nových médií chápaných jako extenze lidské mysli je metafora „míst paměti“ jedním z klíčových způsobů, jak funkce nových médií pochopit a dát jim smysl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erformance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xty a projek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37 Years too lat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ůzné ver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erformance by Andrea Salzmann and Julia Kläring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ith: Julia Kläring, Birgit Michlmayr and Andrea Salzmann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usic: Stefan Geiss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alzmann.klingt.org/projects/37years-too-late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arbora Klímová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Replace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fa.vutbr.cz/~qvklimovab/index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gazin.aktualne.cz/kultura/umeni/chalupeckeho-cenu-ma-barbora-klimova/r~i:article:28794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měť a me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s Electronic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996: Mem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90.146.8.18/en/archives/festival_archive/festival_overview.asp?iPresentationYearFrom=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m: replikující se jednotka kulturní informace (R. Dawki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katalog_1996"/>
          <p:cNvPicPr/>
          <p:nvPr/>
        </p:nvPicPr>
        <p:blipFill>
          <a:blip r:embed="rId2"/>
          <a:stretch/>
        </p:blipFill>
        <p:spPr>
          <a:xfrm>
            <a:off x="990720" y="3429000"/>
            <a:ext cx="3047760" cy="2206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festival1996_pro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429000"/>
            <a:ext cx="29815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igitální pam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usíme přiznat, že totiž musí jít jednoznačně o likvidaci minulé tradice. Je možné, že nová síťová kultura přistupuje k tradici úplně jinak – nelikviduje ji, ale rozkládá na jednotlivé elementy a ty potom rozpouští, recykluje a využívá ve své hypertextové struktuře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. Rankov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Informačná spoločnosť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2006, s. 27-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 možností měnit tělo a obraz je spojena také možnost vymazání jejich paměti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. Kac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Art at the Biological Frontie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kac.org/pap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ostmoderní doba a nostal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časná teorie paměti se pohybuje ve dvou extrémec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domí amnézie současné společ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edlost pamětí a mnemonik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Inscenované vzpomí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isha Brown: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Homemad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19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OrrNrfucoB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lking Birds: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Undercurran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han Harwoo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hearsal of Memory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(19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edienkunstnetz.de/works/rehearsal-of-memory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erformance digitální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matický kolaborativní projekt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ellbyte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vingimages.de/index.php?type=teaching&amp;txt_id=62&amp;lng=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PS Danse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psdanse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ta, Memoirs of Lover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psdanse.com/strat-e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měť a tra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rry Hodges: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irtual Vietna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edicinenet.com/script/main/art.asp?articlekey=53957&amp;page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rie Neumark: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hock in the Ea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ntactzones.cit.cornell.edu/artists/neumark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ělesná pam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ieNation.Co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Night Fall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ayne McGregor: Random Dance Compa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andomdance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andomdance.org/r_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NDANCE)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aynemcgregor.com/productions/undanc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ump Typ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Memorandu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9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umbtyp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dumbtype.com/works/memoran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youtube.com/watch?v=HbSXbK-EpYY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youtube.com/watch?v=kZ5uGjjAvNI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youtube.com/watch?v=HbSXbK-EpYY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9"/>
          <a:stretch/>
        </p:blipFill>
        <p:spPr>
          <a:xfrm>
            <a:off x="6477120" y="1219320"/>
            <a:ext cx="23144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na Horáková</cp:lastModifiedBy>
  <dcterms:modified xsi:type="dcterms:W3CDTF">2016-02-23T16:14:3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