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EE24-23A1-4B69-A969-B820A9BE7CD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92B7-D882-4D0E-91AC-0679ACA97C02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CF14-E48B-4E81-BAD1-BB0A01AA5A59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A2C1-DF15-492F-85B5-34F72DFBC450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C4CF-90FB-4A66-980A-E8E241CE88E1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9166-FC2C-49EC-BCF1-6D4E7DEDC0A2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C05F-EDDA-48A0-BE83-4A28EBBB24AF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D2FF-20B6-47AA-A7D0-5599A8F3A15B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E8EA-D872-4ABD-BC1C-0807879B7E29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4B2A-F8C0-4BDB-BF0B-532FC271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B749-EE79-4714-A16B-5E962719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58B1-33F9-4314-AECF-094EC61D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4407-CE93-4D3A-8988-AAE2CB0B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E74B-1BD0-4E04-B817-3C940D42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8CC4-0756-4D73-A7D6-416E8436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1619-D392-4E01-AD98-F9050AFA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D7E4-A15F-4179-8939-D8AF1B9D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1932-E7E2-4D66-9206-FFBD1D1D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3B0F-3241-43BF-884E-C5995283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202D-6455-4129-8A62-8A25F47B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9405-DCB7-4502-8FB9-5DAA1F7C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63FC-D2EC-4A06-A9DA-F47535D8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FD42-6EC0-477A-B1A1-E708E096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5ABD-3741-4316-8A90-489A2C72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BBF0-049F-4C38-8E9C-98C15A43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7E04-8373-4B13-B7EF-4D7D03ED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6A26-EF1A-4837-9443-2C31355D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9109-4594-4790-B396-596C3D8B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9B43-369A-4FD3-AFC3-10B27BF8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8BD1-41B0-4A86-8475-C5437F67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9114-8564-43AD-A88E-C585B976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A22B-65B8-4364-9D6F-36828A47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5C7B-EB41-4B72-9D30-8D5F8DCC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4C81-03E5-4010-A41A-CC2E5025CD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9276-430D-4154-A5EE-9B4F2FDE59AF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karos.cz/soucasny-stav-a-trendy-automaticke-indexace-dokumentu" TargetMode="Externa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komparaceindexace.doc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karos.cz/node/26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MA05</a:t>
            </a:r>
            <a:br>
              <a:rPr sz="16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znalost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0. 4. 2018: Procesy organizace znalostí – obsahová analýza, indexace, klasifikace, automatizované procedury (P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F MU, jaro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050560" y="1628640"/>
            <a:ext cx="6705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ostupnost plného textu, popř. abstrak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utomatické/intelektuální proces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stranění subje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ký objem dokum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oj nerozumí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e, synta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éman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ratextová (slova/výrazy, věty, odstavce, 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rtextová (různé tex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tratextová (reali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50560" y="1773000"/>
            <a:ext cx="67770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problém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jmy nejsou vyjádřeny explicit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přímé odkazy na jiné části textu nebo tex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xt obsahuje nevýznamová sl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zykové problémy: synonymie, homony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znam slov se mění v čase nebo mezi jednotlivými dokume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zné tvary slov (míra závisí na jazy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0560" y="190440"/>
            <a:ext cx="69850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 </a:t>
            </a:r>
            <a:br>
              <a:rPr sz="42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Typy automatické index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0920" y="2133360"/>
            <a:ext cx="678528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trakce (extraction indexing) – slovní indexace 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líčová slova z text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xikální analýza (identifikace slov a souslov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stranění nevýznamových sl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emat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áže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komparace s řízeným slovník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řazování (assignment indexing) – pojmová indexace 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áce s plným tex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kročilé statistické a matematickolingvistické metody (pravděpodobnostní mode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ízený slovník – simulace intelektuálního proce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23640" y="190440"/>
            <a:ext cx="6410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xikální analýz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95640" y="1844640"/>
            <a:ext cx="664056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Čísl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borné text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„§ 12“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odborné termín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„MARC21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rčení hranice slo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čka (zkratky), spojovník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knihovnicko-informační systé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lší interpunkční znamén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elká/malá písm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95640" y="190440"/>
            <a:ext cx="6338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xikální analýz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66920" y="2923920"/>
            <a:ext cx="656928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ouslov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émanticky nosnější než jednotlivá sl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vě základní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tistická identifikace souslo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taktická identifikace souslo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rmalizace souslo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v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puštění pomocných slovních druhů a zanedbání pořadí slož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taktická analýza s použitím kmene (koře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0920" y="190440"/>
            <a:ext cx="64836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nevýznamová slov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23640" y="1915920"/>
            <a:ext cx="671220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Odstranění nevýznamových slo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0-30 % běžnéh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jky, předložky a další pomocné slož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-35784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sloví s předložkovou vazbo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knihovny pro nevidomé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a bez rozlišovací 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gativní slovník (slovník nevýznamových slov, slovník stop-slov, stop-slovní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stranění lexikální analýzou a váž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95280" y="30456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nevýznamová slova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626920" y="2060640"/>
            <a:ext cx="620892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rba stop-slovní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uhy slov (spojky, předložky, částice apo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le frekvence slova v tex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átká sl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ti-negativní slov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mmat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23640" y="1773000"/>
            <a:ext cx="67122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goritmické (gramatická pravid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enerování afix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vníkově orientova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ovník kmenů nebo kořenů a dalších morfologických informa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lovník afixů (sufixů a prefixů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tist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Letter successor variety stemmer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arieta po sobě následujících pís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ové dokumenty v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rozliší inflexní a derivační afi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gram: lemmatizátor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temme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mmat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050920" y="1483920"/>
            <a:ext cx="6948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lady převodů slovních druh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žský životný/ženský tvar substantiv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autor, autorka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přivlastňovací přídavné jméno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autorčin, autorův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užský tvar subst., 1. pád, singulár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auto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j.: stupňované tvary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nejkonkrétnější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odvozená substantiva s konc. –ost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konkrétnost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negace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nekonkrétní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příslovce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konkrétně)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ákl. tvar. adj.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konkrétní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vesa: časování, příč. č. a trp., slovesné jméno podstatné, opakované sloveso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infinitiv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dělat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68360" y="190440"/>
            <a:ext cx="62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mmat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50920" y="1844640"/>
            <a:ext cx="678528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Lemmatizace se provád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index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lý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ost ručních zása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zpracování dot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rzní lemmatizace (deriv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výšení rele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Osnov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ktická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oretická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cesy věcného zpracov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sahová analý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ce a klas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utomatizované proced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adání 8. dílčího kroku 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920" y="190440"/>
            <a:ext cx="64836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- váže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23640" y="1700280"/>
            <a:ext cx="647532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Různá důležitost slov pro obsah dok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elektivní síla indexačního termínu (výrazu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Kritéria vážení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az (slovní dru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xt (délka, počet různých termín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tah výrazu a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e výrazu v 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ístění výrazu ve specifické části textu (název, abstrakt, první a poslední pasáže apod.) – zohlednění koeficientem při váž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tah termínu a celé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e výrazu v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Vybrané váhové 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640" y="190440"/>
            <a:ext cx="6338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I - vst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23640" y="2997360"/>
            <a:ext cx="6712200" cy="31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imulace intelektuálního proces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kl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ledky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dpokl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kturovaný řízený slovn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zarus, sémantická síť, znalostní bá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68360" y="190440"/>
            <a:ext cx="62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I - post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23640" y="2923920"/>
            <a:ext cx="671220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ostup PI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výr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rovnání výrazu s relevantními profily pojmů z řízeného slov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rčení indexačních termí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oblémy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oda dokument/ŘS nemusí být určující pro obs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triviální vyjádření pojmu v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mplicitní reprezentace pojmu v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340000" y="1916280"/>
            <a:ext cx="62704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aktické aspek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né tex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šší účinnost ve srovnání s intelektuální index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šší náklady – vyšší kva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orový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ystém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niverzální systém ne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ční systé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cká o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asto pracují pouze s abstrak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binace automatické a intelektuální index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 automatické indexa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warz, Josef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oučasný stav a trendy automatické indexace dokumen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, 2002-2003. Dostupné na: &lt;http://full.nkp.cz/nkdb/docs/studie/MAIobsah.html&gt;. Zde i další liter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Teoretická čá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76000" y="1773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ecně tři typy procesů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sahová analýza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základní krok, který předurčuje výsledek celého proce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dentifikace pojmů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ýrazně ovlivňuje úplnost a přesnost vyhledává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čnost (hloub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běr selekčních znak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ředpoklad: znalost daného selekčního jazyka, znalost obo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76000" y="1628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elekční obraz dokumen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lita (správ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zistence (shod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-indexer consistency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závislá na počtu přidělovaných selekčních znak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ra-indexer consis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stroje na dosažení kvality a konz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Indexační) pravid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parace zázn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uperv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476000" y="1773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(Indexační) pravid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í zajistit správnost popis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jak provést obsahovou analýzu, jak postupovat při výběru relevantních témat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í zajistit konzistenci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pokyny k výběru selekčních znaků, jejich kombinaci, rozkladu složených pojmů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03280" y="170028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(Indexační) pravid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věcném zpracování dokumentu je třeba se ptá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de uživatel tuto informaci vyžadova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lezne uživatel indexovaný/klasifikovaný dokument v případě, že hledá tém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y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ude pro uživatele indexovaná informace příliš obecná, a není tudíž potřeba použít specifičtějších selekčních znaků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použito příliš mnoho specifických selekčních znaků, které popisují nepodstatná témata a které uživateli znesnadní vyhledat požadovaný dokume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ná uživatel z popisu dokumentu, jaký je jeho obsa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403280" y="170028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indexace/reklasifik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vedení nového selekčního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ktualizace užívaného selekčního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ité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měny mají velký roz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et záznamů je omeze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znamy reprezentují „živé“ dokume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up reindexace/reklas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Polo)automatické proced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Přík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190440"/>
            <a:ext cx="6840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</a:t>
            </a:r>
            <a:br>
              <a:rPr sz="42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ex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95640" y="2349360"/>
            <a:ext cx="664056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pracování přirozeného jazy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ojové zpracování tex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utomatizované procedury a vyhledávání informa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yp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ybra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á index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á klas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lukování (klastr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trah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á tvorba řízeného slov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cp:lastPrinted>2018-04-20T07:06:51Z</cp:lastPrinted>
  <dcterms:modified xsi:type="dcterms:W3CDTF">2018-04-21T06:01:55Z</dcterms:modified>
  <cp:revision>266</cp:revision>
  <dc:subject/>
  <dc:title>Selekční jazyky</dc:title>
</cp:coreProperties>
</file>