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E2BB-48A2-4EA5-ABFE-CF84239C004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8CB9-F8C1-42DC-98AA-5AE31060C096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A590-2A5E-41BC-AE7D-DA8C95270F03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DC95-7FE3-4352-A465-BEA38600EFEE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6E5D-7202-4AC5-81E9-26959E76FBE4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B634-0DE2-493A-8057-A2AB60D08202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B3A0-FFB3-4358-8EA4-9C84689F4FBA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188F-6F83-4786-9F07-223AFAF7B6B3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99A9-526B-4A94-BACA-B8EFB6A8ABC1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92E-8577-454A-8CA1-DB43DE07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D03-66B2-4C7F-9F02-0DFCCE31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4AD-0483-4E7C-97EB-EA3B3653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34E-65CB-4800-9127-16915461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EFAE-ED2C-4C83-8EAD-332DCE84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9656-0E74-4558-A5E1-912E5CA5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3CEE-0600-48A3-94FF-F60B7D30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6A28-5F88-4C2F-841E-CEED0961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70BF-D055-453A-9867-7BAF24C6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6822-FD65-4118-B5D1-A841F8D9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A51B-30C9-4CE0-9398-5EA456EE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3E6-4663-4280-8FBA-997708EC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2B40-77A1-4D13-81C2-6C30234E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66FF-B64E-4184-BE3E-2DB231AD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147A-9718-410A-9D46-051A60B2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81A0-810C-479C-AE84-E1CD88A9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892C-E69D-4F25-BE9E-A724B285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7D70-A193-46BC-BA7C-C145FCB8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6C7A-215A-42C1-A60F-11E61539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813-181A-4F2C-838C-B9BF3990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8FA9-9FE4-409F-8227-6175AA46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7D1-FD2F-48CD-B156-B0138B76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03DC-65F7-4A24-B8C4-2EDF0452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A0D-2773-40AF-ADD8-DA90F005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277B-9931-4F68-B16C-61C34F9ED1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808D-A85C-4006-8E84-789849B4358C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karos.cz/soucasny-stav-a-trendy-automaticke-indexace-dokumentu" TargetMode="Externa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komparaceindexace.doc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karos.cz/node/26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MA05</a:t>
            </a:r>
            <a:br>
              <a:rPr sz="16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znalost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0. 4. 2018: Procesy organizace znalostí – obsahová analýza, indexace, klasifikace, automatizované procedury (P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F MU, jaro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0560" y="1628640"/>
            <a:ext cx="6705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stupnost plného textu, popř. abstrak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cké/intelektuální proc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subje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ký objem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oj nerozumí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e, synt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ratextová (slova/výrazy, věty, odstavce,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textová (různé tex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tratextová (real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0560" y="1773000"/>
            <a:ext cx="67770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problém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my nejsou vyjádřeny explicit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ímé odkazy na jiné části textu nebo tex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xt obsahuje nevýznamová sl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zykové problémy: synonymie, hom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znam slov se mění v čase nebo mezi jednotlivými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é tvary slov (míra závisí na jaz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190440"/>
            <a:ext cx="6985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Typy automatické index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0920" y="2133360"/>
            <a:ext cx="6785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trakce (extraction indexing) – slovní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líčová slova z text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analýza (identifikace slov a souslov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emat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áž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komparace s řízeným slovník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řazování (assignment indexing) – pojmová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áce s plným tex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kročilé statistické a matematickolingvistické metody (pravděpodobnostní mode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zený slovník – simulace intelektuálního proce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23640" y="190440"/>
            <a:ext cx="6410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95640" y="1844640"/>
            <a:ext cx="664056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Čísl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é text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§ 12“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borné termín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MARC21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rčení hranice s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čka (zkratky), spojovník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knihovnicko-informační systé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lší interpunkční znamé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elká/malá písm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66920" y="2923920"/>
            <a:ext cx="6569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ouslov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cky nosnější než jednotlivá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základ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rmalizace souslo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uštění pomocných slovních druhů a zanedbání pořadí slož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analýza s použitím kmene (koře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23640" y="1915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0-30 % běž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jky, předložky a další pomocné slož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35784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sloví s předložkovou vazb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knihovny pro nevidom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 bez rozlišovací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gativní slovník (slovník nevýznamových slov, slovník stop-slov, stop-slovní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lexikální analýzou a váž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95280" y="30456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626920" y="2060640"/>
            <a:ext cx="620892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stop-slovní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uhy slov (spojky, předložky, částice apo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le frekvence slova v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tká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ti-negativní slov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23640" y="1773000"/>
            <a:ext cx="67122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goritmické (gramatická pravid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enerování afix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ově orient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vník kmenů nebo kořenů a dalších morfologických inform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ovník afixů (sufixů a prefix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etter successor variety stemmer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arieta po sobě následujících pís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vé dokumenty v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rozliší inflexní a derivační afi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gram: lemmatizátor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temme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0920" y="1483920"/>
            <a:ext cx="694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y převodů slovních druh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žský životný/ženský tvar substantiv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, autorka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ivlastňovací přídavné jméno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čin, autorův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užský tvar subst., 1. pád, singulár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j.: stupňované tvary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jkonkrétnějš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vozená substantiva s konc. –ost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ost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nega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konkrétn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íslov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ě)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ákl. tvar. adj.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í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vesa: časování, příč. č. a trp., slovesné jméno podstatné, opakované sloveso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infinitiv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děla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0920" y="1844640"/>
            <a:ext cx="678528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Lemmatizace se provád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index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ý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ručních zás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zpracování dot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rzní lemmatizace (deriv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ýšení rele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sn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k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cesy věcného zpracov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 a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dání 8. dílčího kroku 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- váže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23640" y="1700280"/>
            <a:ext cx="647532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Různá důležitost slov pro obsah do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elektivní síla indexačního termínu (výraz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Kritéria vážení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az (slovní dru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xt (délka, počet různých termín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výrazu a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stění výrazu ve specifické části textu (název, abstrakt, první a poslední pasáže apod.) – zohlednění koeficientem při váž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termínu a celé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Vybrané váhové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v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23640" y="2997360"/>
            <a:ext cx="6712200" cy="31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imulace intelektuálního proces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ledky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o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ovaný řízený slov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zarus, sémantická síť, znalostní 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po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23640" y="2923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ostup PI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ýr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ovnání výrazu s relevantními profily pojmů z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rčení indexačních termí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oblém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oda dokument/ŘS nemusí být určující pro obs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triviální vyjádření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icitní reprezentace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270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aktické aspek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né tex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účinnost ve srovnání s intelektuální index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náklady – vyšší kv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orový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ystém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niverzální systém ne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ční syst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á 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to pracují pouze s abstra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binace automatické a intelektuální index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 automatické indexa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warz, Josef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učasný stav a trendy automatické indexace dokumen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, 2002-2003. Dostupné na: &lt;http://full.nkp.cz/nkdb/docs/studie/MAIobsah.html&gt;. Zde i další lite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ecně tři typy proces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ahová analýza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kladní krok, který předurčuje výsledek celého proce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dentifikace pojmů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ýrazně ovlivňuje úplnost a přesnost vyhledá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čnost (hloub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běr selekčních znak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ředpoklad: znalost daného selekčního jazyka, znalost obo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76000" y="1628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elekční obraz doku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lita (správ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istence (shod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-indexer consistency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vislá na počtu přidělovaných selekčních znak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ra-indexer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stroje na dosažení kvality a konz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arace zá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uperv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správnost popis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jak provést obsahovou analýzu, jak postupovat při výběru relevantních témat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konzistenci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okyny k výběru selekčních znaků, jejich kombinaci, rozkladu složených pojmů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ěcném zpracování dokumentu je třeba se ptá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 uživatel tuto informaci vyžadova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lezne uživatel indexovaný/klasifikovaný dokument v případě, že hledá tém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y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ude pro uživatele indexovaná informace příliš obecná, a není tudíž potřeba použít specifičtějších selekčních znaků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použito příliš mnoho specifických selekčních znaků, které popisují nepodstatná témata a které uživateli znesnadní vyhledat požadovaný dokum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 uživatel z popisu dokumentu, jaký je jeho obsa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indexace/reklasifik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edení nov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ktualizace užívan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ité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měny mají velký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záznamů je omeze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znamy reprezentují „živé“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up reindexace/reklas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olo)automatické proced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190440"/>
            <a:ext cx="6840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ex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95640" y="2349360"/>
            <a:ext cx="664056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pracování přirozeného jazy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ojové zpracování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zované procedury a vyhledávání inform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ybra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lukování (klastr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trah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tvorba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8-04-20T07:06:51Z</cp:lastPrinted>
  <dcterms:modified xsi:type="dcterms:W3CDTF">2018-04-21T06:01:55Z</dcterms:modified>
  <cp:revision>266</cp:revision>
  <dc:subject/>
  <dc:title>Selekční jazyky</dc:title>
</cp:coreProperties>
</file>