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902040" y="-360"/>
            <a:ext cx="2984400" cy="50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4B727-6EE8-4AA4-B9F8-25AFF4E020DB}" type="slidenum"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5C4-886A-4BEA-B15A-B5C1510A867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16470-43DA-4599-A757-1CD0B3468868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B5584-06ED-42FF-B475-39F5B20F0A1A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9A44D-4547-46EC-88D3-4F39C79C5881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CA5B5-79FD-4564-A5AD-661D9D634D89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09364-5523-45D2-81EE-FA7558A320C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8359C-8259-4421-B53C-765CBAD74564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938160" y="750960"/>
            <a:ext cx="5011920" cy="375912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9040" y="4759200"/>
            <a:ext cx="5510160" cy="45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Zástupný symbol pro číslo snímku 3"/>
          <p:cNvSpPr/>
          <p:nvPr/>
        </p:nvSpPr>
        <p:spPr>
          <a:xfrm>
            <a:off x="3902040" y="9516960"/>
            <a:ext cx="29844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CF626-1A77-42F3-9092-CE6C6CD46277}" type="slidenum">
              <a:rPr b="0" lang="cs-CZ" sz="12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9D55-28FD-44CA-9572-C497B252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D0A8F-1852-4B23-95EF-E48FA9D5D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4323-E979-405C-9763-ABFCE376F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47A13-C29F-4A54-AD2F-E0E7E9717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DBD98-E40A-466C-9C6D-271ADB8BE1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46B6C-CA47-462B-A8C2-ECD17657A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A5396B-03D9-4466-AA77-75CBB0A9D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11F0C-0620-413F-BEBA-D0A35D8BD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B3FF1-249E-4E79-BC42-860E7CFFA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C8A42-074F-4724-8CC1-147B1B65D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995E6-A020-4833-9440-BEE5EE97C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6583-BCF4-4C5F-9314-E4907A266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EB70-C72B-47B2-A8D4-DE41318B4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C5053-6C5B-4D6B-B8C6-B6043B7AD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36AA68-87F2-4680-9A02-59FA7E35B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E5EBB-D1AA-411F-B6EB-1BCD93F3A8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E783A-F36B-4785-9B32-3B24B5258A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1FC09-C3D1-4F17-9429-13C6A7E82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09744-D8E0-4213-B2C7-7272968FB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0BDE-A488-4C3F-8CE0-88A1BE34B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AD75A-105F-4695-AD79-AF660AC78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10C26-9E52-40E6-892D-24D77253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E321-6643-4666-B08F-9A1BB7A85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E07C3-18CD-4733-BFA5-56F5208A7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DF10-2A95-48C4-BDBD-6EA36BD8DF3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EB4749-563B-48BD-885D-DA49E1A19D8C}" type="slidenum">
              <a:rPr b="0" lang="cs-CZ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126172@mail.muni.cz" TargetMode="External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ikaros.cz/soucasny-stav-a-trendy-automaticke-indexace-dokumentu" TargetMode="External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komparaceindexace.docx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ikaros.cz/node/263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0560" y="1371600"/>
            <a:ext cx="709308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VIKMA05</a:t>
            </a:r>
            <a:br>
              <a:rPr sz="1600"/>
            </a:br>
            <a:r>
              <a:rPr b="1" lang="cs-CZ" sz="4400" spc="-1" strike="noStrike">
                <a:solidFill>
                  <a:srgbClr val="000000"/>
                </a:solidFill>
                <a:latin typeface="Arial"/>
              </a:rPr>
              <a:t>Organizace znalost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133360" y="3733920"/>
            <a:ext cx="6476760" cy="27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12. 4. 2019: Procesy organizace znalostí – obsahová analýza, indexace, klasifikace, automatizované procedury (P8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FF MU, jaro 201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gr. Josef Schwar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126172@mail.muni.cz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050560" y="1628640"/>
            <a:ext cx="670572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dostupnost plného textu, popř. abstrak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cké/intelektuální procesy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subjektiv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elký objem dokument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evýhody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lnSpc>
                <a:spcPct val="90000"/>
              </a:lnSpc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troj nerozumí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orfologie, syntax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-20772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k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ratextová (slova/výrazy, věty, odstavce, tex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tertextová (různé tex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-2077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extratextová (realit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55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72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11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" dur="500"/>
                                        <p:tgtEl>
                                          <p:spTgt spid="1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1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1" dur="500"/>
                                        <p:tgtEl>
                                          <p:spTgt spid="1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11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" dur="500"/>
                                        <p:tgtEl>
                                          <p:spTgt spid="1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11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" dur="5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6" dur="500"/>
                                        <p:tgtEl>
                                          <p:spTgt spid="11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11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" dur="500"/>
                                        <p:tgtEl>
                                          <p:spTgt spid="11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979640" y="190440"/>
            <a:ext cx="6554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Předpoklad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050560" y="1773000"/>
            <a:ext cx="6777000" cy="367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lvl="1" marL="683280" indent="-2628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Hlavní problém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jmy nejsou vyjádřeny explicitn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epřímé odkazy na jiné části textu nebo tex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xt obsahuje nevýznamová slo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azykové problémy: synonymie, homonym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Význam slov se mění v čase nebo mezi jednotlivými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-2102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ůzné tvary slov (míra závisí na jazy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472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5156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89252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2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5" dur="5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8" dur="5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1" dur="5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7" dur="500"/>
                                        <p:tgtEl>
                                          <p:spTgt spid="1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0560" y="190440"/>
            <a:ext cx="69850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 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Typy automatické indexac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050920" y="2133360"/>
            <a:ext cx="6785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3000"/>
          </a:bodyPr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xtrakce (extraction indexing) – slovní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S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klíčová slova z textu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99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lexikální analýza (identifikace slov a souslov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ematiz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áže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komparace s řízeným slovníke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řazování (assignment indexing) – pojmová indexace (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PI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80000"/>
              </a:lnSpc>
              <a:spcBef>
                <a:spcPts val="6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práce s plným texte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pokročilé statistické a matematickolingvistické metody (pravděpodobnostní model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28040" indent="-189720">
              <a:lnSpc>
                <a:spcPct val="8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řízený slovník – simulace intelektuálního proces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123640" y="190440"/>
            <a:ext cx="6410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195640" y="1844640"/>
            <a:ext cx="664056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Čísli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dborné text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§ 12“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borné termíny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„MARC21“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Určení hranice slov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eze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čka (zkratky), spojovník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(knihovnicko-informační systé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01560" indent="-231480">
              <a:lnSpc>
                <a:spcPct val="90000"/>
              </a:lnSpc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lší interpunkční znamén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Velká/malá písmen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xikální analýz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66920" y="2923920"/>
            <a:ext cx="656928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ouslov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émanticky nosnější než jednotlivá slo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Dvě základní 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identifikace souslov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ormalizace souslo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puštění pomocných slovních druhů a zanedbání pořadí slože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40040" indent="-20772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ntaktická analýza s použitím kmene (kořen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123640" y="1915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Odstranění nevýznamových slov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20-30 % běžného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pojky, předložky a další pomocné složk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217520" indent="-35784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sloví s předložkovou vazbou </a:t>
            </a: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(knihovny pro nevidomé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lova bez rozlišovací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1480" indent="-50148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Řešení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gativní slovník (slovník nevýznamových slov, slovník stop-slov, stop-slovní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-429480">
              <a:spcBef>
                <a:spcPts val="499"/>
              </a:spcBef>
              <a:buClr>
                <a:srgbClr val="99cccc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dstranění lexikální analýzou a vážení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5932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95280" y="304560"/>
            <a:ext cx="6624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nevýznamová slova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626920" y="2060640"/>
            <a:ext cx="6208920" cy="305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vorba stop-slovník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ruhy slov (spojky, předložky, částice apod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dle frekvence slova v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átká sl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nti-negativní slovní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123640" y="1773000"/>
            <a:ext cx="67122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Met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lgoritmické (gramatická pravidl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Generování afixů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lovníkově orientova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lovník kmenů nebo kořenů a dalších morfologických informac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lovník afixů (sufixů a prefixů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tatistick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lnSpc>
                <a:spcPct val="90000"/>
              </a:lnSpc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600" spc="-1" strike="noStrike">
                <a:solidFill>
                  <a:srgbClr val="000000"/>
                </a:solidFill>
                <a:latin typeface="Arial"/>
              </a:rPr>
              <a:t>Letter successor variety stemmer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arieta po sobě následujících písmen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ové dokumenty v d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5920" indent="-196560">
              <a:lnSpc>
                <a:spcPct val="90000"/>
              </a:lnSpc>
              <a:spcBef>
                <a:spcPts val="400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Nerozliší inflexní a derivační afix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Program: lemmatizátor (</a:t>
            </a:r>
            <a:r>
              <a:rPr b="0" i="1" lang="cs-CZ" sz="2000" spc="-1" strike="noStrike">
                <a:solidFill>
                  <a:srgbClr val="000000"/>
                </a:solidFill>
                <a:latin typeface="Arial"/>
              </a:rPr>
              <a:t>stemmer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050560" y="304560"/>
            <a:ext cx="67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050920" y="1483920"/>
            <a:ext cx="694872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íklady převodů slovních druh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užský životný/ženský tvar substantiva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, autorka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ivlastňovací přídavné jméno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čin, autorův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mužský tvar subst., 1. pád, singulár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autor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Adj.: stupňované tvary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jkonkrétnějš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odvozená substantiva s konc. –ost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ost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nega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nekonkrétní)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, příslovce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ě)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zákl. tvar. adj.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konkrétní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623880" indent="-239760">
              <a:lnSpc>
                <a:spcPct val="90000"/>
              </a:lnSpc>
              <a:spcBef>
                <a:spcPts val="374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lovesa: časování, příč. č. a trp., slovesné jméno podstatné, opakované sloveso </a:t>
            </a:r>
            <a:r>
              <a:rPr b="0" lang="cs-CZ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 infinitiv </a:t>
            </a:r>
            <a:r>
              <a:rPr b="0" i="1" lang="cs-CZ" sz="1500" spc="-1" strike="noStrike">
                <a:solidFill>
                  <a:srgbClr val="000000"/>
                </a:solidFill>
                <a:latin typeface="Arial"/>
              </a:rPr>
              <a:t>(dělat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– lemmatizac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050920" y="1844640"/>
            <a:ext cx="6785280" cy="32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Lemmatizace se provádí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indexa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alý ind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Nutnost ručních zásah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i zpracování dotaz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verzní lemmatizace (deriva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výšení relev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Osnov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ak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cesy věcného zpracování dokument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Obsahová analý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ndexace a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Arial"/>
              </a:rPr>
              <a:t>Zadání 8. dílčího kroku D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920" y="190440"/>
            <a:ext cx="648360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SI - vážení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2123640" y="1700280"/>
            <a:ext cx="6475320" cy="33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Různá důležitost slov pro obsah dok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elektivní síla indexačního termínu (výrazu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Kritéria vážení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ýraz (slovní druh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Text (délka, počet různých termínů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výrazu a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tex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místění výrazu ve specifické části textu (název, abstrakt, první a poslední pasáže apod.) – zohlednění koeficientem při váž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Vztah termínu a celé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rekvence výrazu v d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Vybrané váhové fu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195640" y="190440"/>
            <a:ext cx="63388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v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123640" y="2997360"/>
            <a:ext cx="6712200" cy="31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imulace intelektuálního proces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á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sledky S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lný tex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Předpoklad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1440" indent="-2426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ukturovaný řízený slovní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71280" indent="-19404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Tezarus, sémantická síť, znalostní bá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68360" y="190440"/>
            <a:ext cx="626616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PI - postup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123640" y="2923920"/>
            <a:ext cx="6712200" cy="31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ostup PI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dentifikace výraz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rovnání výrazu s relevantními profily pojmů z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Určení indexačních termín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oblémy: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oda dokument/ŘS nemusí být určující pro obsa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Netriviální vyjádření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Implicitní reprezentace pojmu v tex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 </a:t>
            </a: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Hodnocen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340000" y="1916280"/>
            <a:ext cx="6270480" cy="407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praktické aspekt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lné tex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účinnost ve srovnání s intelektuální indexac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yšší náklady – vyšší kvali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oborový I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75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300" spc="-1" strike="noStrike">
                <a:solidFill>
                  <a:srgbClr val="000000"/>
                </a:solidFill>
                <a:latin typeface="Arial"/>
              </a:rPr>
              <a:t>systémy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univerzální systém neexistu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funkční systém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pecifická obla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často pracují pouze s abstrak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33666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kombinace automatické a intelektuální index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4" dur="5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7" dur="5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0" dur="5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3" dur="5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1" dur="5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0" dur="500"/>
                                        <p:tgtEl>
                                          <p:spTgt spid="1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3" dur="500"/>
                                        <p:tgtEl>
                                          <p:spTgt spid="1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06" dur="500"/>
                                        <p:tgtEl>
                                          <p:spTgt spid="1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Literatura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K automatické indexac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chwarz, Josef. </a:t>
            </a:r>
            <a:r>
              <a:rPr b="0" i="1" lang="cs-CZ" sz="2400" spc="-1" strike="noStrike">
                <a:solidFill>
                  <a:srgbClr val="000000"/>
                </a:solidFill>
                <a:latin typeface="Arial"/>
              </a:rPr>
              <a:t>Současný stav a trendy automatické indexace dokumentů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. Praha, 2002-2003. Dostupné na: &lt;http://full.nkp.cz/nkdb/docs/studie/MAIobsah.html&gt;. Zde i další literatur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2133360" y="3733560"/>
            <a:ext cx="64767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Arial"/>
              </a:rPr>
              <a:t>Teoretická čás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Obecně tři typy procesů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Obsahová analýza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kladní krok, který předurčuje výsledek celého procesu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Identifikace pojmů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výrazně ovlivňuje úplnost a přesnost vyhledávání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pecifičnost (hloubk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Úplno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ýběr selekčních znaků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předpoklad: znalost daného selekčního jazyka, znalost oboru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76000" y="162864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Selekční obraz dokument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valita (správ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onzistence (shodno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er-indexer consistency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(závislá na počtu přidělovaných selekčních znaků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tra-indexer consist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ástroje na dosažení kvality a konzist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parace záznam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82800" indent="-196560">
              <a:spcBef>
                <a:spcPts val="400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Superv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spcBef>
                <a:spcPts val="400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spcBef>
                <a:spcPts val="4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1476000" y="177336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správnost popisu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jak provést obsahovou analýzu, jak postupovat při výběru relevantních témat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mají zajistit konzistenci </a:t>
            </a: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(pokyny k výběru selekčních znaků, jejich kombinaci, rozkladu složených pojmů apod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(Indexační) pravidl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ři věcném zpracování dokumentu je třeba se ptát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Bude uživatel tuto informaci vyžadova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lezne uživatel indexovaný/klasifikovaný dokument v případě, že hledá téma 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xyz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bude pro uživatele indexovaná informace příliš obecná, a není tudíž potřeba použít specifičtějších selekčních znaků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ení použito příliš mnoho specifických selekčních znaků, které popisují nepodstatná témata a které uživateli znesnadní vyhledat požadovaný dokument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zná uživatel z popisu dokumentu, jaký je jeho obsa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t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Arial"/>
              </a:rPr>
              <a:t>Procesy věcného zpracování (indexace, klasifikace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1403280" y="1700280"/>
            <a:ext cx="7561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263880" indent="-2638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Reindexace/reklasifika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ův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avedení nov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ktualizace užívaného selekčního jazyk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rité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měny mají velký rozs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očet záznamů je omezen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áznamy reprezentují „živé“ dokumen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ostup reindexace/reklasifik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2040" indent="-21996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(Polo)automatické procedu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879840" indent="-175680">
              <a:spcBef>
                <a:spcPts val="60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6666"/>
                </a:solidFill>
                <a:uFillTx/>
                <a:latin typeface="Arial"/>
                <a:hlinkClick r:id="rId1"/>
              </a:rPr>
              <a:t>Příkl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24000" y="190440"/>
            <a:ext cx="68407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00"/>
                </a:solidFill>
                <a:latin typeface="Arial"/>
              </a:rPr>
              <a:t>Automatizované procedury</a:t>
            </a:r>
            <a:br>
              <a:rPr sz="4200"/>
            </a:br>
            <a:r>
              <a:rPr b="0" lang="cs-CZ" sz="3600" spc="-1" strike="noStrike">
                <a:solidFill>
                  <a:srgbClr val="000000"/>
                </a:solidFill>
                <a:latin typeface="Arial"/>
              </a:rPr>
              <a:t>Kontex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195640" y="2349360"/>
            <a:ext cx="6640560" cy="31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Zpracování přirozeného jazyk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70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strojové zpracování tex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Automatizované procedury a vyhledávání informací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43360" indent="-243360">
              <a:spcBef>
                <a:spcPts val="4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Arial"/>
              </a:rPr>
              <a:t>Typy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ybrané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index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klasifik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shlukování (klastrová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bstrah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27400" indent="-20268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</a:rPr>
              <a:t>automatická tvorba řízeného slovník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cp:lastPrinted>2018-04-20T07:06:51Z</cp:lastPrinted>
  <dcterms:modified xsi:type="dcterms:W3CDTF">2019-04-13T07:54:12Z</dcterms:modified>
  <cp:revision>267</cp:revision>
  <dc:subject/>
  <dc:title>Selekční jazyky</dc:title>
</cp:coreProperties>
</file>