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9561-0F91-481D-AE4A-BA6B84285CE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A7D3-B454-49FC-B344-396CA1566F6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537C-C2E6-4DDB-A01D-99D7397B0CC2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6DB4-39E5-4C4D-9C78-98BF0C95BD1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724B-3AE1-460E-A5F2-4BBDE5A1184D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C5D4-D184-4ECB-9435-49BFCFFADC7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4923-1620-4D60-BF8F-A0239570EC8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2933-B58F-47FD-BF5F-5BA569B7084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91DB-FA89-4B8E-8987-33963870FE9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B6B3-EF7F-4E7F-B0C2-78A5EF4D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0296-E173-4F5C-9C28-5DF9F861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079-FCEE-4B12-A79A-288F7A15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8C4-7CB2-44A8-85D2-5DC6ECE1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588C-D6FF-418B-87B6-A3D6A1C6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4D47-72A0-4450-A21C-70D71FBE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A057-4661-4CCB-A10D-C8D81B05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1F69-2B68-4797-8D09-8CD50AF6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6152-4A31-4B3E-B703-57ADA5A3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4A7F-D291-4C80-9B97-9A2719C2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8E06-9284-4980-BE00-F9BF59A4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CBD-B41F-46FA-83E1-FFC8D642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D71B-61B3-44CD-832C-F3764498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F058-3D8F-455D-8929-01023EF6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4E6C-0465-4865-AD26-6F4FCFA8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0564-5ABC-42F0-B7ED-7F39BBE2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3D49-1357-4D9B-B2B1-068AA40A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B6E-A815-4C0B-9C8A-4261B938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79F1-AA9C-4B43-AC83-58F9D5D5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40D-10A1-4398-9C5A-8593D905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EBB-4CA3-470A-9EF6-0B241852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DEA-6A87-42A8-A0D7-757DC6DB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66AD-4CE1-48D0-9A64-16C436B9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591-5057-45E1-8E90-23B47F1E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D794-E484-4629-9D2F-C01173BF13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8588-675B-4704-8A8E-DB533E539A88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karos.cz/soucasny-stav-a-trendy-automaticke-indexace-dokumentu" TargetMode="Externa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komparaceindexace.doc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karos.cz/node/26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2. 4. 2019: Procesy organizace znalostí – obsahová analýza, indexace, klasifikace, automatizované procedury (P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jaro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1628640"/>
            <a:ext cx="6705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stupnost plného textu, popř. abstra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cké/intelektuální 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subje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ý objem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j nerozum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,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ratextová (slova/výrazy, věty, odstavce,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textová (různé tex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tratextová (real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560" y="1773000"/>
            <a:ext cx="67770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roblé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 nejsou vyjádřeny explicit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ímé odkazy na jiné části textu nebo tex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 obsahuje nevýznamová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problémy: synonymie, 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znam slov se mění v čase nebo mezi jednotlivými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é tvary slov (míra závisí na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19044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ypy automatické index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2133360"/>
            <a:ext cx="6785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rakce (extraction indexing) – slovní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líčová slova z text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analýza (identifikace slov a souslov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mat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áž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komparace s řízeným slovník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zování (assignment indexing) – pojmová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áce s plným tex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ročilé statistické a matematickolingvistické metody (pravděpodobnostní mode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zený slovník – simulace intelektuálního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95640" y="1844640"/>
            <a:ext cx="66405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ís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é text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§ 12“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borné termí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MARC21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ení hranice s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čka (zkratky), spojovník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nihovnicko-informační 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interpunkční znamé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lká/malá pís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66920" y="2923920"/>
            <a:ext cx="6569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ouslo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cky nosnější než jednotli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základ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alizace souslo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uštění pomocných slovních druhů a zanedbání pořadí slo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analýza s použitím kmene (koře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23640" y="1915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-30 % běž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ky, předložky a další pomocné slo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5784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sloví s předložkovou vazb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knihovny pro nevidom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bez rozlišovac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gativní slovník (slovník nevýznamových slov, slovník stop-slov, stop-slovní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lexikální analýzou a vá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30456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26920" y="2060640"/>
            <a:ext cx="62089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stop-slovní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y slov (spojky, předložky, částice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frekvence slova v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á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-negativní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23640" y="1773000"/>
            <a:ext cx="67122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goritmické (gramatická pravid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ování afix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ově orient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vník kmenů nebo kořenů a dalších morfologických inform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ovník afixů (sufixů a prefix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etter successor variety stemme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arieta po sobě následujících pís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é dokumenty v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rozliší inflexní a derivační afi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: lemmatizátor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temm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9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y převodů slovních dru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žský životný/ženský tvar substantiv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, autork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ivlastňovací přídavné jméno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čin, autorův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užský tvar subst., 1. pád, singulár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j.: stupňované tva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jkonkrétnějš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vozená substantiva s konc. –ost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os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ega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konkrétn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íslov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ě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ákl. tvar. adj.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vesa: časování, příč. č. a trp., slovesné jméno podstatné, opakované sloveso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finitiv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děla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67852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emmatizace se provád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dex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ý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ručních zás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zpracování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ní lemmatizace (deriv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cesy věcného zpraco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a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8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- váž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23640" y="1700280"/>
            <a:ext cx="64753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ůzná důležitost slov pro obsah do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elektivní síla indexačního termínu (výraz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ritéria vážení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az (slovní dru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xt (délka, počet různých termín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výrazu a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výrazu ve specifické části textu (název, abstrakt, první a poslední pasáže apod.) – zohlednění koeficientem při vá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termínu a celé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Vybrané váhové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v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23640" y="2997360"/>
            <a:ext cx="671220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imulace intelektuálního proce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k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ovaný řízený slov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rus, sémantická síť, znalostní 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po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3640" y="2923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stup P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ý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výrazu s relevantními profily pojmů z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ení indexačních termí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oda dokument/ŘS nemusí být určující pro obs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triviální vyjádření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í reprezentace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270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aktické aspek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né tex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účinnost ve srovnání s intelektuální index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náklady – vyšší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orový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ysté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verzální systém ne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syst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á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pracují pouze s abstr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ace automatické a intelektuální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 automatické indexa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warz, Josef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učasný stav a trendy automatické indexace dokumen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, 2002-2003. Dostupné na: &lt;http://full.nkp.cz/nkdb/docs/studie/MAIobsah.html&gt;. Zde i další lit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ecně tři typy proces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ová analýz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kladní krok, který předurčuje výsledek celého proce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ntifikace pojm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ýrazně ovlivňuje úplnost a přesnost vyhledá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čnost (hloub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běr selekčních zna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dpoklad: znalost daného selekčního jazyka, znalost obo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lekční obraz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ta (správ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istence (shod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-indexer consistenc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vislá na počtu přidělovaných selekčních znak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ra-indexer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 na dosažení kvality a konz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race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správnost popis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jak provést obsahovou analýzu, jak postupovat při výběru relevantních témat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konzisten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kyny k výběru selekčních znaků, jejich kombinaci, rozkladu složených pojmů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ěcném zpracování dokumentu je třeba se ptá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uživatel tuto informaci vyžadov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ne uživatel indexovaný/klasifikovaný dokument v případě, že hledá tém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ude pro uživatele indexovaná informace příliš obecná, a není tudíž potřeba použít specifičtějších selekčních znaků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použito příliš mnoho specifických selekčních znaků, které popisují nepodstatná témata a které uživateli znesnadní vyhledat požadovaný doku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 uživatel z popisu dokumentu, jaký je jeho obsa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indexace/reklasifik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nov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tualizace užívan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ité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y mají velký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záznamů je omez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znamy reprezentují „živé“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p reindexace/reklas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olo)automatické proced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190440"/>
            <a:ext cx="6840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ex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95640" y="2349360"/>
            <a:ext cx="664056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přirozeného jazy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jové zpracování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zované procedury a vyhled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bra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lukování (klastr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tvorb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8-04-20T07:06:51Z</cp:lastPrinted>
  <dcterms:modified xsi:type="dcterms:W3CDTF">2019-04-13T07:54:12Z</dcterms:modified>
  <cp:revision>267</cp:revision>
  <dc:subject/>
  <dc:title>Selekční jazyky</dc:title>
</cp:coreProperties>
</file>