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1016-2840-4E36-AB4F-E76EB065F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D15C-0AB1-403E-A3D7-2DC893666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7544-B1A3-40FE-9AF3-845D88726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506F-2414-42E4-997E-1960C83B3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E024-C925-4B0B-A6E2-7874397CD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A7EC-87AF-4A34-8176-1839C34E2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C7BD-368F-401C-B1BB-6C01112B4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AFE5-23F5-4B94-BD5D-48A063EA7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13AF-A6AB-4AB4-9217-CCDA9A12A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07D3-1F75-40CE-9C52-4514E8E4F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14B9-9110-4512-B5F5-515A859BA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F02C-4421-468D-9CB6-EE1A01EC2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CF23D-CC07-4830-AA9E-8BA21B46A0A8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virtualart.at/database/general/work/archeology-of-a-mother-tongue.html" TargetMode="External"/><Relationship Id="rId2" Type="http://schemas.openxmlformats.org/officeDocument/2006/relationships/hyperlink" Target="http://www.fondation-langlois.org/html/e/page.php?NumPage=226" TargetMode="External"/><Relationship Id="rId3" Type="http://schemas.openxmlformats.org/officeDocument/2006/relationships/hyperlink" Target="http://www.tonidove.com/" TargetMode="External"/><Relationship Id="rId4" Type="http://schemas.openxmlformats.org/officeDocument/2006/relationships/hyperlink" Target="http://www.placelessness.com/project/1159/random-acts-of-memory/" TargetMode="External"/><Relationship Id="rId5" Type="http://schemas.openxmlformats.org/officeDocument/2006/relationships/hyperlink" Target="http://www.virtualart.at/database/general/work/archeology-of-a-mother-tongue.html" TargetMode="External"/><Relationship Id="rId6" Type="http://schemas.openxmlformats.org/officeDocument/2006/relationships/hyperlink" Target="http://www.fondation-langlois.org/html/e/page.php?NumPage=226" TargetMode="External"/><Relationship Id="rId7" Type="http://schemas.openxmlformats.org/officeDocument/2006/relationships/hyperlink" Target="http://www.tonidove.com/" TargetMode="External"/><Relationship Id="rId8" Type="http://schemas.openxmlformats.org/officeDocument/2006/relationships/hyperlink" Target="http://www.placelessness.com/project/1159/random-acts-of-memory/" TargetMode="External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theatreofmemory.blogspot.com/2009/08/giulio-camillo-1480-1544.html" TargetMode="External"/><Relationship Id="rId2" Type="http://schemas.openxmlformats.org/officeDocument/2006/relationships/hyperlink" Target="http://www.amazon.com/Memory-Selected-Works-Frances-Yates/dp/0415606055/ref=sr_1_1?s=books&amp;ie=UTF8&amp;qid=1323168733&amp;sr=1-1#reader_0415606055" TargetMode="External"/><Relationship Id="rId3" Type="http://schemas.openxmlformats.org/officeDocument/2006/relationships/hyperlink" Target="http://books.google.com/books?id=Rs0m6NRwU8IC&amp;printsec=frontcover&amp;hl=cs&amp;source=gbs_ge_summary_r&amp;cad=0" TargetMode="External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allmusic.com/album/john-buller-proena-the-theatre-of-memory-w110184" TargetMode="External"/><Relationship Id="rId2" Type="http://schemas.openxmlformats.org/officeDocument/2006/relationships/hyperlink" Target="http://www.youtube.com/watch?v=b4a9i58IdIY" TargetMode="External"/><Relationship Id="rId3" Type="http://schemas.openxmlformats.org/officeDocument/2006/relationships/hyperlink" Target="http://www.vasulka.org/Videomasters/pages_stills/index_6.html" TargetMode="External"/><Relationship Id="rId4" Type="http://schemas.openxmlformats.org/officeDocument/2006/relationships/hyperlink" Target="https://www.youtube.com/watch?v=lGOiTd83tD4" TargetMode="External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worldmemorytheatre.org/index.htm" TargetMode="External"/><Relationship Id="rId2" Type="http://schemas.openxmlformats.org/officeDocument/2006/relationships/hyperlink" Target="http://www.robertedgar.com/" TargetMode="External"/><Relationship Id="rId3" Type="http://schemas.openxmlformats.org/officeDocument/2006/relationships/hyperlink" Target="http://www.robertedgar.com/memory-theatres/" TargetMode="External"/><Relationship Id="rId4" Type="http://schemas.openxmlformats.org/officeDocument/2006/relationships/hyperlink" Target="http://vimeo.com/1021130" TargetMode="External"/><Relationship Id="rId5" Type="http://schemas.openxmlformats.org/officeDocument/2006/relationships/hyperlink" Target="http://on1.zkm.de/zkm/werke/MemoryTheaterVR" TargetMode="External"/><Relationship Id="rId6" Type="http://schemas.openxmlformats.org/officeDocument/2006/relationships/hyperlink" Target="http://www.bewitched.com/apartment.html" TargetMode="External"/><Relationship Id="rId7" Type="http://schemas.openxmlformats.org/officeDocument/2006/relationships/hyperlink" Target="http://www.georgelegrady.com/" TargetMode="External"/><Relationship Id="rId8" Type="http://schemas.openxmlformats.org/officeDocument/2006/relationships/hyperlink" Target="http://www.georgelegrady.com/" TargetMode="External"/><Relationship Id="rId9" Type="http://schemas.openxmlformats.org/officeDocument/2006/relationships/hyperlink" Target="http://www.maska.si/en/?redirect=152" TargetMode="External"/><Relationship Id="rId1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bo-ring.net/?page_id=550" TargetMode="External"/><Relationship Id="rId2" Type="http://schemas.openxmlformats.org/officeDocument/2006/relationships/hyperlink" Target="http://www.ffa.vutbr.cz/~qvklimovab/index.php" TargetMode="External"/><Relationship Id="rId3" Type="http://schemas.openxmlformats.org/officeDocument/2006/relationships/hyperlink" Target="http://magazin.aktualne.cz/kultura/umeni/chalupeckeho-cenu-ma-barbora-klimova/r~i:article:287941/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90.146.8.18/en/archives/festival_archive/festival_overview.asp?iPresentationYearFrom=1996" TargetMode="External"/><Relationship Id="rId2" Type="http://schemas.openxmlformats.org/officeDocument/2006/relationships/image" Target="../media/image2.png"/><Relationship Id="rId3" Type="http://schemas.openxmlformats.org/officeDocument/2006/relationships/hyperlink" Target="http://90.146.8.18/festival1996/www-ars2/index.html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kac.org/paper.html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OrrNrfucoB0" TargetMode="External"/><Relationship Id="rId2" Type="http://schemas.openxmlformats.org/officeDocument/2006/relationships/hyperlink" Target="http://www.medienkunstnetz.de/works/rehearsal-of-memory/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movingimages.de/index.php?type=teaching&amp;txt_id=62&amp;lng=eng" TargetMode="External"/><Relationship Id="rId2" Type="http://schemas.openxmlformats.org/officeDocument/2006/relationships/hyperlink" Target="http://www.ppsdanse.com/" TargetMode="External"/><Relationship Id="rId3" Type="http://schemas.openxmlformats.org/officeDocument/2006/relationships/hyperlink" Target="http://www.ppsdanse.com/strat-en.html" TargetMode="Externa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medicinenet.com/script/main/art.asp?articlekey=53957&amp;page=2" TargetMode="External"/><Relationship Id="rId2" Type="http://schemas.openxmlformats.org/officeDocument/2006/relationships/hyperlink" Target="http://contactzones.cit.cornell.edu/artists/neumark.html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randomdance.org/" TargetMode="External"/><Relationship Id="rId2" Type="http://schemas.openxmlformats.org/officeDocument/2006/relationships/hyperlink" Target="http://www.randomdance.org/r_research" TargetMode="External"/><Relationship Id="rId3" Type="http://schemas.openxmlformats.org/officeDocument/2006/relationships/hyperlink" Target="http://waynemcgregor.com/productions/undance/" TargetMode="External"/><Relationship Id="rId4" Type="http://schemas.openxmlformats.org/officeDocument/2006/relationships/hyperlink" Target="http://dumbtype.com/" TargetMode="External"/><Relationship Id="rId5" Type="http://schemas.openxmlformats.org/officeDocument/2006/relationships/hyperlink" Target="http://dumbtype.com/works/memorandum" TargetMode="External"/><Relationship Id="rId6" Type="http://schemas.openxmlformats.org/officeDocument/2006/relationships/hyperlink" Target="http://www.youtube.com/watch?v=HbSXbK-EpYY&amp;feature=related" TargetMode="External"/><Relationship Id="rId7" Type="http://schemas.openxmlformats.org/officeDocument/2006/relationships/hyperlink" Target="http://www.youtube.com/watch?v=kZ5uGjjAvNI&amp;feature=related" TargetMode="External"/><Relationship Id="rId8" Type="http://schemas.openxmlformats.org/officeDocument/2006/relationships/hyperlink" Target="http://www.youtube.com/watch?v=HbSXbK-EpYY&amp;feature=related" TargetMode="External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ctangle 2" descr=""/>
          <p:cNvPicPr/>
          <p:nvPr/>
        </p:nvPicPr>
        <p:blipFill>
          <a:blip r:embed="rId1"/>
          <a:stretch/>
        </p:blipFill>
        <p:spPr>
          <a:xfrm>
            <a:off x="689040" y="1682640"/>
            <a:ext cx="7772400" cy="25243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Počítačová paměť a lidská amnéz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Tony Dov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a Michael MacKenzie: </a:t>
            </a: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Archeology of Mother Tongu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 1993 (1.VR instalace zahrnující složitý příběh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dkaz1: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virtualart.at/database/general/work/archeology-of-a-mother-tongue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dkaz2: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fondation-langlois.org/html/e/page.php?NumPage=2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dkaz3: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tonidove.com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Curious.com: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Random Acts of Memor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1998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dkaz 1: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placelessness.com/project/1159/random-acts-of-memory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Tony Dov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a Michael MacKenzie: </a:t>
            </a: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Archeology of Mother Tongu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 1993 (1.VR instalace zahrnující složitý příběh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dkaz1: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virtualart.at/database/general/work/archeology-of-a-mother-tongue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dkaz2: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www.fondation-langlois.org/html/e/page.php?NumPage=2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dkaz3: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www.tonidove.com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Curious.com: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Random Acts of Memor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1998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dkaz 1: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://www.placelessness.com/project/1159/random-acts-of-memory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Místa pamě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Giulio Camillo (1480-1544) : </a:t>
            </a: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L´Idea del Theatr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theatreofmemory.blogspot.com/2009/08/giulio-camillo-1480-1544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Frances A. Yates (1899-1981) : </a:t>
            </a: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The Art of Mem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Ukázka: </a:t>
            </a:r>
            <a:r>
              <a:rPr b="0" lang="cs-CZ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mazon.com/Memory-Selected-Works-Frances-Yates/dp/0415606055/ref=sr_1_1?s=books&amp;ie=UTF8&amp;qid=1323168733&amp;sr=1-1#reader_041560605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Přední strana obálky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286000" y="3429000"/>
            <a:ext cx="1625760" cy="25146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Přední strana obálky"/>
          <p:cNvPicPr/>
          <p:nvPr/>
        </p:nvPicPr>
        <p:blipFill>
          <a:blip r:embed="rId5"/>
          <a:stretch/>
        </p:blipFill>
        <p:spPr>
          <a:xfrm>
            <a:off x="4343400" y="3276720"/>
            <a:ext cx="171936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Místa pamě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Spisovatelé: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ed Hughes: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Shakespeare and the Goddess of Complete Being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 London : Faber &amp; Faber, 1992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harlota Caufield: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The Book of Giulio Camillo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InteliBooks Publishers, 200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Výtvarní umělci: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ean Dubuffet: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Theatre De Memoir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unlimited edition print, 1977.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il_fi" descr="dubuffet-jean-theatre-de-memoire-1977"/>
          <p:cNvPicPr/>
          <p:nvPr/>
        </p:nvPicPr>
        <p:blipFill>
          <a:blip r:embed="rId1"/>
          <a:stretch/>
        </p:blipFill>
        <p:spPr>
          <a:xfrm>
            <a:off x="2819520" y="4295880"/>
            <a:ext cx="3124080" cy="25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Místa pamě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Skladatelé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John Buller: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Proenca/Theatre of Memory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2003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arah Walker. BBC Symphony Orchestra. Cond. Mark Elder. 2003. B00009W8NZ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Odkaz: </a:t>
            </a:r>
            <a:r>
              <a:rPr b="0" lang="cs-CZ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allmusic.com/album/john-buller-proena-the-theatre-of-memory-w11018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Video ar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Bill Viola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Theatre of Memory,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1985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dkaz: 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youtube.com/watch?v=b4a9i58IdI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Woody Vasulka: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Art of Memory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1987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dkaz: 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vasulka.org/Videomasters/pages_stills/index_6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s://www.youtube.com/watch?v=lGOiTd83tD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Místa pamě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The World Memory Theatr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Oslava kulturní diversity: 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worldmemorytheatre.org/index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Robert Edga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Memory Theatre 01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a další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dkaz1: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robertedgar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robertedgar.com/memory-theatres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dkaz2: 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vimeo.com/10211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Agens Hegedü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Memory Theatre V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1997): ZKM Karlsruhe: Odkaz1: 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on1.zkm.de/zkm/werke/MemoryTheaterV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artin Wattenberg – Marek Walcza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Apartment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2001) net 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dkaz: 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www.bewitched.com/apartment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George Legrad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An Anecdoted Archive from the Cold Wa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1994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dkaz: 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www.georgelegrady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George Legrady: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Pockets Full of Memori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2001) a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Pockets Full of Memories II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2003 – 2006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dkaz: 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://www.georgelegrady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Emil Hrvati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Drive in Camill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20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dkaz: 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http://www.maska.si/en/?redirect=1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Místa pamě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Tetsuro Nagata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Art of Memory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200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dkaz: http://www.interactivearchitecture.org/computing-an-identity-tetsuro-nagata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Daniel Libeskind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The Memory Mach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dkaz: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tp://greg.org/archive/2010/08/28/do_daniel_libeskinds_awesome_machines_mean_i_have_to_stop_hating_his_work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Články věnované Poetice a politice paměti /obsahují odkazy na další díla/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http://politicsofmemory.blogspot.com/2010_10_01_archive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Paměť médií a cestování v ča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Blast Theory: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10 Backwards (199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dkaz1: http://www.blasttheory.co.uk/bt/work_10backward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dkaz2: http://www.blasttheory.co.uk/bt/mov/mov_10_backward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Média/místa paměti: závě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ůže se zdát, že umění paměti dnes již nepotřebujeme. S pomocí různých technických  aparátů neustále zdokonalujeme  techniky zapamatování, které nahrazují (vnitřní) mnemotechnické pomůck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Historie umění paměti je však pro nás velice důležitá, protože nám ukazuje, jakým způsobem se toto umění vyvíjelo až do současné podoby. Toto umění bychom dnes mohli přejmenovat – z umění paměti na umění myšlení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V kontextu nových médií chápaných jako extenze lidské mysli je metafora „míst paměti“ jedním z klíčových způsobů, jak funkce nových médií pochopit a dát jim smysl.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Performance pamě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xty a projekty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37 Years too lat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různé verz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Performance by Andrea Salzmann and Julia Kläring</a:t>
            </a:r>
            <a:br>
              <a:rPr sz="1200"/>
            </a:b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With: Julia Kläring, Birgit Michlmayr and Andrea Salzmann</a:t>
            </a:r>
            <a:br>
              <a:rPr sz="1200"/>
            </a:b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Music: Stefan Geiss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salzmann.klingt.org/projects/37years-too-late.ph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Barbora Klímová: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Replaced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cs-CZ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ffa.vutbr.cz/~qvklimovab/index.ph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magazin.aktualne.cz/kultura/umeni/chalupeckeho-cenu-ma-barbora-klimova/r~i:article:287941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Paměť a mem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rs Electronica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1996: Mem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90.146.8.18/en/archives/festival_archive/festival_overview.asp?iPresentationYearFrom=199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em: replikující se jednotka kulturní informace (R. Dawkin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katalog_1996"/>
          <p:cNvPicPr/>
          <p:nvPr/>
        </p:nvPicPr>
        <p:blipFill>
          <a:blip r:embed="rId2"/>
          <a:stretch/>
        </p:blipFill>
        <p:spPr>
          <a:xfrm>
            <a:off x="990720" y="3429000"/>
            <a:ext cx="3047760" cy="22068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festival1996_pro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495680" y="3429000"/>
            <a:ext cx="298152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Digitální pamě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Musíme přiznat, že totiž musí jít jednoznačně o likvidaci minulé tradice. Je možné, že nová síťová kultura přistupuje k tradici úplně jinak – nelikviduje ji, ale rozkládá na jednotlivé elementy a ty potom rozpouští, recykluje a využívá ve své hypertextové struktuře.“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. Rankov. </a:t>
            </a:r>
            <a:r>
              <a:rPr b="0" i="1" lang="cs-CZ" sz="1600" spc="-1" strike="noStrike">
                <a:solidFill>
                  <a:srgbClr val="000000"/>
                </a:solidFill>
                <a:latin typeface="Arial"/>
              </a:rPr>
              <a:t>Informačná spoločnosť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, 2006, s. 27-2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„…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S možností měnit tělo a obraz je spojena také možnost vymazání jejich paměti.“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E. Kac. </a:t>
            </a:r>
            <a:r>
              <a:rPr b="0" i="1" lang="cs-CZ" sz="1600" spc="-1" strike="noStrike">
                <a:solidFill>
                  <a:srgbClr val="000000"/>
                </a:solidFill>
                <a:latin typeface="Arial"/>
              </a:rPr>
              <a:t>Art at the Biological Frontier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kac.org/paper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Postmoderní doba a nostalg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oučasná teorie paměti se pohybuje ve dvou extrémech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ědomí amnézie současné společnost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edlost pamětí a mnemoniko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Inscenované vzpomíná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risha Brown: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Homemade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, 196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youtube.com/watch?v=OrrNrfucoB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alking Birds: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Undercurrant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, 2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han Harwood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ehearsal of Memory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 (199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medienkunstnetz.de/works/rehearsal-of-memory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Performance digitální pamě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elematický kolaborativní projekt </a:t>
            </a: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Memory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Cellbytes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, 2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movingimages.de/index.php?type=teaching&amp;txt_id=62&amp;lng=e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PS Danse: 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ppsdanse.com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rata, Memoirs of Lover: 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ppsdanse.com/strat-en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Paměť a trau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arry Hodges: </a:t>
            </a: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Virtual Vietnam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, 2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medicinenet.com/script/main/art.asp?articlekey=53957&amp;page=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orie Neumark: </a:t>
            </a: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Shock in the Ear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, 19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contactzones.cit.cornell.edu/artists/neumark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Tělesná pamě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lieNation.Co: </a:t>
            </a: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Night Falls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 199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Wayne McGregor: Random Dance Compan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randomdance.org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randomdance.org/r_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UNDANCE) </a:t>
            </a: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aynemcgregor.com/productions/undance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ump Type: </a:t>
            </a: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Memorandum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1999-20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dumbtype.com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dumbtype.com/works/memorand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www.youtube.com/watch?v=HbSXbK-EpYY&amp;feature=rel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www.youtube.com/watch?v=kZ5uGjjAvNI&amp;feature=rel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://www.youtube.com/watch?v=HbSXbK-EpYY&amp;feature=rel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9"/>
          <a:stretch/>
        </p:blipFill>
        <p:spPr>
          <a:xfrm>
            <a:off x="6477120" y="1219320"/>
            <a:ext cx="231444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ana Horáková</dc:creator>
  <dc:description/>
  <dc:language>en-US</dc:language>
  <cp:lastModifiedBy>Jana Horáková</cp:lastModifiedBy>
  <dcterms:modified xsi:type="dcterms:W3CDTF">2020-03-31T16:04:50Z</dcterms:modified>
  <cp:revision>3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